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EC2-7EC1-4BC3-AC5D-CEE084D4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AAD-E19E-45EF-814B-10DC83C0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182-F1CC-42BF-BD70-585E22FE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2E7-D7A4-44F0-989B-4BDC3424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D98-DFEA-431D-8E28-023373EA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ADD-801B-4C07-9226-96E4615E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860-34FC-4E39-99C8-29E07A48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A86-78E1-45E9-A792-0C424047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53E4-A105-4B7B-8D5E-BE4B9D61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208-E187-4AB6-94AC-287C7185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FAA-F8B1-415B-9F11-5329DA95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734-AF70-472E-8752-258D9F2B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71E9-E3D5-42EE-B983-2F5EC6E84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a graphing utility to approximate the relative minimum and maxim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ce) the minimum and ma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lculator will ask for a left bound (enter) a right bound (enter) and then a guess (enter) before giving you the minimum or maximum value over that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e the intervals over which a function increases, decreases or remains cons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x) = 1 –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(x) = 5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(x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x - 3| + |x + 3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nk 4"/>
          <p:cNvSpPr/>
          <p:nvPr/>
        </p:nvSpPr>
        <p:spPr>
          <a:xfrm>
            <a:off x="3625920" y="2125800"/>
            <a:ext cx="1768320" cy="795240"/>
          </a:xfrm>
          <a:custGeom>
            <a:avLst/>
            <a:gdLst/>
            <a:ahLst/>
            <a:rect l="l" t="t" r="r" b="b"/>
            <a:pathLst>
              <a:path w="4912" h="2208">
                <a:moveTo>
                  <a:pt x="10145" y="6623"/>
                </a:moveTo>
                <a:cubicBezTo>
                  <a:pt x="10194" y="6684"/>
                  <a:pt x="10195" y="6718"/>
                  <a:pt x="10195" y="6796"/>
                </a:cubicBezTo>
                <a:cubicBezTo>
                  <a:pt x="10195" y="6879"/>
                  <a:pt x="10216" y="6923"/>
                  <a:pt x="10220" y="6995"/>
                </a:cubicBezTo>
                <a:cubicBezTo>
                  <a:pt x="10220" y="7037"/>
                  <a:pt x="10220" y="7062"/>
                  <a:pt x="10220" y="7020"/>
                </a:cubicBezTo>
              </a:path>
              <a:path w="4912" h="2208">
                <a:moveTo>
                  <a:pt x="10220" y="6350"/>
                </a:moveTo>
                <a:cubicBezTo>
                  <a:pt x="10228" y="6342"/>
                  <a:pt x="10236" y="6333"/>
                  <a:pt x="10244" y="6325"/>
                </a:cubicBezTo>
              </a:path>
              <a:path w="4912" h="2208">
                <a:moveTo>
                  <a:pt x="10418" y="6821"/>
                </a:moveTo>
                <a:cubicBezTo>
                  <a:pt x="10418" y="6862"/>
                  <a:pt x="10418" y="6904"/>
                  <a:pt x="10418" y="6945"/>
                </a:cubicBezTo>
                <a:cubicBezTo>
                  <a:pt x="10436" y="6855"/>
                  <a:pt x="10471" y="6776"/>
                  <a:pt x="10492" y="6697"/>
                </a:cubicBezTo>
                <a:cubicBezTo>
                  <a:pt x="10509" y="6633"/>
                  <a:pt x="10544" y="6582"/>
                  <a:pt x="10616" y="6573"/>
                </a:cubicBezTo>
                <a:cubicBezTo>
                  <a:pt x="10719" y="6561"/>
                  <a:pt x="10695" y="6681"/>
                  <a:pt x="10716" y="6747"/>
                </a:cubicBezTo>
                <a:cubicBezTo>
                  <a:pt x="10743" y="6833"/>
                  <a:pt x="10734" y="6938"/>
                  <a:pt x="10765" y="7020"/>
                </a:cubicBezTo>
                <a:cubicBezTo>
                  <a:pt x="10790" y="7045"/>
                  <a:pt x="10798" y="7053"/>
                  <a:pt x="10815" y="7020"/>
                </a:cubicBezTo>
              </a:path>
              <a:path w="4912" h="2208">
                <a:moveTo>
                  <a:pt x="11137" y="6623"/>
                </a:moveTo>
                <a:cubicBezTo>
                  <a:pt x="11154" y="6631"/>
                  <a:pt x="11170" y="6640"/>
                  <a:pt x="11187" y="6648"/>
                </a:cubicBezTo>
                <a:cubicBezTo>
                  <a:pt x="11180" y="6598"/>
                  <a:pt x="11170" y="6527"/>
                  <a:pt x="11112" y="6573"/>
                </a:cubicBezTo>
                <a:cubicBezTo>
                  <a:pt x="11067" y="6609"/>
                  <a:pt x="11046" y="6653"/>
                  <a:pt x="11013" y="6697"/>
                </a:cubicBezTo>
                <a:cubicBezTo>
                  <a:pt x="10982" y="6738"/>
                  <a:pt x="10926" y="6790"/>
                  <a:pt x="10939" y="6846"/>
                </a:cubicBezTo>
                <a:cubicBezTo>
                  <a:pt x="10957" y="6924"/>
                  <a:pt x="11043" y="6987"/>
                  <a:pt x="11112" y="6995"/>
                </a:cubicBezTo>
                <a:cubicBezTo>
                  <a:pt x="11179" y="7002"/>
                  <a:pt x="11222" y="6988"/>
                  <a:pt x="11286" y="6970"/>
                </a:cubicBezTo>
              </a:path>
              <a:path w="4912" h="2208">
                <a:moveTo>
                  <a:pt x="11534" y="6548"/>
                </a:moveTo>
                <a:cubicBezTo>
                  <a:pt x="11511" y="6571"/>
                  <a:pt x="11500" y="6579"/>
                  <a:pt x="11534" y="6573"/>
                </a:cubicBezTo>
              </a:path>
              <a:path w="4912" h="2208">
                <a:moveTo>
                  <a:pt x="11534" y="6697"/>
                </a:moveTo>
                <a:cubicBezTo>
                  <a:pt x="11511" y="6720"/>
                  <a:pt x="11500" y="6728"/>
                  <a:pt x="11534" y="6722"/>
                </a:cubicBezTo>
              </a:path>
              <a:path w="4912" h="2208">
                <a:moveTo>
                  <a:pt x="10368" y="7441"/>
                </a:moveTo>
                <a:cubicBezTo>
                  <a:pt x="10368" y="7548"/>
                  <a:pt x="10375" y="7647"/>
                  <a:pt x="10393" y="7739"/>
                </a:cubicBezTo>
                <a:cubicBezTo>
                  <a:pt x="10393" y="7789"/>
                  <a:pt x="10393" y="7805"/>
                  <a:pt x="10393" y="7838"/>
                </a:cubicBezTo>
                <a:cubicBezTo>
                  <a:pt x="10374" y="7800"/>
                  <a:pt x="10343" y="7703"/>
                  <a:pt x="10294" y="7689"/>
                </a:cubicBezTo>
                <a:cubicBezTo>
                  <a:pt x="10223" y="7669"/>
                  <a:pt x="10181" y="7748"/>
                  <a:pt x="10145" y="7789"/>
                </a:cubicBezTo>
                <a:cubicBezTo>
                  <a:pt x="10087" y="7855"/>
                  <a:pt x="10038" y="7935"/>
                  <a:pt x="10120" y="8012"/>
                </a:cubicBezTo>
                <a:cubicBezTo>
                  <a:pt x="10172" y="8061"/>
                  <a:pt x="10278" y="8037"/>
                  <a:pt x="10344" y="8037"/>
                </a:cubicBezTo>
                <a:cubicBezTo>
                  <a:pt x="10388" y="8037"/>
                  <a:pt x="10402" y="8040"/>
                  <a:pt x="10418" y="8012"/>
                </a:cubicBezTo>
              </a:path>
              <a:path w="4912" h="2208">
                <a:moveTo>
                  <a:pt x="10517" y="7913"/>
                </a:moveTo>
                <a:cubicBezTo>
                  <a:pt x="10615" y="7876"/>
                  <a:pt x="10712" y="7899"/>
                  <a:pt x="10815" y="7863"/>
                </a:cubicBezTo>
                <a:cubicBezTo>
                  <a:pt x="10846" y="7852"/>
                  <a:pt x="10887" y="7810"/>
                  <a:pt x="10914" y="7789"/>
                </a:cubicBezTo>
                <a:cubicBezTo>
                  <a:pt x="10868" y="7708"/>
                  <a:pt x="10854" y="7699"/>
                  <a:pt x="10765" y="7739"/>
                </a:cubicBezTo>
                <a:cubicBezTo>
                  <a:pt x="10722" y="7758"/>
                  <a:pt x="10668" y="7797"/>
                  <a:pt x="10641" y="7838"/>
                </a:cubicBezTo>
                <a:cubicBezTo>
                  <a:pt x="10600" y="7901"/>
                  <a:pt x="10600" y="7990"/>
                  <a:pt x="10666" y="8037"/>
                </a:cubicBezTo>
                <a:cubicBezTo>
                  <a:pt x="10725" y="8079"/>
                  <a:pt x="10803" y="8057"/>
                  <a:pt x="10864" y="8037"/>
                </a:cubicBezTo>
                <a:cubicBezTo>
                  <a:pt x="10881" y="8029"/>
                  <a:pt x="10897" y="8020"/>
                  <a:pt x="10914" y="8012"/>
                </a:cubicBezTo>
              </a:path>
              <a:path w="4912" h="2208">
                <a:moveTo>
                  <a:pt x="11212" y="7764"/>
                </a:moveTo>
                <a:cubicBezTo>
                  <a:pt x="11228" y="7756"/>
                  <a:pt x="11245" y="7747"/>
                  <a:pt x="11261" y="7739"/>
                </a:cubicBezTo>
                <a:cubicBezTo>
                  <a:pt x="11220" y="7714"/>
                  <a:pt x="11151" y="7687"/>
                  <a:pt x="11112" y="7739"/>
                </a:cubicBezTo>
                <a:cubicBezTo>
                  <a:pt x="11096" y="7761"/>
                  <a:pt x="11011" y="7860"/>
                  <a:pt x="11013" y="7888"/>
                </a:cubicBezTo>
                <a:cubicBezTo>
                  <a:pt x="11015" y="7914"/>
                  <a:pt x="11084" y="8004"/>
                  <a:pt x="11112" y="8012"/>
                </a:cubicBezTo>
                <a:cubicBezTo>
                  <a:pt x="11186" y="8033"/>
                  <a:pt x="11294" y="8012"/>
                  <a:pt x="11361" y="7987"/>
                </a:cubicBezTo>
              </a:path>
              <a:path w="4912" h="2208">
                <a:moveTo>
                  <a:pt x="11509" y="7640"/>
                </a:moveTo>
                <a:cubicBezTo>
                  <a:pt x="11517" y="7640"/>
                  <a:pt x="11526" y="7640"/>
                  <a:pt x="11534" y="7640"/>
                </a:cubicBezTo>
              </a:path>
              <a:path w="4912" h="2208">
                <a:moveTo>
                  <a:pt x="11509" y="7838"/>
                </a:moveTo>
                <a:cubicBezTo>
                  <a:pt x="11509" y="7830"/>
                  <a:pt x="11509" y="7821"/>
                  <a:pt x="11509" y="7813"/>
                </a:cubicBezTo>
              </a:path>
              <a:path w="4912" h="2208">
                <a:moveTo>
                  <a:pt x="12254" y="5904"/>
                </a:moveTo>
                <a:cubicBezTo>
                  <a:pt x="12211" y="5956"/>
                  <a:pt x="12185" y="6016"/>
                  <a:pt x="12154" y="6077"/>
                </a:cubicBezTo>
                <a:cubicBezTo>
                  <a:pt x="12111" y="6163"/>
                  <a:pt x="12062" y="6233"/>
                  <a:pt x="12030" y="6325"/>
                </a:cubicBezTo>
                <a:cubicBezTo>
                  <a:pt x="12000" y="6410"/>
                  <a:pt x="12005" y="6483"/>
                  <a:pt x="12005" y="6573"/>
                </a:cubicBezTo>
                <a:cubicBezTo>
                  <a:pt x="12005" y="6651"/>
                  <a:pt x="12024" y="6726"/>
                  <a:pt x="12055" y="6796"/>
                </a:cubicBezTo>
                <a:cubicBezTo>
                  <a:pt x="12080" y="6852"/>
                  <a:pt x="12125" y="6882"/>
                  <a:pt x="12179" y="6896"/>
                </a:cubicBezTo>
              </a:path>
              <a:path w="4912" h="2208">
                <a:moveTo>
                  <a:pt x="12204" y="6499"/>
                </a:moveTo>
                <a:cubicBezTo>
                  <a:pt x="12292" y="6475"/>
                  <a:pt x="12360" y="6474"/>
                  <a:pt x="12452" y="6474"/>
                </a:cubicBezTo>
                <a:cubicBezTo>
                  <a:pt x="12502" y="6474"/>
                  <a:pt x="12518" y="6474"/>
                  <a:pt x="12551" y="6474"/>
                </a:cubicBezTo>
              </a:path>
              <a:path w="4912" h="2208">
                <a:moveTo>
                  <a:pt x="13469" y="6623"/>
                </a:moveTo>
                <a:cubicBezTo>
                  <a:pt x="13429" y="6663"/>
                  <a:pt x="13380" y="6736"/>
                  <a:pt x="13320" y="6747"/>
                </a:cubicBezTo>
                <a:cubicBezTo>
                  <a:pt x="13194" y="6770"/>
                  <a:pt x="12965" y="6774"/>
                  <a:pt x="12849" y="6722"/>
                </a:cubicBezTo>
                <a:cubicBezTo>
                  <a:pt x="12784" y="6693"/>
                  <a:pt x="12751" y="6698"/>
                  <a:pt x="12700" y="6648"/>
                </a:cubicBezTo>
                <a:cubicBezTo>
                  <a:pt x="12712" y="6567"/>
                  <a:pt x="12737" y="6552"/>
                  <a:pt x="12824" y="6548"/>
                </a:cubicBezTo>
                <a:cubicBezTo>
                  <a:pt x="12910" y="6544"/>
                  <a:pt x="12955" y="6547"/>
                  <a:pt x="13022" y="6598"/>
                </a:cubicBezTo>
                <a:cubicBezTo>
                  <a:pt x="13084" y="6645"/>
                  <a:pt x="13151" y="6664"/>
                  <a:pt x="13221" y="6697"/>
                </a:cubicBezTo>
                <a:cubicBezTo>
                  <a:pt x="13281" y="6725"/>
                  <a:pt x="13353" y="6745"/>
                  <a:pt x="13419" y="6747"/>
                </a:cubicBezTo>
                <a:cubicBezTo>
                  <a:pt x="13513" y="6750"/>
                  <a:pt x="13671" y="6759"/>
                  <a:pt x="13742" y="6672"/>
                </a:cubicBezTo>
                <a:cubicBezTo>
                  <a:pt x="13798" y="6604"/>
                  <a:pt x="13727" y="6512"/>
                  <a:pt x="13692" y="6449"/>
                </a:cubicBezTo>
                <a:cubicBezTo>
                  <a:pt x="13662" y="6394"/>
                  <a:pt x="13586" y="6337"/>
                  <a:pt x="13519" y="6325"/>
                </a:cubicBezTo>
                <a:cubicBezTo>
                  <a:pt x="13455" y="6314"/>
                  <a:pt x="13351" y="6315"/>
                  <a:pt x="13295" y="6350"/>
                </a:cubicBezTo>
                <a:cubicBezTo>
                  <a:pt x="13233" y="6389"/>
                  <a:pt x="13236" y="6441"/>
                  <a:pt x="13271" y="6499"/>
                </a:cubicBezTo>
                <a:cubicBezTo>
                  <a:pt x="13279" y="6507"/>
                  <a:pt x="13287" y="6516"/>
                  <a:pt x="13295" y="6524"/>
                </a:cubicBezTo>
              </a:path>
              <a:path w="4912" h="2208">
                <a:moveTo>
                  <a:pt x="13891" y="6772"/>
                </a:moveTo>
                <a:cubicBezTo>
                  <a:pt x="13891" y="6849"/>
                  <a:pt x="13899" y="6908"/>
                  <a:pt x="13866" y="6970"/>
                </a:cubicBezTo>
                <a:cubicBezTo>
                  <a:pt x="13858" y="6987"/>
                  <a:pt x="13849" y="7003"/>
                  <a:pt x="13841" y="7020"/>
                </a:cubicBezTo>
              </a:path>
              <a:path w="4912" h="2208">
                <a:moveTo>
                  <a:pt x="14139" y="6449"/>
                </a:moveTo>
                <a:cubicBezTo>
                  <a:pt x="14222" y="6449"/>
                  <a:pt x="14304" y="6449"/>
                  <a:pt x="14387" y="6449"/>
                </a:cubicBezTo>
              </a:path>
              <a:path w="4912" h="2208">
                <a:moveTo>
                  <a:pt x="14536" y="6276"/>
                </a:moveTo>
                <a:cubicBezTo>
                  <a:pt x="14536" y="6387"/>
                  <a:pt x="14524" y="6495"/>
                  <a:pt x="14560" y="6598"/>
                </a:cubicBezTo>
                <a:cubicBezTo>
                  <a:pt x="14582" y="6662"/>
                  <a:pt x="14584" y="6696"/>
                  <a:pt x="14635" y="6722"/>
                </a:cubicBezTo>
              </a:path>
              <a:path w="4912" h="2208">
                <a:moveTo>
                  <a:pt x="14784" y="5978"/>
                </a:moveTo>
                <a:cubicBezTo>
                  <a:pt x="14860" y="6131"/>
                  <a:pt x="14916" y="6259"/>
                  <a:pt x="14957" y="6424"/>
                </a:cubicBezTo>
                <a:cubicBezTo>
                  <a:pt x="14986" y="6542"/>
                  <a:pt x="14992" y="6631"/>
                  <a:pt x="14957" y="6747"/>
                </a:cubicBezTo>
                <a:cubicBezTo>
                  <a:pt x="14934" y="6814"/>
                  <a:pt x="14929" y="6832"/>
                  <a:pt x="14908" y="6871"/>
                </a:cubicBezTo>
              </a:path>
              <a:path w="4912" h="2208">
                <a:moveTo>
                  <a:pt x="12005" y="7714"/>
                </a:moveTo>
                <a:cubicBezTo>
                  <a:pt x="12078" y="7704"/>
                  <a:pt x="12121" y="7689"/>
                  <a:pt x="12204" y="7689"/>
                </a:cubicBezTo>
                <a:cubicBezTo>
                  <a:pt x="12262" y="7689"/>
                  <a:pt x="12320" y="7689"/>
                  <a:pt x="12378" y="7689"/>
                </a:cubicBezTo>
              </a:path>
              <a:path w="4912" h="2208">
                <a:moveTo>
                  <a:pt x="12725" y="7392"/>
                </a:moveTo>
                <a:cubicBezTo>
                  <a:pt x="12703" y="7473"/>
                  <a:pt x="12700" y="7532"/>
                  <a:pt x="12700" y="7615"/>
                </a:cubicBezTo>
                <a:cubicBezTo>
                  <a:pt x="12700" y="7678"/>
                  <a:pt x="12675" y="7718"/>
                  <a:pt x="12675" y="7789"/>
                </a:cubicBezTo>
                <a:cubicBezTo>
                  <a:pt x="12675" y="7838"/>
                  <a:pt x="12675" y="7855"/>
                  <a:pt x="12675" y="7888"/>
                </a:cubicBezTo>
              </a:path>
              <a:path w="4912" h="2208">
                <a:moveTo>
                  <a:pt x="12948" y="7888"/>
                </a:moveTo>
                <a:cubicBezTo>
                  <a:pt x="12948" y="7954"/>
                  <a:pt x="12948" y="8020"/>
                  <a:pt x="12948" y="8086"/>
                </a:cubicBezTo>
              </a:path>
              <a:path w="4912" h="2208">
                <a:moveTo>
                  <a:pt x="13295" y="7417"/>
                </a:moveTo>
                <a:cubicBezTo>
                  <a:pt x="13295" y="7580"/>
                  <a:pt x="13294" y="7734"/>
                  <a:pt x="13320" y="7888"/>
                </a:cubicBezTo>
                <a:cubicBezTo>
                  <a:pt x="13320" y="7933"/>
                  <a:pt x="13324" y="7946"/>
                  <a:pt x="13295" y="7962"/>
                </a:cubicBezTo>
              </a:path>
              <a:path w="4912" h="2208">
                <a:moveTo>
                  <a:pt x="11906" y="7317"/>
                </a:moveTo>
                <a:cubicBezTo>
                  <a:pt x="11828" y="7458"/>
                  <a:pt x="11768" y="7552"/>
                  <a:pt x="11807" y="7714"/>
                </a:cubicBezTo>
                <a:cubicBezTo>
                  <a:pt x="11842" y="7857"/>
                  <a:pt x="11922" y="7917"/>
                  <a:pt x="12030" y="8012"/>
                </a:cubicBezTo>
              </a:path>
              <a:path w="4912" h="2208">
                <a:moveTo>
                  <a:pt x="13593" y="7293"/>
                </a:moveTo>
                <a:cubicBezTo>
                  <a:pt x="13653" y="7435"/>
                  <a:pt x="13704" y="7564"/>
                  <a:pt x="13742" y="7714"/>
                </a:cubicBezTo>
                <a:cubicBezTo>
                  <a:pt x="13775" y="7846"/>
                  <a:pt x="13738" y="7916"/>
                  <a:pt x="13692" y="8037"/>
                </a:cubicBezTo>
                <a:cubicBezTo>
                  <a:pt x="13684" y="8062"/>
                  <a:pt x="13675" y="8086"/>
                  <a:pt x="13667" y="81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5"/>
          <p:cNvSpPr/>
          <p:nvPr/>
        </p:nvSpPr>
        <p:spPr>
          <a:xfrm>
            <a:off x="5589720" y="2116080"/>
            <a:ext cx="1260360" cy="411120"/>
          </a:xfrm>
          <a:custGeom>
            <a:avLst/>
            <a:gdLst/>
            <a:ahLst/>
            <a:rect l="l" t="t" r="r" b="b"/>
            <a:pathLst>
              <a:path w="3498" h="1142">
                <a:moveTo>
                  <a:pt x="15528" y="6127"/>
                </a:moveTo>
                <a:cubicBezTo>
                  <a:pt x="15528" y="6200"/>
                  <a:pt x="15550" y="6255"/>
                  <a:pt x="15553" y="6325"/>
                </a:cubicBezTo>
                <a:cubicBezTo>
                  <a:pt x="15557" y="6410"/>
                  <a:pt x="15557" y="6491"/>
                  <a:pt x="15577" y="6573"/>
                </a:cubicBezTo>
                <a:cubicBezTo>
                  <a:pt x="15592" y="6634"/>
                  <a:pt x="15596" y="6732"/>
                  <a:pt x="15652" y="6772"/>
                </a:cubicBezTo>
                <a:cubicBezTo>
                  <a:pt x="15703" y="6808"/>
                  <a:pt x="15758" y="6864"/>
                  <a:pt x="15825" y="6846"/>
                </a:cubicBezTo>
                <a:cubicBezTo>
                  <a:pt x="15867" y="6835"/>
                  <a:pt x="15930" y="6754"/>
                  <a:pt x="15949" y="6722"/>
                </a:cubicBezTo>
                <a:cubicBezTo>
                  <a:pt x="15988" y="6655"/>
                  <a:pt x="16034" y="6551"/>
                  <a:pt x="16049" y="6474"/>
                </a:cubicBezTo>
                <a:cubicBezTo>
                  <a:pt x="16067" y="6380"/>
                  <a:pt x="16054" y="6241"/>
                  <a:pt x="16024" y="6152"/>
                </a:cubicBezTo>
                <a:cubicBezTo>
                  <a:pt x="16002" y="6108"/>
                  <a:pt x="15999" y="6096"/>
                  <a:pt x="15974" y="6077"/>
                </a:cubicBezTo>
              </a:path>
              <a:path w="3498" h="1142">
                <a:moveTo>
                  <a:pt x="16520" y="5978"/>
                </a:moveTo>
                <a:cubicBezTo>
                  <a:pt x="16497" y="6060"/>
                  <a:pt x="16484" y="6124"/>
                  <a:pt x="16446" y="6201"/>
                </a:cubicBezTo>
                <a:cubicBezTo>
                  <a:pt x="16405" y="6284"/>
                  <a:pt x="16375" y="6358"/>
                  <a:pt x="16371" y="6449"/>
                </a:cubicBezTo>
                <a:cubicBezTo>
                  <a:pt x="16368" y="6536"/>
                  <a:pt x="16365" y="6615"/>
                  <a:pt x="16396" y="6697"/>
                </a:cubicBezTo>
                <a:cubicBezTo>
                  <a:pt x="16417" y="6751"/>
                  <a:pt x="16456" y="6782"/>
                  <a:pt x="16495" y="6821"/>
                </a:cubicBezTo>
                <a:cubicBezTo>
                  <a:pt x="16538" y="6864"/>
                  <a:pt x="16552" y="6847"/>
                  <a:pt x="16594" y="6821"/>
                </a:cubicBezTo>
              </a:path>
              <a:path w="3498" h="1142">
                <a:moveTo>
                  <a:pt x="16942" y="6052"/>
                </a:moveTo>
                <a:cubicBezTo>
                  <a:pt x="16974" y="6141"/>
                  <a:pt x="16953" y="6166"/>
                  <a:pt x="16942" y="6251"/>
                </a:cubicBezTo>
                <a:cubicBezTo>
                  <a:pt x="16931" y="6335"/>
                  <a:pt x="16930" y="6419"/>
                  <a:pt x="16917" y="6499"/>
                </a:cubicBezTo>
                <a:cubicBezTo>
                  <a:pt x="16903" y="6586"/>
                  <a:pt x="16917" y="6683"/>
                  <a:pt x="16917" y="6772"/>
                </a:cubicBezTo>
              </a:path>
              <a:path w="3498" h="1142">
                <a:moveTo>
                  <a:pt x="17388" y="6598"/>
                </a:moveTo>
                <a:cubicBezTo>
                  <a:pt x="17388" y="6701"/>
                  <a:pt x="17409" y="6825"/>
                  <a:pt x="17363" y="6921"/>
                </a:cubicBezTo>
                <a:cubicBezTo>
                  <a:pt x="17340" y="6943"/>
                  <a:pt x="17332" y="6948"/>
                  <a:pt x="17338" y="6970"/>
                </a:cubicBezTo>
              </a:path>
              <a:path w="3498" h="1142">
                <a:moveTo>
                  <a:pt x="18256" y="6152"/>
                </a:moveTo>
                <a:cubicBezTo>
                  <a:pt x="18232" y="6235"/>
                  <a:pt x="18210" y="6353"/>
                  <a:pt x="18157" y="6424"/>
                </a:cubicBezTo>
                <a:cubicBezTo>
                  <a:pt x="18115" y="6481"/>
                  <a:pt x="18033" y="6558"/>
                  <a:pt x="17983" y="6598"/>
                </a:cubicBezTo>
                <a:cubicBezTo>
                  <a:pt x="17922" y="6647"/>
                  <a:pt x="17858" y="6648"/>
                  <a:pt x="17785" y="6648"/>
                </a:cubicBezTo>
                <a:cubicBezTo>
                  <a:pt x="17698" y="6648"/>
                  <a:pt x="17670" y="6658"/>
                  <a:pt x="17611" y="6598"/>
                </a:cubicBezTo>
                <a:cubicBezTo>
                  <a:pt x="17534" y="6519"/>
                  <a:pt x="17528" y="6513"/>
                  <a:pt x="17587" y="6400"/>
                </a:cubicBezTo>
                <a:cubicBezTo>
                  <a:pt x="17614" y="6349"/>
                  <a:pt x="17660" y="6328"/>
                  <a:pt x="17711" y="6325"/>
                </a:cubicBezTo>
                <a:cubicBezTo>
                  <a:pt x="17785" y="6321"/>
                  <a:pt x="17825" y="6330"/>
                  <a:pt x="17884" y="6375"/>
                </a:cubicBezTo>
                <a:cubicBezTo>
                  <a:pt x="17938" y="6416"/>
                  <a:pt x="17997" y="6443"/>
                  <a:pt x="18058" y="6474"/>
                </a:cubicBezTo>
                <a:cubicBezTo>
                  <a:pt x="18131" y="6511"/>
                  <a:pt x="18205" y="6544"/>
                  <a:pt x="18281" y="6573"/>
                </a:cubicBezTo>
                <a:cubicBezTo>
                  <a:pt x="18345" y="6597"/>
                  <a:pt x="18461" y="6636"/>
                  <a:pt x="18529" y="6623"/>
                </a:cubicBezTo>
                <a:cubicBezTo>
                  <a:pt x="18570" y="6615"/>
                  <a:pt x="18688" y="6575"/>
                  <a:pt x="18703" y="6524"/>
                </a:cubicBezTo>
                <a:cubicBezTo>
                  <a:pt x="18722" y="6457"/>
                  <a:pt x="18671" y="6371"/>
                  <a:pt x="18628" y="6325"/>
                </a:cubicBezTo>
                <a:cubicBezTo>
                  <a:pt x="18591" y="6285"/>
                  <a:pt x="18511" y="6214"/>
                  <a:pt x="18455" y="6201"/>
                </a:cubicBezTo>
                <a:cubicBezTo>
                  <a:pt x="18397" y="6187"/>
                  <a:pt x="18342" y="6176"/>
                  <a:pt x="18281" y="6176"/>
                </a:cubicBezTo>
              </a:path>
              <a:path w="3498" h="1142">
                <a:moveTo>
                  <a:pt x="18628" y="5879"/>
                </a:moveTo>
                <a:cubicBezTo>
                  <a:pt x="18804" y="6027"/>
                  <a:pt x="18902" y="6107"/>
                  <a:pt x="18976" y="6325"/>
                </a:cubicBezTo>
                <a:cubicBezTo>
                  <a:pt x="19021" y="6457"/>
                  <a:pt x="19035" y="6563"/>
                  <a:pt x="19000" y="6697"/>
                </a:cubicBezTo>
                <a:cubicBezTo>
                  <a:pt x="18963" y="6840"/>
                  <a:pt x="18924" y="6909"/>
                  <a:pt x="18827" y="70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6"/>
          <p:cNvSpPr/>
          <p:nvPr/>
        </p:nvSpPr>
        <p:spPr>
          <a:xfrm>
            <a:off x="3268800" y="3197160"/>
            <a:ext cx="1527120" cy="463680"/>
          </a:xfrm>
          <a:custGeom>
            <a:avLst/>
            <a:gdLst/>
            <a:ahLst/>
            <a:rect l="l" t="t" r="r" b="b"/>
            <a:pathLst>
              <a:path w="4242" h="1291">
                <a:moveTo>
                  <a:pt x="9079" y="8880"/>
                </a:moveTo>
                <a:cubicBezTo>
                  <a:pt x="9167" y="8901"/>
                  <a:pt x="9262" y="8921"/>
                  <a:pt x="9351" y="8954"/>
                </a:cubicBezTo>
                <a:cubicBezTo>
                  <a:pt x="9526" y="9020"/>
                  <a:pt x="9689" y="9059"/>
                  <a:pt x="9872" y="9103"/>
                </a:cubicBezTo>
                <a:cubicBezTo>
                  <a:pt x="10128" y="9165"/>
                  <a:pt x="10384" y="9217"/>
                  <a:pt x="10641" y="9277"/>
                </a:cubicBezTo>
                <a:cubicBezTo>
                  <a:pt x="10928" y="9345"/>
                  <a:pt x="11227" y="9413"/>
                  <a:pt x="11509" y="9500"/>
                </a:cubicBezTo>
                <a:cubicBezTo>
                  <a:pt x="11748" y="9574"/>
                  <a:pt x="11986" y="9660"/>
                  <a:pt x="12229" y="9723"/>
                </a:cubicBezTo>
                <a:cubicBezTo>
                  <a:pt x="12319" y="9746"/>
                  <a:pt x="12532" y="9829"/>
                  <a:pt x="12626" y="9798"/>
                </a:cubicBezTo>
                <a:cubicBezTo>
                  <a:pt x="12722" y="9766"/>
                  <a:pt x="12692" y="9731"/>
                  <a:pt x="12700" y="9674"/>
                </a:cubicBezTo>
                <a:cubicBezTo>
                  <a:pt x="12700" y="9657"/>
                  <a:pt x="12700" y="9641"/>
                  <a:pt x="12700" y="9624"/>
                </a:cubicBezTo>
              </a:path>
              <a:path w="4242" h="1291">
                <a:moveTo>
                  <a:pt x="12502" y="9227"/>
                </a:moveTo>
                <a:cubicBezTo>
                  <a:pt x="12569" y="9296"/>
                  <a:pt x="12634" y="9295"/>
                  <a:pt x="12725" y="9327"/>
                </a:cubicBezTo>
                <a:cubicBezTo>
                  <a:pt x="12874" y="9379"/>
                  <a:pt x="13034" y="9448"/>
                  <a:pt x="13171" y="9525"/>
                </a:cubicBezTo>
                <a:cubicBezTo>
                  <a:pt x="13234" y="9560"/>
                  <a:pt x="13350" y="9654"/>
                  <a:pt x="13295" y="9723"/>
                </a:cubicBezTo>
                <a:cubicBezTo>
                  <a:pt x="13202" y="9841"/>
                  <a:pt x="13009" y="9915"/>
                  <a:pt x="12874" y="9971"/>
                </a:cubicBezTo>
                <a:cubicBezTo>
                  <a:pt x="12843" y="9984"/>
                  <a:pt x="12658" y="10061"/>
                  <a:pt x="12675" y="10120"/>
                </a:cubicBezTo>
                <a:cubicBezTo>
                  <a:pt x="12692" y="10137"/>
                  <a:pt x="12708" y="10153"/>
                  <a:pt x="12725" y="101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7"/>
          <p:cNvSpPr/>
          <p:nvPr/>
        </p:nvSpPr>
        <p:spPr>
          <a:xfrm>
            <a:off x="5456160" y="2509920"/>
            <a:ext cx="2679840" cy="704880"/>
          </a:xfrm>
          <a:custGeom>
            <a:avLst/>
            <a:gdLst/>
            <a:ahLst/>
            <a:rect l="l" t="t" r="r" b="b"/>
            <a:pathLst>
              <a:path w="7442" h="1961">
                <a:moveTo>
                  <a:pt x="18827" y="7689"/>
                </a:moveTo>
                <a:cubicBezTo>
                  <a:pt x="18827" y="7805"/>
                  <a:pt x="18827" y="7921"/>
                  <a:pt x="18827" y="8037"/>
                </a:cubicBezTo>
              </a:path>
              <a:path w="7442" h="1961">
                <a:moveTo>
                  <a:pt x="18777" y="7441"/>
                </a:moveTo>
                <a:cubicBezTo>
                  <a:pt x="18785" y="7433"/>
                  <a:pt x="18794" y="7425"/>
                  <a:pt x="18802" y="7417"/>
                </a:cubicBezTo>
              </a:path>
              <a:path w="7442" h="1961">
                <a:moveTo>
                  <a:pt x="18951" y="7863"/>
                </a:moveTo>
                <a:cubicBezTo>
                  <a:pt x="18951" y="7880"/>
                  <a:pt x="18951" y="7896"/>
                  <a:pt x="18951" y="7913"/>
                </a:cubicBezTo>
                <a:cubicBezTo>
                  <a:pt x="18951" y="7843"/>
                  <a:pt x="18941" y="7744"/>
                  <a:pt x="19000" y="7689"/>
                </a:cubicBezTo>
                <a:cubicBezTo>
                  <a:pt x="19054" y="7639"/>
                  <a:pt x="19149" y="7664"/>
                  <a:pt x="19199" y="7689"/>
                </a:cubicBezTo>
                <a:cubicBezTo>
                  <a:pt x="19258" y="7719"/>
                  <a:pt x="19308" y="7802"/>
                  <a:pt x="19323" y="7863"/>
                </a:cubicBezTo>
                <a:cubicBezTo>
                  <a:pt x="19338" y="7922"/>
                  <a:pt x="19339" y="7929"/>
                  <a:pt x="19372" y="7987"/>
                </a:cubicBezTo>
              </a:path>
              <a:path w="7442" h="1961">
                <a:moveTo>
                  <a:pt x="19695" y="7689"/>
                </a:moveTo>
                <a:cubicBezTo>
                  <a:pt x="19720" y="7714"/>
                  <a:pt x="19728" y="7722"/>
                  <a:pt x="19745" y="7739"/>
                </a:cubicBezTo>
                <a:cubicBezTo>
                  <a:pt x="19699" y="7693"/>
                  <a:pt x="19678" y="7668"/>
                  <a:pt x="19621" y="7714"/>
                </a:cubicBezTo>
                <a:cubicBezTo>
                  <a:pt x="19589" y="7740"/>
                  <a:pt x="19531" y="7822"/>
                  <a:pt x="19521" y="7863"/>
                </a:cubicBezTo>
                <a:cubicBezTo>
                  <a:pt x="19501" y="7947"/>
                  <a:pt x="19579" y="7962"/>
                  <a:pt x="19621" y="7987"/>
                </a:cubicBezTo>
                <a:cubicBezTo>
                  <a:pt x="19685" y="8025"/>
                  <a:pt x="19723" y="8014"/>
                  <a:pt x="19794" y="7987"/>
                </a:cubicBezTo>
              </a:path>
              <a:path w="7442" h="1961">
                <a:moveTo>
                  <a:pt x="20042" y="7665"/>
                </a:moveTo>
                <a:cubicBezTo>
                  <a:pt x="20042" y="7681"/>
                  <a:pt x="20042" y="7698"/>
                  <a:pt x="20042" y="7714"/>
                </a:cubicBezTo>
              </a:path>
              <a:path w="7442" h="1961">
                <a:moveTo>
                  <a:pt x="20067" y="7888"/>
                </a:moveTo>
                <a:cubicBezTo>
                  <a:pt x="20067" y="7938"/>
                  <a:pt x="20067" y="7955"/>
                  <a:pt x="20017" y="7938"/>
                </a:cubicBezTo>
              </a:path>
              <a:path w="7442" h="1961">
                <a:moveTo>
                  <a:pt x="20538" y="7367"/>
                </a:moveTo>
                <a:cubicBezTo>
                  <a:pt x="20499" y="7454"/>
                  <a:pt x="20449" y="7524"/>
                  <a:pt x="20414" y="7615"/>
                </a:cubicBezTo>
                <a:cubicBezTo>
                  <a:pt x="20383" y="7697"/>
                  <a:pt x="20366" y="7787"/>
                  <a:pt x="20389" y="7863"/>
                </a:cubicBezTo>
                <a:cubicBezTo>
                  <a:pt x="20412" y="7938"/>
                  <a:pt x="20441" y="8002"/>
                  <a:pt x="20489" y="8062"/>
                </a:cubicBezTo>
              </a:path>
              <a:path w="7442" h="1961">
                <a:moveTo>
                  <a:pt x="20563" y="7714"/>
                </a:moveTo>
                <a:cubicBezTo>
                  <a:pt x="20695" y="7714"/>
                  <a:pt x="20828" y="7714"/>
                  <a:pt x="20960" y="7714"/>
                </a:cubicBezTo>
              </a:path>
              <a:path w="7442" h="1961">
                <a:moveTo>
                  <a:pt x="21406" y="7565"/>
                </a:moveTo>
                <a:cubicBezTo>
                  <a:pt x="21316" y="7683"/>
                  <a:pt x="21257" y="7829"/>
                  <a:pt x="21158" y="7938"/>
                </a:cubicBezTo>
                <a:cubicBezTo>
                  <a:pt x="21109" y="7992"/>
                  <a:pt x="21073" y="7953"/>
                  <a:pt x="21034" y="7913"/>
                </a:cubicBezTo>
                <a:cubicBezTo>
                  <a:pt x="21003" y="7881"/>
                  <a:pt x="20946" y="7809"/>
                  <a:pt x="20935" y="7764"/>
                </a:cubicBezTo>
                <a:cubicBezTo>
                  <a:pt x="20935" y="7747"/>
                  <a:pt x="20935" y="7731"/>
                  <a:pt x="20935" y="7714"/>
                </a:cubicBezTo>
                <a:cubicBezTo>
                  <a:pt x="21008" y="7742"/>
                  <a:pt x="21083" y="7745"/>
                  <a:pt x="21158" y="7764"/>
                </a:cubicBezTo>
                <a:cubicBezTo>
                  <a:pt x="21251" y="7787"/>
                  <a:pt x="21334" y="7834"/>
                  <a:pt x="21431" y="7838"/>
                </a:cubicBezTo>
                <a:cubicBezTo>
                  <a:pt x="21504" y="7841"/>
                  <a:pt x="21590" y="7852"/>
                  <a:pt x="21654" y="7813"/>
                </a:cubicBezTo>
                <a:cubicBezTo>
                  <a:pt x="21704" y="7783"/>
                  <a:pt x="21695" y="7704"/>
                  <a:pt x="21679" y="7665"/>
                </a:cubicBezTo>
                <a:cubicBezTo>
                  <a:pt x="21655" y="7606"/>
                  <a:pt x="21596" y="7530"/>
                  <a:pt x="21530" y="7516"/>
                </a:cubicBezTo>
                <a:cubicBezTo>
                  <a:pt x="21503" y="7510"/>
                  <a:pt x="21332" y="7468"/>
                  <a:pt x="21332" y="7541"/>
                </a:cubicBezTo>
                <a:cubicBezTo>
                  <a:pt x="21340" y="7557"/>
                  <a:pt x="21349" y="7574"/>
                  <a:pt x="21357" y="7590"/>
                </a:cubicBezTo>
              </a:path>
              <a:path w="7442" h="1961">
                <a:moveTo>
                  <a:pt x="21903" y="7913"/>
                </a:moveTo>
                <a:cubicBezTo>
                  <a:pt x="21903" y="8016"/>
                  <a:pt x="21922" y="8084"/>
                  <a:pt x="21853" y="8161"/>
                </a:cubicBezTo>
                <a:cubicBezTo>
                  <a:pt x="21831" y="8183"/>
                  <a:pt x="21822" y="8188"/>
                  <a:pt x="21828" y="8210"/>
                </a:cubicBezTo>
              </a:path>
              <a:path w="7442" h="1961">
                <a:moveTo>
                  <a:pt x="22175" y="7615"/>
                </a:moveTo>
                <a:cubicBezTo>
                  <a:pt x="22132" y="7683"/>
                  <a:pt x="22076" y="7750"/>
                  <a:pt x="22101" y="7838"/>
                </a:cubicBezTo>
                <a:cubicBezTo>
                  <a:pt x="22115" y="7888"/>
                  <a:pt x="22198" y="7950"/>
                  <a:pt x="22250" y="7962"/>
                </a:cubicBezTo>
                <a:cubicBezTo>
                  <a:pt x="22377" y="7991"/>
                  <a:pt x="22399" y="7854"/>
                  <a:pt x="22399" y="7764"/>
                </a:cubicBezTo>
                <a:cubicBezTo>
                  <a:pt x="22399" y="7650"/>
                  <a:pt x="22353" y="7619"/>
                  <a:pt x="22275" y="7541"/>
                </a:cubicBezTo>
                <a:cubicBezTo>
                  <a:pt x="22242" y="7508"/>
                  <a:pt x="22208" y="7474"/>
                  <a:pt x="22175" y="7441"/>
                </a:cubicBezTo>
              </a:path>
              <a:path w="7442" h="1961">
                <a:moveTo>
                  <a:pt x="22299" y="7293"/>
                </a:moveTo>
                <a:cubicBezTo>
                  <a:pt x="22424" y="7364"/>
                  <a:pt x="22494" y="7423"/>
                  <a:pt x="22547" y="7565"/>
                </a:cubicBezTo>
                <a:cubicBezTo>
                  <a:pt x="22595" y="7694"/>
                  <a:pt x="22635" y="7867"/>
                  <a:pt x="22547" y="7987"/>
                </a:cubicBezTo>
                <a:cubicBezTo>
                  <a:pt x="22531" y="8004"/>
                  <a:pt x="22514" y="8020"/>
                  <a:pt x="22498" y="8037"/>
                </a:cubicBezTo>
              </a:path>
              <a:path w="7442" h="1961">
                <a:moveTo>
                  <a:pt x="16098" y="7938"/>
                </a:moveTo>
                <a:cubicBezTo>
                  <a:pt x="16098" y="8026"/>
                  <a:pt x="16117" y="8079"/>
                  <a:pt x="16148" y="8161"/>
                </a:cubicBezTo>
                <a:cubicBezTo>
                  <a:pt x="16186" y="8262"/>
                  <a:pt x="16257" y="8323"/>
                  <a:pt x="16321" y="8409"/>
                </a:cubicBezTo>
                <a:cubicBezTo>
                  <a:pt x="16358" y="8458"/>
                  <a:pt x="16454" y="8546"/>
                  <a:pt x="16470" y="8607"/>
                </a:cubicBezTo>
                <a:cubicBezTo>
                  <a:pt x="16470" y="8652"/>
                  <a:pt x="16474" y="8665"/>
                  <a:pt x="16446" y="8682"/>
                </a:cubicBezTo>
              </a:path>
              <a:path w="7442" h="1961">
                <a:moveTo>
                  <a:pt x="16024" y="8533"/>
                </a:moveTo>
                <a:cubicBezTo>
                  <a:pt x="16135" y="8611"/>
                  <a:pt x="16236" y="8705"/>
                  <a:pt x="16346" y="8781"/>
                </a:cubicBezTo>
                <a:cubicBezTo>
                  <a:pt x="16405" y="8821"/>
                  <a:pt x="16467" y="8857"/>
                  <a:pt x="16520" y="8905"/>
                </a:cubicBezTo>
                <a:cubicBezTo>
                  <a:pt x="16548" y="8933"/>
                  <a:pt x="16561" y="8942"/>
                  <a:pt x="16594" y="8930"/>
                </a:cubicBezTo>
                <a:cubicBezTo>
                  <a:pt x="16602" y="8842"/>
                  <a:pt x="16603" y="8745"/>
                  <a:pt x="16619" y="8657"/>
                </a:cubicBezTo>
                <a:cubicBezTo>
                  <a:pt x="16638" y="8555"/>
                  <a:pt x="16660" y="8459"/>
                  <a:pt x="16694" y="8359"/>
                </a:cubicBezTo>
              </a:path>
              <a:path w="7442" h="1961">
                <a:moveTo>
                  <a:pt x="15180" y="7665"/>
                </a:moveTo>
                <a:cubicBezTo>
                  <a:pt x="15229" y="7823"/>
                  <a:pt x="15258" y="7860"/>
                  <a:pt x="15329" y="7987"/>
                </a:cubicBezTo>
                <a:cubicBezTo>
                  <a:pt x="15351" y="8031"/>
                  <a:pt x="15354" y="8043"/>
                  <a:pt x="15379" y="8062"/>
                </a:cubicBezTo>
                <a:cubicBezTo>
                  <a:pt x="15351" y="7987"/>
                  <a:pt x="15344" y="7912"/>
                  <a:pt x="15304" y="7838"/>
                </a:cubicBezTo>
                <a:cubicBezTo>
                  <a:pt x="15209" y="7667"/>
                  <a:pt x="15186" y="7649"/>
                  <a:pt x="15156" y="7541"/>
                </a:cubicBezTo>
                <a:cubicBezTo>
                  <a:pt x="15220" y="7613"/>
                  <a:pt x="15265" y="7694"/>
                  <a:pt x="15329" y="7764"/>
                </a:cubicBezTo>
                <a:cubicBezTo>
                  <a:pt x="15376" y="7815"/>
                  <a:pt x="15419" y="7854"/>
                  <a:pt x="15478" y="7888"/>
                </a:cubicBezTo>
                <a:cubicBezTo>
                  <a:pt x="15518" y="7821"/>
                  <a:pt x="15486" y="7789"/>
                  <a:pt x="15453" y="7714"/>
                </a:cubicBezTo>
                <a:cubicBezTo>
                  <a:pt x="15428" y="7658"/>
                  <a:pt x="15392" y="7576"/>
                  <a:pt x="15379" y="7516"/>
                </a:cubicBezTo>
                <a:cubicBezTo>
                  <a:pt x="15379" y="7471"/>
                  <a:pt x="15382" y="7458"/>
                  <a:pt x="15354" y="7441"/>
                </a:cubicBezTo>
                <a:cubicBezTo>
                  <a:pt x="15407" y="7416"/>
                  <a:pt x="15440" y="7483"/>
                  <a:pt x="15478" y="7541"/>
                </a:cubicBezTo>
                <a:cubicBezTo>
                  <a:pt x="15518" y="7602"/>
                  <a:pt x="15547" y="7691"/>
                  <a:pt x="15602" y="7739"/>
                </a:cubicBezTo>
                <a:cubicBezTo>
                  <a:pt x="15650" y="7781"/>
                  <a:pt x="15702" y="7812"/>
                  <a:pt x="15751" y="7789"/>
                </a:cubicBezTo>
                <a:cubicBezTo>
                  <a:pt x="15768" y="7781"/>
                  <a:pt x="15784" y="7772"/>
                  <a:pt x="15801" y="7764"/>
                </a:cubicBezTo>
              </a:path>
              <a:path w="7442" h="1961">
                <a:moveTo>
                  <a:pt x="15776" y="7441"/>
                </a:moveTo>
                <a:cubicBezTo>
                  <a:pt x="15733" y="7523"/>
                  <a:pt x="15630" y="7626"/>
                  <a:pt x="15677" y="7714"/>
                </a:cubicBezTo>
                <a:cubicBezTo>
                  <a:pt x="15705" y="7766"/>
                  <a:pt x="15787" y="7737"/>
                  <a:pt x="15801" y="7689"/>
                </a:cubicBezTo>
                <a:cubicBezTo>
                  <a:pt x="15821" y="7619"/>
                  <a:pt x="15820" y="7539"/>
                  <a:pt x="15825" y="7466"/>
                </a:cubicBezTo>
                <a:cubicBezTo>
                  <a:pt x="15871" y="7512"/>
                  <a:pt x="15893" y="7557"/>
                  <a:pt x="15949" y="7590"/>
                </a:cubicBezTo>
                <a:cubicBezTo>
                  <a:pt x="16018" y="7630"/>
                  <a:pt x="16057" y="7655"/>
                  <a:pt x="16123" y="7615"/>
                </a:cubicBezTo>
              </a:path>
              <a:path w="7442" h="1961">
                <a:moveTo>
                  <a:pt x="16049" y="7367"/>
                </a:moveTo>
                <a:cubicBezTo>
                  <a:pt x="16119" y="7431"/>
                  <a:pt x="16198" y="7499"/>
                  <a:pt x="16297" y="7516"/>
                </a:cubicBezTo>
                <a:cubicBezTo>
                  <a:pt x="16363" y="7516"/>
                  <a:pt x="16380" y="7516"/>
                  <a:pt x="16421" y="7516"/>
                </a:cubicBezTo>
              </a:path>
              <a:path w="7442" h="1961">
                <a:moveTo>
                  <a:pt x="16247" y="7243"/>
                </a:moveTo>
                <a:cubicBezTo>
                  <a:pt x="16196" y="7352"/>
                  <a:pt x="16147" y="7457"/>
                  <a:pt x="16098" y="7565"/>
                </a:cubicBezTo>
                <a:cubicBezTo>
                  <a:pt x="16075" y="7615"/>
                  <a:pt x="16073" y="7636"/>
                  <a:pt x="16073" y="7689"/>
                </a:cubicBezTo>
              </a:path>
              <a:path w="7442" h="1961">
                <a:moveTo>
                  <a:pt x="17289" y="7218"/>
                </a:moveTo>
                <a:cubicBezTo>
                  <a:pt x="17220" y="7299"/>
                  <a:pt x="17156" y="7381"/>
                  <a:pt x="17140" y="7491"/>
                </a:cubicBezTo>
                <a:cubicBezTo>
                  <a:pt x="17127" y="7577"/>
                  <a:pt x="17175" y="7704"/>
                  <a:pt x="17239" y="7764"/>
                </a:cubicBezTo>
                <a:cubicBezTo>
                  <a:pt x="17283" y="7805"/>
                  <a:pt x="17360" y="7833"/>
                  <a:pt x="17413" y="7863"/>
                </a:cubicBezTo>
              </a:path>
              <a:path w="7442" h="1961">
                <a:moveTo>
                  <a:pt x="18430" y="6970"/>
                </a:moveTo>
                <a:cubicBezTo>
                  <a:pt x="18515" y="7038"/>
                  <a:pt x="18552" y="7090"/>
                  <a:pt x="18604" y="7193"/>
                </a:cubicBezTo>
                <a:cubicBezTo>
                  <a:pt x="18683" y="7347"/>
                  <a:pt x="18722" y="7446"/>
                  <a:pt x="18678" y="7615"/>
                </a:cubicBezTo>
                <a:cubicBezTo>
                  <a:pt x="18670" y="7640"/>
                  <a:pt x="18661" y="7664"/>
                  <a:pt x="18653" y="7689"/>
                </a:cubicBezTo>
              </a:path>
              <a:path w="7442" h="1961">
                <a:moveTo>
                  <a:pt x="18008" y="7764"/>
                </a:moveTo>
                <a:cubicBezTo>
                  <a:pt x="17990" y="7981"/>
                  <a:pt x="17941" y="8023"/>
                  <a:pt x="18033" y="8161"/>
                </a:cubicBezTo>
              </a:path>
              <a:path w="7442" h="1961">
                <a:moveTo>
                  <a:pt x="17338" y="7367"/>
                </a:moveTo>
                <a:cubicBezTo>
                  <a:pt x="17306" y="7457"/>
                  <a:pt x="17263" y="7523"/>
                  <a:pt x="17314" y="7615"/>
                </a:cubicBezTo>
                <a:cubicBezTo>
                  <a:pt x="17347" y="7674"/>
                  <a:pt x="17444" y="7634"/>
                  <a:pt x="17487" y="7615"/>
                </a:cubicBezTo>
                <a:cubicBezTo>
                  <a:pt x="17559" y="7583"/>
                  <a:pt x="17567" y="7550"/>
                  <a:pt x="17611" y="7491"/>
                </a:cubicBezTo>
                <a:cubicBezTo>
                  <a:pt x="17653" y="7435"/>
                  <a:pt x="17643" y="7358"/>
                  <a:pt x="17611" y="7293"/>
                </a:cubicBezTo>
                <a:cubicBezTo>
                  <a:pt x="17572" y="7213"/>
                  <a:pt x="17500" y="7247"/>
                  <a:pt x="17438" y="7268"/>
                </a:cubicBezTo>
                <a:cubicBezTo>
                  <a:pt x="17383" y="7286"/>
                  <a:pt x="17257" y="7322"/>
                  <a:pt x="17239" y="7392"/>
                </a:cubicBezTo>
                <a:cubicBezTo>
                  <a:pt x="17201" y="7544"/>
                  <a:pt x="17397" y="7547"/>
                  <a:pt x="17487" y="7565"/>
                </a:cubicBezTo>
              </a:path>
              <a:path w="7442" h="1961">
                <a:moveTo>
                  <a:pt x="18058" y="7020"/>
                </a:moveTo>
                <a:cubicBezTo>
                  <a:pt x="18067" y="7155"/>
                  <a:pt x="18108" y="7290"/>
                  <a:pt x="18157" y="7417"/>
                </a:cubicBezTo>
                <a:cubicBezTo>
                  <a:pt x="18199" y="7526"/>
                  <a:pt x="18231" y="7597"/>
                  <a:pt x="18231" y="77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8"/>
          <p:cNvSpPr/>
          <p:nvPr/>
        </p:nvSpPr>
        <p:spPr>
          <a:xfrm>
            <a:off x="6724800" y="2982960"/>
            <a:ext cx="1562040" cy="392040"/>
          </a:xfrm>
          <a:custGeom>
            <a:avLst/>
            <a:gdLst/>
            <a:ahLst/>
            <a:rect l="l" t="t" r="r" b="b"/>
            <a:pathLst>
              <a:path w="4342" h="1092">
                <a:moveTo>
                  <a:pt x="19000" y="8359"/>
                </a:moveTo>
                <a:cubicBezTo>
                  <a:pt x="19009" y="8443"/>
                  <a:pt x="19040" y="8524"/>
                  <a:pt x="19050" y="8607"/>
                </a:cubicBezTo>
                <a:cubicBezTo>
                  <a:pt x="19061" y="8700"/>
                  <a:pt x="19062" y="8789"/>
                  <a:pt x="19075" y="8880"/>
                </a:cubicBezTo>
                <a:cubicBezTo>
                  <a:pt x="19087" y="8962"/>
                  <a:pt x="19091" y="9046"/>
                  <a:pt x="19100" y="9128"/>
                </a:cubicBezTo>
                <a:cubicBezTo>
                  <a:pt x="19066" y="9085"/>
                  <a:pt x="19039" y="9044"/>
                  <a:pt x="19000" y="9004"/>
                </a:cubicBezTo>
                <a:cubicBezTo>
                  <a:pt x="18957" y="8961"/>
                  <a:pt x="18900" y="8882"/>
                  <a:pt x="18827" y="8905"/>
                </a:cubicBezTo>
                <a:cubicBezTo>
                  <a:pt x="18780" y="8920"/>
                  <a:pt x="18742" y="8940"/>
                  <a:pt x="18703" y="8979"/>
                </a:cubicBezTo>
                <a:cubicBezTo>
                  <a:pt x="18641" y="9041"/>
                  <a:pt x="18695" y="9073"/>
                  <a:pt x="18752" y="9103"/>
                </a:cubicBezTo>
                <a:cubicBezTo>
                  <a:pt x="18836" y="9147"/>
                  <a:pt x="18881" y="9153"/>
                  <a:pt x="18976" y="9153"/>
                </a:cubicBezTo>
                <a:cubicBezTo>
                  <a:pt x="18992" y="9153"/>
                  <a:pt x="19009" y="9153"/>
                  <a:pt x="19025" y="9153"/>
                </a:cubicBezTo>
              </a:path>
              <a:path w="4342" h="1092">
                <a:moveTo>
                  <a:pt x="19174" y="9004"/>
                </a:moveTo>
                <a:cubicBezTo>
                  <a:pt x="19255" y="8971"/>
                  <a:pt x="19372" y="8940"/>
                  <a:pt x="19447" y="8905"/>
                </a:cubicBezTo>
                <a:cubicBezTo>
                  <a:pt x="19494" y="8883"/>
                  <a:pt x="19490" y="8847"/>
                  <a:pt x="19496" y="8806"/>
                </a:cubicBezTo>
                <a:cubicBezTo>
                  <a:pt x="19435" y="8769"/>
                  <a:pt x="19386" y="8775"/>
                  <a:pt x="19323" y="8806"/>
                </a:cubicBezTo>
                <a:cubicBezTo>
                  <a:pt x="19262" y="8836"/>
                  <a:pt x="19205" y="8892"/>
                  <a:pt x="19199" y="8954"/>
                </a:cubicBezTo>
                <a:cubicBezTo>
                  <a:pt x="19189" y="9068"/>
                  <a:pt x="19233" y="9083"/>
                  <a:pt x="19323" y="9128"/>
                </a:cubicBezTo>
                <a:cubicBezTo>
                  <a:pt x="19393" y="9163"/>
                  <a:pt x="19403" y="9154"/>
                  <a:pt x="19472" y="9128"/>
                </a:cubicBezTo>
              </a:path>
              <a:path w="4342" h="1092">
                <a:moveTo>
                  <a:pt x="19769" y="8830"/>
                </a:moveTo>
                <a:cubicBezTo>
                  <a:pt x="19790" y="8789"/>
                  <a:pt x="19765" y="8740"/>
                  <a:pt x="19695" y="8756"/>
                </a:cubicBezTo>
                <a:cubicBezTo>
                  <a:pt x="19667" y="8763"/>
                  <a:pt x="19580" y="8823"/>
                  <a:pt x="19571" y="8855"/>
                </a:cubicBezTo>
                <a:cubicBezTo>
                  <a:pt x="19547" y="8940"/>
                  <a:pt x="19619" y="9002"/>
                  <a:pt x="19670" y="9054"/>
                </a:cubicBezTo>
                <a:cubicBezTo>
                  <a:pt x="19724" y="9109"/>
                  <a:pt x="19795" y="9124"/>
                  <a:pt x="19869" y="9128"/>
                </a:cubicBezTo>
                <a:cubicBezTo>
                  <a:pt x="19938" y="9128"/>
                  <a:pt x="19973" y="9119"/>
                  <a:pt x="20017" y="9079"/>
                </a:cubicBezTo>
              </a:path>
              <a:path w="4342" h="1092">
                <a:moveTo>
                  <a:pt x="20166" y="8806"/>
                </a:moveTo>
                <a:lnTo>
                  <a:pt x="20166" y="8806"/>
                </a:lnTo>
              </a:path>
              <a:path w="4342" h="1092">
                <a:moveTo>
                  <a:pt x="20166" y="9029"/>
                </a:moveTo>
                <a:cubicBezTo>
                  <a:pt x="20166" y="9070"/>
                  <a:pt x="20166" y="9078"/>
                  <a:pt x="20166" y="9103"/>
                </a:cubicBezTo>
              </a:path>
              <a:path w="4342" h="1092">
                <a:moveTo>
                  <a:pt x="20737" y="8384"/>
                </a:moveTo>
                <a:cubicBezTo>
                  <a:pt x="20660" y="8451"/>
                  <a:pt x="20605" y="8503"/>
                  <a:pt x="20538" y="8582"/>
                </a:cubicBezTo>
                <a:cubicBezTo>
                  <a:pt x="20460" y="8674"/>
                  <a:pt x="20464" y="8737"/>
                  <a:pt x="20464" y="8855"/>
                </a:cubicBezTo>
                <a:cubicBezTo>
                  <a:pt x="20464" y="8965"/>
                  <a:pt x="20506" y="9058"/>
                  <a:pt x="20563" y="9153"/>
                </a:cubicBezTo>
                <a:cubicBezTo>
                  <a:pt x="20607" y="9218"/>
                  <a:pt x="20613" y="9237"/>
                  <a:pt x="20662" y="9252"/>
                </a:cubicBezTo>
              </a:path>
              <a:path w="4342" h="1092">
                <a:moveTo>
                  <a:pt x="21109" y="8632"/>
                </a:moveTo>
                <a:cubicBezTo>
                  <a:pt x="21065" y="8676"/>
                  <a:pt x="21003" y="8718"/>
                  <a:pt x="20985" y="8781"/>
                </a:cubicBezTo>
                <a:cubicBezTo>
                  <a:pt x="20968" y="8843"/>
                  <a:pt x="20942" y="8937"/>
                  <a:pt x="20960" y="9004"/>
                </a:cubicBezTo>
                <a:cubicBezTo>
                  <a:pt x="20979" y="9077"/>
                  <a:pt x="21059" y="9107"/>
                  <a:pt x="21109" y="9128"/>
                </a:cubicBezTo>
                <a:cubicBezTo>
                  <a:pt x="21185" y="9160"/>
                  <a:pt x="21218" y="9162"/>
                  <a:pt x="21282" y="9103"/>
                </a:cubicBezTo>
                <a:cubicBezTo>
                  <a:pt x="21336" y="9053"/>
                  <a:pt x="21389" y="8932"/>
                  <a:pt x="21382" y="8855"/>
                </a:cubicBezTo>
                <a:cubicBezTo>
                  <a:pt x="21373" y="8765"/>
                  <a:pt x="21336" y="8688"/>
                  <a:pt x="21258" y="8632"/>
                </a:cubicBezTo>
                <a:cubicBezTo>
                  <a:pt x="21188" y="8581"/>
                  <a:pt x="21130" y="8571"/>
                  <a:pt x="21059" y="8607"/>
                </a:cubicBezTo>
              </a:path>
              <a:path w="4342" h="1092">
                <a:moveTo>
                  <a:pt x="21754" y="9079"/>
                </a:moveTo>
                <a:cubicBezTo>
                  <a:pt x="21724" y="9185"/>
                  <a:pt x="21705" y="9268"/>
                  <a:pt x="21630" y="9351"/>
                </a:cubicBezTo>
                <a:cubicBezTo>
                  <a:pt x="21581" y="9405"/>
                  <a:pt x="21575" y="9299"/>
                  <a:pt x="21580" y="9227"/>
                </a:cubicBezTo>
              </a:path>
              <a:path w="4342" h="1092">
                <a:moveTo>
                  <a:pt x="22349" y="8731"/>
                </a:moveTo>
                <a:cubicBezTo>
                  <a:pt x="22318" y="8844"/>
                  <a:pt x="22309" y="8949"/>
                  <a:pt x="22175" y="8979"/>
                </a:cubicBezTo>
                <a:cubicBezTo>
                  <a:pt x="22087" y="8999"/>
                  <a:pt x="22057" y="8998"/>
                  <a:pt x="21977" y="8954"/>
                </a:cubicBezTo>
                <a:cubicBezTo>
                  <a:pt x="21907" y="8915"/>
                  <a:pt x="21889" y="8907"/>
                  <a:pt x="21878" y="8830"/>
                </a:cubicBezTo>
                <a:cubicBezTo>
                  <a:pt x="21967" y="8798"/>
                  <a:pt x="21992" y="8813"/>
                  <a:pt x="22076" y="8855"/>
                </a:cubicBezTo>
                <a:cubicBezTo>
                  <a:pt x="22156" y="8895"/>
                  <a:pt x="22242" y="8919"/>
                  <a:pt x="22324" y="8954"/>
                </a:cubicBezTo>
                <a:cubicBezTo>
                  <a:pt x="22430" y="8999"/>
                  <a:pt x="22512" y="8988"/>
                  <a:pt x="22622" y="8979"/>
                </a:cubicBezTo>
                <a:cubicBezTo>
                  <a:pt x="22715" y="8971"/>
                  <a:pt x="22741" y="8949"/>
                  <a:pt x="22746" y="8855"/>
                </a:cubicBezTo>
                <a:cubicBezTo>
                  <a:pt x="22751" y="8773"/>
                  <a:pt x="22700" y="8714"/>
                  <a:pt x="22647" y="8657"/>
                </a:cubicBezTo>
                <a:cubicBezTo>
                  <a:pt x="22592" y="8599"/>
                  <a:pt x="22479" y="8546"/>
                  <a:pt x="22399" y="8533"/>
                </a:cubicBezTo>
                <a:cubicBezTo>
                  <a:pt x="22307" y="8518"/>
                  <a:pt x="22249" y="8520"/>
                  <a:pt x="22299" y="8607"/>
                </a:cubicBezTo>
              </a:path>
              <a:path w="4342" h="1092">
                <a:moveTo>
                  <a:pt x="22796" y="8285"/>
                </a:moveTo>
                <a:cubicBezTo>
                  <a:pt x="22930" y="8467"/>
                  <a:pt x="22999" y="8598"/>
                  <a:pt x="23019" y="8830"/>
                </a:cubicBezTo>
                <a:cubicBezTo>
                  <a:pt x="23029" y="8941"/>
                  <a:pt x="23009" y="9076"/>
                  <a:pt x="22920" y="9153"/>
                </a:cubicBezTo>
                <a:cubicBezTo>
                  <a:pt x="22848" y="9201"/>
                  <a:pt x="22827" y="9216"/>
                  <a:pt x="22771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9"/>
          <p:cNvSpPr/>
          <p:nvPr/>
        </p:nvSpPr>
        <p:spPr>
          <a:xfrm>
            <a:off x="7466040" y="3848040"/>
            <a:ext cx="330120" cy="144360"/>
          </a:xfrm>
          <a:custGeom>
            <a:avLst/>
            <a:gdLst/>
            <a:ahLst/>
            <a:rect l="l" t="t" r="r" b="b"/>
            <a:pathLst>
              <a:path w="918" h="398">
                <a:moveTo>
                  <a:pt x="21332" y="11038"/>
                </a:moveTo>
                <a:cubicBezTo>
                  <a:pt x="21235" y="11021"/>
                  <a:pt x="21122" y="11025"/>
                  <a:pt x="21034" y="10988"/>
                </a:cubicBezTo>
                <a:cubicBezTo>
                  <a:pt x="20973" y="10963"/>
                  <a:pt x="20909" y="10933"/>
                  <a:pt x="20861" y="10889"/>
                </a:cubicBezTo>
                <a:cubicBezTo>
                  <a:pt x="20814" y="10847"/>
                  <a:pt x="20754" y="10835"/>
                  <a:pt x="20737" y="10765"/>
                </a:cubicBezTo>
                <a:cubicBezTo>
                  <a:pt x="20737" y="10721"/>
                  <a:pt x="20734" y="10707"/>
                  <a:pt x="20762" y="10691"/>
                </a:cubicBezTo>
                <a:cubicBezTo>
                  <a:pt x="20853" y="10704"/>
                  <a:pt x="20924" y="10767"/>
                  <a:pt x="21010" y="10815"/>
                </a:cubicBezTo>
                <a:cubicBezTo>
                  <a:pt x="21080" y="10854"/>
                  <a:pt x="21135" y="10902"/>
                  <a:pt x="21208" y="10939"/>
                </a:cubicBezTo>
                <a:cubicBezTo>
                  <a:pt x="21275" y="10973"/>
                  <a:pt x="21350" y="11008"/>
                  <a:pt x="21406" y="11038"/>
                </a:cubicBezTo>
                <a:cubicBezTo>
                  <a:pt x="21445" y="11059"/>
                  <a:pt x="21528" y="11104"/>
                  <a:pt x="21580" y="11088"/>
                </a:cubicBezTo>
                <a:cubicBezTo>
                  <a:pt x="21647" y="11067"/>
                  <a:pt x="21644" y="11007"/>
                  <a:pt x="21630" y="10964"/>
                </a:cubicBezTo>
                <a:cubicBezTo>
                  <a:pt x="21603" y="10878"/>
                  <a:pt x="21558" y="10856"/>
                  <a:pt x="21481" y="10815"/>
                </a:cubicBezTo>
                <a:cubicBezTo>
                  <a:pt x="21427" y="10786"/>
                  <a:pt x="21383" y="10747"/>
                  <a:pt x="21332" y="10716"/>
                </a:cubicBezTo>
                <a:cubicBezTo>
                  <a:pt x="21315" y="10708"/>
                  <a:pt x="21299" y="10699"/>
                  <a:pt x="21282" y="106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10"/>
          <p:cNvSpPr/>
          <p:nvPr/>
        </p:nvSpPr>
        <p:spPr>
          <a:xfrm>
            <a:off x="347760" y="4295880"/>
            <a:ext cx="2590560" cy="758880"/>
          </a:xfrm>
          <a:custGeom>
            <a:avLst/>
            <a:gdLst/>
            <a:ahLst/>
            <a:rect l="l" t="t" r="r" b="b"/>
            <a:pathLst>
              <a:path w="7195" h="2109">
                <a:moveTo>
                  <a:pt x="1191" y="12005"/>
                </a:moveTo>
                <a:cubicBezTo>
                  <a:pt x="1215" y="12059"/>
                  <a:pt x="1231" y="12119"/>
                  <a:pt x="1265" y="12179"/>
                </a:cubicBezTo>
                <a:cubicBezTo>
                  <a:pt x="1304" y="12248"/>
                  <a:pt x="1347" y="12313"/>
                  <a:pt x="1389" y="12378"/>
                </a:cubicBezTo>
                <a:cubicBezTo>
                  <a:pt x="1435" y="12449"/>
                  <a:pt x="1485" y="12510"/>
                  <a:pt x="1538" y="12576"/>
                </a:cubicBezTo>
                <a:cubicBezTo>
                  <a:pt x="1604" y="12657"/>
                  <a:pt x="1665" y="12746"/>
                  <a:pt x="1736" y="12824"/>
                </a:cubicBezTo>
                <a:cubicBezTo>
                  <a:pt x="1897" y="13000"/>
                  <a:pt x="2066" y="13175"/>
                  <a:pt x="2232" y="13345"/>
                </a:cubicBezTo>
                <a:cubicBezTo>
                  <a:pt x="2328" y="13443"/>
                  <a:pt x="2410" y="13545"/>
                  <a:pt x="2505" y="13643"/>
                </a:cubicBezTo>
                <a:cubicBezTo>
                  <a:pt x="2550" y="13690"/>
                  <a:pt x="2582" y="13751"/>
                  <a:pt x="2629" y="13791"/>
                </a:cubicBezTo>
                <a:cubicBezTo>
                  <a:pt x="2673" y="13828"/>
                  <a:pt x="2704" y="13849"/>
                  <a:pt x="2753" y="13866"/>
                </a:cubicBezTo>
                <a:cubicBezTo>
                  <a:pt x="2804" y="13884"/>
                  <a:pt x="2875" y="13881"/>
                  <a:pt x="2927" y="13891"/>
                </a:cubicBezTo>
                <a:cubicBezTo>
                  <a:pt x="3004" y="13906"/>
                  <a:pt x="3069" y="13910"/>
                  <a:pt x="3150" y="13915"/>
                </a:cubicBezTo>
                <a:cubicBezTo>
                  <a:pt x="3220" y="13919"/>
                  <a:pt x="3319" y="13937"/>
                  <a:pt x="3373" y="13940"/>
                </a:cubicBezTo>
                <a:cubicBezTo>
                  <a:pt x="3572" y="13950"/>
                  <a:pt x="3774" y="13956"/>
                  <a:pt x="3969" y="13965"/>
                </a:cubicBezTo>
                <a:cubicBezTo>
                  <a:pt x="4234" y="13977"/>
                  <a:pt x="4500" y="13986"/>
                  <a:pt x="4762" y="13990"/>
                </a:cubicBezTo>
                <a:cubicBezTo>
                  <a:pt x="5044" y="13995"/>
                  <a:pt x="5329" y="14001"/>
                  <a:pt x="5606" y="14015"/>
                </a:cubicBezTo>
                <a:cubicBezTo>
                  <a:pt x="5705" y="14020"/>
                  <a:pt x="5812" y="14034"/>
                  <a:pt x="5904" y="14039"/>
                </a:cubicBezTo>
                <a:cubicBezTo>
                  <a:pt x="6040" y="14046"/>
                  <a:pt x="6156" y="14048"/>
                  <a:pt x="6251" y="13990"/>
                </a:cubicBezTo>
                <a:cubicBezTo>
                  <a:pt x="6408" y="13893"/>
                  <a:pt x="6567" y="13695"/>
                  <a:pt x="6697" y="13568"/>
                </a:cubicBezTo>
                <a:cubicBezTo>
                  <a:pt x="6791" y="13476"/>
                  <a:pt x="6890" y="13422"/>
                  <a:pt x="6995" y="13345"/>
                </a:cubicBezTo>
                <a:cubicBezTo>
                  <a:pt x="7085" y="13279"/>
                  <a:pt x="7156" y="13190"/>
                  <a:pt x="7243" y="13122"/>
                </a:cubicBezTo>
                <a:cubicBezTo>
                  <a:pt x="7328" y="13055"/>
                  <a:pt x="7408" y="12992"/>
                  <a:pt x="7491" y="12923"/>
                </a:cubicBezTo>
                <a:cubicBezTo>
                  <a:pt x="7599" y="12832"/>
                  <a:pt x="7705" y="12739"/>
                  <a:pt x="7813" y="12650"/>
                </a:cubicBezTo>
                <a:cubicBezTo>
                  <a:pt x="7863" y="12608"/>
                  <a:pt x="7905" y="12563"/>
                  <a:pt x="7962" y="12526"/>
                </a:cubicBezTo>
                <a:cubicBezTo>
                  <a:pt x="8020" y="12488"/>
                  <a:pt x="8048" y="12467"/>
                  <a:pt x="8111" y="12452"/>
                </a:cubicBezTo>
                <a:cubicBezTo>
                  <a:pt x="8119" y="12460"/>
                  <a:pt x="8128" y="12469"/>
                  <a:pt x="8136" y="12477"/>
                </a:cubicBezTo>
                <a:cubicBezTo>
                  <a:pt x="8019" y="12477"/>
                  <a:pt x="7897" y="12457"/>
                  <a:pt x="7789" y="12452"/>
                </a:cubicBezTo>
                <a:cubicBezTo>
                  <a:pt x="7731" y="12449"/>
                  <a:pt x="7673" y="12454"/>
                  <a:pt x="7615" y="12452"/>
                </a:cubicBezTo>
                <a:cubicBezTo>
                  <a:pt x="7686" y="12430"/>
                  <a:pt x="7757" y="12387"/>
                  <a:pt x="7838" y="12378"/>
                </a:cubicBezTo>
                <a:cubicBezTo>
                  <a:pt x="8071" y="12351"/>
                  <a:pt x="7949" y="12358"/>
                  <a:pt x="8037" y="12477"/>
                </a:cubicBezTo>
                <a:cubicBezTo>
                  <a:pt x="8095" y="12555"/>
                  <a:pt x="8123" y="12661"/>
                  <a:pt x="8161" y="12750"/>
                </a:cubicBezTo>
              </a:path>
              <a:path w="7195" h="2109">
                <a:moveTo>
                  <a:pt x="967" y="12526"/>
                </a:moveTo>
                <a:cubicBezTo>
                  <a:pt x="1001" y="12441"/>
                  <a:pt x="1031" y="12341"/>
                  <a:pt x="1042" y="12254"/>
                </a:cubicBezTo>
                <a:cubicBezTo>
                  <a:pt x="1053" y="12168"/>
                  <a:pt x="1078" y="12089"/>
                  <a:pt x="1091" y="12005"/>
                </a:cubicBezTo>
                <a:cubicBezTo>
                  <a:pt x="1091" y="11961"/>
                  <a:pt x="1088" y="11947"/>
                  <a:pt x="1116" y="11931"/>
                </a:cubicBezTo>
                <a:cubicBezTo>
                  <a:pt x="1164" y="12051"/>
                  <a:pt x="1202" y="12059"/>
                  <a:pt x="1315" y="12129"/>
                </a:cubicBezTo>
                <a:cubicBezTo>
                  <a:pt x="1403" y="12184"/>
                  <a:pt x="1493" y="12212"/>
                  <a:pt x="1588" y="122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11"/>
          <p:cNvSpPr/>
          <p:nvPr/>
        </p:nvSpPr>
        <p:spPr>
          <a:xfrm>
            <a:off x="3544920" y="4438800"/>
            <a:ext cx="1679400" cy="436320"/>
          </a:xfrm>
          <a:custGeom>
            <a:avLst/>
            <a:gdLst/>
            <a:ahLst/>
            <a:rect l="l" t="t" r="r" b="b"/>
            <a:pathLst>
              <a:path w="4665" h="1216">
                <a:moveTo>
                  <a:pt x="10244" y="12328"/>
                </a:moveTo>
                <a:cubicBezTo>
                  <a:pt x="10283" y="12393"/>
                  <a:pt x="10269" y="12471"/>
                  <a:pt x="10269" y="12551"/>
                </a:cubicBezTo>
                <a:cubicBezTo>
                  <a:pt x="10269" y="12664"/>
                  <a:pt x="10248" y="12764"/>
                  <a:pt x="10244" y="12874"/>
                </a:cubicBezTo>
                <a:cubicBezTo>
                  <a:pt x="10239" y="13006"/>
                  <a:pt x="10244" y="13139"/>
                  <a:pt x="10244" y="13271"/>
                </a:cubicBezTo>
                <a:cubicBezTo>
                  <a:pt x="10204" y="13178"/>
                  <a:pt x="10202" y="13093"/>
                  <a:pt x="10170" y="12998"/>
                </a:cubicBezTo>
                <a:cubicBezTo>
                  <a:pt x="10151" y="12940"/>
                  <a:pt x="10107" y="12872"/>
                  <a:pt x="10071" y="12824"/>
                </a:cubicBezTo>
                <a:cubicBezTo>
                  <a:pt x="10041" y="12784"/>
                  <a:pt x="10000" y="12738"/>
                  <a:pt x="9947" y="12750"/>
                </a:cubicBezTo>
                <a:cubicBezTo>
                  <a:pt x="9893" y="12762"/>
                  <a:pt x="9833" y="12815"/>
                  <a:pt x="9847" y="12874"/>
                </a:cubicBezTo>
                <a:cubicBezTo>
                  <a:pt x="9865" y="12948"/>
                  <a:pt x="9937" y="13029"/>
                  <a:pt x="9996" y="13072"/>
                </a:cubicBezTo>
                <a:cubicBezTo>
                  <a:pt x="10065" y="13122"/>
                  <a:pt x="10163" y="13161"/>
                  <a:pt x="10244" y="13171"/>
                </a:cubicBezTo>
              </a:path>
              <a:path w="4665" h="1216">
                <a:moveTo>
                  <a:pt x="10368" y="13047"/>
                </a:moveTo>
                <a:cubicBezTo>
                  <a:pt x="10426" y="12990"/>
                  <a:pt x="10474" y="12961"/>
                  <a:pt x="10542" y="12923"/>
                </a:cubicBezTo>
                <a:cubicBezTo>
                  <a:pt x="10582" y="12900"/>
                  <a:pt x="10699" y="12872"/>
                  <a:pt x="10716" y="12824"/>
                </a:cubicBezTo>
                <a:cubicBezTo>
                  <a:pt x="10716" y="12807"/>
                  <a:pt x="10716" y="12791"/>
                  <a:pt x="10716" y="12774"/>
                </a:cubicBezTo>
                <a:cubicBezTo>
                  <a:pt x="10645" y="12740"/>
                  <a:pt x="10623" y="12743"/>
                  <a:pt x="10567" y="12799"/>
                </a:cubicBezTo>
                <a:cubicBezTo>
                  <a:pt x="10514" y="12852"/>
                  <a:pt x="10519" y="12887"/>
                  <a:pt x="10492" y="12948"/>
                </a:cubicBezTo>
                <a:cubicBezTo>
                  <a:pt x="10473" y="12990"/>
                  <a:pt x="10481" y="13072"/>
                  <a:pt x="10517" y="13122"/>
                </a:cubicBezTo>
                <a:cubicBezTo>
                  <a:pt x="10566" y="13189"/>
                  <a:pt x="10608" y="13186"/>
                  <a:pt x="10666" y="13221"/>
                </a:cubicBezTo>
              </a:path>
              <a:path w="4665" h="1216">
                <a:moveTo>
                  <a:pt x="10939" y="12898"/>
                </a:moveTo>
                <a:cubicBezTo>
                  <a:pt x="10983" y="12898"/>
                  <a:pt x="10996" y="12901"/>
                  <a:pt x="11013" y="12874"/>
                </a:cubicBezTo>
                <a:cubicBezTo>
                  <a:pt x="10958" y="12853"/>
                  <a:pt x="10863" y="12838"/>
                  <a:pt x="10815" y="12898"/>
                </a:cubicBezTo>
                <a:cubicBezTo>
                  <a:pt x="10778" y="12945"/>
                  <a:pt x="10787" y="13054"/>
                  <a:pt x="10815" y="13097"/>
                </a:cubicBezTo>
                <a:cubicBezTo>
                  <a:pt x="10854" y="13157"/>
                  <a:pt x="10913" y="13229"/>
                  <a:pt x="10988" y="13246"/>
                </a:cubicBezTo>
                <a:cubicBezTo>
                  <a:pt x="11040" y="13258"/>
                  <a:pt x="11073" y="13245"/>
                  <a:pt x="11112" y="13221"/>
                </a:cubicBezTo>
              </a:path>
              <a:path w="4665" h="1216">
                <a:moveTo>
                  <a:pt x="11385" y="12774"/>
                </a:moveTo>
                <a:cubicBezTo>
                  <a:pt x="11410" y="12766"/>
                  <a:pt x="11435" y="12758"/>
                  <a:pt x="11460" y="12750"/>
                </a:cubicBezTo>
              </a:path>
              <a:path w="4665" h="1216">
                <a:moveTo>
                  <a:pt x="11435" y="12948"/>
                </a:moveTo>
                <a:cubicBezTo>
                  <a:pt x="11443" y="12973"/>
                  <a:pt x="11452" y="12997"/>
                  <a:pt x="11460" y="13022"/>
                </a:cubicBezTo>
              </a:path>
              <a:path w="4665" h="1216">
                <a:moveTo>
                  <a:pt x="11857" y="12998"/>
                </a:moveTo>
                <a:cubicBezTo>
                  <a:pt x="11976" y="12985"/>
                  <a:pt x="12083" y="12998"/>
                  <a:pt x="12204" y="12998"/>
                </a:cubicBezTo>
                <a:cubicBezTo>
                  <a:pt x="12221" y="12998"/>
                  <a:pt x="12237" y="12998"/>
                  <a:pt x="12254" y="12998"/>
                </a:cubicBezTo>
              </a:path>
              <a:path w="4665" h="1216">
                <a:moveTo>
                  <a:pt x="12898" y="12874"/>
                </a:moveTo>
                <a:cubicBezTo>
                  <a:pt x="12946" y="12850"/>
                  <a:pt x="12961" y="12842"/>
                  <a:pt x="12998" y="12849"/>
                </a:cubicBezTo>
                <a:cubicBezTo>
                  <a:pt x="12930" y="12916"/>
                  <a:pt x="12866" y="13013"/>
                  <a:pt x="12799" y="13072"/>
                </a:cubicBezTo>
                <a:cubicBezTo>
                  <a:pt x="12762" y="13105"/>
                  <a:pt x="12700" y="13182"/>
                  <a:pt x="12650" y="13196"/>
                </a:cubicBezTo>
                <a:cubicBezTo>
                  <a:pt x="12580" y="13215"/>
                  <a:pt x="12545" y="13219"/>
                  <a:pt x="12477" y="13171"/>
                </a:cubicBezTo>
                <a:cubicBezTo>
                  <a:pt x="12422" y="13133"/>
                  <a:pt x="12406" y="13086"/>
                  <a:pt x="12402" y="13022"/>
                </a:cubicBezTo>
                <a:cubicBezTo>
                  <a:pt x="12396" y="12919"/>
                  <a:pt x="12467" y="12927"/>
                  <a:pt x="12551" y="12923"/>
                </a:cubicBezTo>
                <a:cubicBezTo>
                  <a:pt x="12640" y="12919"/>
                  <a:pt x="12648" y="12955"/>
                  <a:pt x="12725" y="12973"/>
                </a:cubicBezTo>
                <a:cubicBezTo>
                  <a:pt x="12792" y="12989"/>
                  <a:pt x="12840" y="13003"/>
                  <a:pt x="12898" y="13047"/>
                </a:cubicBezTo>
                <a:cubicBezTo>
                  <a:pt x="12945" y="13083"/>
                  <a:pt x="13011" y="13133"/>
                  <a:pt x="13072" y="13146"/>
                </a:cubicBezTo>
                <a:cubicBezTo>
                  <a:pt x="13134" y="13159"/>
                  <a:pt x="13195" y="13190"/>
                  <a:pt x="13246" y="13146"/>
                </a:cubicBezTo>
                <a:cubicBezTo>
                  <a:pt x="13298" y="13101"/>
                  <a:pt x="13321" y="12993"/>
                  <a:pt x="13295" y="12923"/>
                </a:cubicBezTo>
                <a:cubicBezTo>
                  <a:pt x="13273" y="12865"/>
                  <a:pt x="13222" y="12804"/>
                  <a:pt x="13171" y="12774"/>
                </a:cubicBezTo>
                <a:cubicBezTo>
                  <a:pt x="13110" y="12738"/>
                  <a:pt x="13087" y="12766"/>
                  <a:pt x="13072" y="12824"/>
                </a:cubicBezTo>
              </a:path>
              <a:path w="4665" h="1216">
                <a:moveTo>
                  <a:pt x="13395" y="13395"/>
                </a:moveTo>
                <a:cubicBezTo>
                  <a:pt x="13372" y="13448"/>
                  <a:pt x="13349" y="13524"/>
                  <a:pt x="13320" y="13543"/>
                </a:cubicBezTo>
              </a:path>
              <a:path w="4665" h="1216">
                <a:moveTo>
                  <a:pt x="13692" y="12824"/>
                </a:moveTo>
                <a:cubicBezTo>
                  <a:pt x="13816" y="12806"/>
                  <a:pt x="13824" y="12798"/>
                  <a:pt x="13891" y="12799"/>
                </a:cubicBezTo>
              </a:path>
              <a:path w="4665" h="1216">
                <a:moveTo>
                  <a:pt x="14089" y="12750"/>
                </a:moveTo>
                <a:cubicBezTo>
                  <a:pt x="14120" y="12804"/>
                  <a:pt x="14176" y="12862"/>
                  <a:pt x="14114" y="12923"/>
                </a:cubicBezTo>
                <a:cubicBezTo>
                  <a:pt x="14050" y="12987"/>
                  <a:pt x="13990" y="12888"/>
                  <a:pt x="13940" y="12898"/>
                </a:cubicBezTo>
                <a:cubicBezTo>
                  <a:pt x="13932" y="12906"/>
                  <a:pt x="13923" y="12915"/>
                  <a:pt x="13915" y="12923"/>
                </a:cubicBezTo>
                <a:cubicBezTo>
                  <a:pt x="13973" y="12931"/>
                  <a:pt x="14015" y="12958"/>
                  <a:pt x="14064" y="12998"/>
                </a:cubicBezTo>
                <a:cubicBezTo>
                  <a:pt x="14083" y="13013"/>
                  <a:pt x="14180" y="13093"/>
                  <a:pt x="14188" y="13122"/>
                </a:cubicBezTo>
                <a:cubicBezTo>
                  <a:pt x="14212" y="13204"/>
                  <a:pt x="14121" y="13218"/>
                  <a:pt x="14064" y="13221"/>
                </a:cubicBezTo>
                <a:cubicBezTo>
                  <a:pt x="14000" y="13225"/>
                  <a:pt x="13982" y="13188"/>
                  <a:pt x="13940" y="13146"/>
                </a:cubicBezTo>
              </a:path>
              <a:path w="4665" h="1216">
                <a:moveTo>
                  <a:pt x="14436" y="12526"/>
                </a:moveTo>
                <a:cubicBezTo>
                  <a:pt x="14495" y="12660"/>
                  <a:pt x="14530" y="12773"/>
                  <a:pt x="14511" y="12923"/>
                </a:cubicBezTo>
                <a:cubicBezTo>
                  <a:pt x="14498" y="13025"/>
                  <a:pt x="14471" y="13177"/>
                  <a:pt x="14387" y="13246"/>
                </a:cubicBezTo>
                <a:cubicBezTo>
                  <a:pt x="14339" y="13270"/>
                  <a:pt x="14325" y="13278"/>
                  <a:pt x="14288" y="13271"/>
                </a:cubicBezTo>
              </a:path>
              <a:path w="4665" h="1216">
                <a:moveTo>
                  <a:pt x="12005" y="12402"/>
                </a:moveTo>
                <a:cubicBezTo>
                  <a:pt x="11926" y="12482"/>
                  <a:pt x="11872" y="12543"/>
                  <a:pt x="11832" y="12650"/>
                </a:cubicBezTo>
                <a:cubicBezTo>
                  <a:pt x="11779" y="12793"/>
                  <a:pt x="11785" y="12900"/>
                  <a:pt x="11832" y="13047"/>
                </a:cubicBezTo>
                <a:cubicBezTo>
                  <a:pt x="11881" y="13171"/>
                  <a:pt x="11897" y="13213"/>
                  <a:pt x="11931" y="132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12"/>
          <p:cNvSpPr/>
          <p:nvPr/>
        </p:nvSpPr>
        <p:spPr>
          <a:xfrm>
            <a:off x="0" y="4473720"/>
            <a:ext cx="3098880" cy="2027160"/>
          </a:xfrm>
          <a:custGeom>
            <a:avLst/>
            <a:gdLst/>
            <a:ahLst/>
            <a:rect l="l" t="t" r="r" b="b"/>
            <a:pathLst>
              <a:path w="8608" h="5632">
                <a:moveTo>
                  <a:pt x="0" y="13593"/>
                </a:moveTo>
                <a:cubicBezTo>
                  <a:pt x="67" y="13623"/>
                  <a:pt x="142" y="13634"/>
                  <a:pt x="198" y="13667"/>
                </a:cubicBezTo>
              </a:path>
              <a:path w="8608" h="5632">
                <a:moveTo>
                  <a:pt x="4936" y="12477"/>
                </a:moveTo>
                <a:cubicBezTo>
                  <a:pt x="4906" y="12525"/>
                  <a:pt x="4906" y="12473"/>
                  <a:pt x="4887" y="12526"/>
                </a:cubicBezTo>
                <a:cubicBezTo>
                  <a:pt x="4855" y="12614"/>
                  <a:pt x="4830" y="12708"/>
                  <a:pt x="4812" y="12799"/>
                </a:cubicBezTo>
                <a:cubicBezTo>
                  <a:pt x="4783" y="12944"/>
                  <a:pt x="4766" y="13097"/>
                  <a:pt x="4762" y="13246"/>
                </a:cubicBezTo>
                <a:cubicBezTo>
                  <a:pt x="4758" y="13399"/>
                  <a:pt x="4777" y="13542"/>
                  <a:pt x="4787" y="13692"/>
                </a:cubicBezTo>
                <a:cubicBezTo>
                  <a:pt x="4799" y="13866"/>
                  <a:pt x="4792" y="14040"/>
                  <a:pt x="4812" y="14213"/>
                </a:cubicBezTo>
                <a:cubicBezTo>
                  <a:pt x="4835" y="14404"/>
                  <a:pt x="4819" y="14593"/>
                  <a:pt x="4837" y="14784"/>
                </a:cubicBezTo>
                <a:cubicBezTo>
                  <a:pt x="4856" y="14990"/>
                  <a:pt x="4843" y="15198"/>
                  <a:pt x="4862" y="15404"/>
                </a:cubicBezTo>
                <a:cubicBezTo>
                  <a:pt x="4882" y="15619"/>
                  <a:pt x="4907" y="15832"/>
                  <a:pt x="4911" y="16049"/>
                </a:cubicBezTo>
                <a:cubicBezTo>
                  <a:pt x="4915" y="16278"/>
                  <a:pt x="4919" y="16514"/>
                  <a:pt x="4936" y="16743"/>
                </a:cubicBezTo>
                <a:cubicBezTo>
                  <a:pt x="4959" y="17049"/>
                  <a:pt x="4964" y="17355"/>
                  <a:pt x="4986" y="17661"/>
                </a:cubicBezTo>
                <a:cubicBezTo>
                  <a:pt x="5006" y="17884"/>
                  <a:pt x="5015" y="17925"/>
                  <a:pt x="5011" y="18058"/>
                </a:cubicBezTo>
              </a:path>
              <a:path w="8608" h="5632">
                <a:moveTo>
                  <a:pt x="1910" y="14759"/>
                </a:moveTo>
                <a:cubicBezTo>
                  <a:pt x="2004" y="14759"/>
                  <a:pt x="2097" y="14779"/>
                  <a:pt x="2183" y="14784"/>
                </a:cubicBezTo>
                <a:cubicBezTo>
                  <a:pt x="2290" y="14790"/>
                  <a:pt x="2401" y="14802"/>
                  <a:pt x="2505" y="14808"/>
                </a:cubicBezTo>
                <a:cubicBezTo>
                  <a:pt x="2728" y="14822"/>
                  <a:pt x="2953" y="14818"/>
                  <a:pt x="3175" y="14833"/>
                </a:cubicBezTo>
                <a:cubicBezTo>
                  <a:pt x="3357" y="14846"/>
                  <a:pt x="3539" y="14845"/>
                  <a:pt x="3721" y="14858"/>
                </a:cubicBezTo>
                <a:cubicBezTo>
                  <a:pt x="3978" y="14877"/>
                  <a:pt x="4235" y="14876"/>
                  <a:pt x="4490" y="14908"/>
                </a:cubicBezTo>
                <a:cubicBezTo>
                  <a:pt x="4718" y="14937"/>
                  <a:pt x="4955" y="14967"/>
                  <a:pt x="5184" y="14982"/>
                </a:cubicBezTo>
                <a:cubicBezTo>
                  <a:pt x="5477" y="15001"/>
                  <a:pt x="5761" y="15039"/>
                  <a:pt x="6052" y="15081"/>
                </a:cubicBezTo>
                <a:cubicBezTo>
                  <a:pt x="6479" y="15142"/>
                  <a:pt x="6916" y="15271"/>
                  <a:pt x="7342" y="15304"/>
                </a:cubicBezTo>
                <a:cubicBezTo>
                  <a:pt x="7469" y="15314"/>
                  <a:pt x="7457" y="15283"/>
                  <a:pt x="7541" y="15230"/>
                </a:cubicBezTo>
              </a:path>
              <a:path w="8608" h="5632">
                <a:moveTo>
                  <a:pt x="3200" y="14560"/>
                </a:moveTo>
                <a:cubicBezTo>
                  <a:pt x="3225" y="14651"/>
                  <a:pt x="3246" y="14738"/>
                  <a:pt x="3249" y="14833"/>
                </a:cubicBezTo>
                <a:cubicBezTo>
                  <a:pt x="3253" y="14963"/>
                  <a:pt x="3229" y="15078"/>
                  <a:pt x="3225" y="15205"/>
                </a:cubicBezTo>
                <a:cubicBezTo>
                  <a:pt x="3223" y="15287"/>
                  <a:pt x="3225" y="15370"/>
                  <a:pt x="3225" y="15453"/>
                </a:cubicBezTo>
              </a:path>
              <a:path w="8608" h="5632">
                <a:moveTo>
                  <a:pt x="2853" y="15602"/>
                </a:moveTo>
                <a:cubicBezTo>
                  <a:pt x="2942" y="15621"/>
                  <a:pt x="3057" y="15648"/>
                  <a:pt x="3150" y="15627"/>
                </a:cubicBezTo>
                <a:cubicBezTo>
                  <a:pt x="3167" y="15619"/>
                  <a:pt x="3183" y="15610"/>
                  <a:pt x="3200" y="15602"/>
                </a:cubicBezTo>
              </a:path>
              <a:path w="8608" h="5632">
                <a:moveTo>
                  <a:pt x="3299" y="15503"/>
                </a:moveTo>
                <a:cubicBezTo>
                  <a:pt x="3343" y="15565"/>
                  <a:pt x="3407" y="15616"/>
                  <a:pt x="3448" y="15677"/>
                </a:cubicBezTo>
                <a:cubicBezTo>
                  <a:pt x="3468" y="15717"/>
                  <a:pt x="3466" y="15733"/>
                  <a:pt x="3497" y="15726"/>
                </a:cubicBezTo>
              </a:path>
              <a:path w="8608" h="5632">
                <a:moveTo>
                  <a:pt x="3448" y="15776"/>
                </a:moveTo>
                <a:cubicBezTo>
                  <a:pt x="3390" y="15776"/>
                  <a:pt x="3332" y="15776"/>
                  <a:pt x="3274" y="15776"/>
                </a:cubicBezTo>
                <a:cubicBezTo>
                  <a:pt x="3317" y="15830"/>
                  <a:pt x="3362" y="15889"/>
                  <a:pt x="3398" y="15949"/>
                </a:cubicBezTo>
                <a:cubicBezTo>
                  <a:pt x="3438" y="16015"/>
                  <a:pt x="3433" y="16104"/>
                  <a:pt x="3398" y="16173"/>
                </a:cubicBezTo>
                <a:cubicBezTo>
                  <a:pt x="3355" y="16258"/>
                  <a:pt x="3235" y="16181"/>
                  <a:pt x="3225" y="16123"/>
                </a:cubicBezTo>
                <a:cubicBezTo>
                  <a:pt x="3225" y="16064"/>
                  <a:pt x="3228" y="16038"/>
                  <a:pt x="3249" y="15999"/>
                </a:cubicBezTo>
              </a:path>
              <a:path w="8608" h="5632">
                <a:moveTo>
                  <a:pt x="6325" y="14908"/>
                </a:moveTo>
                <a:cubicBezTo>
                  <a:pt x="6367" y="14977"/>
                  <a:pt x="6350" y="15071"/>
                  <a:pt x="6350" y="15156"/>
                </a:cubicBezTo>
                <a:cubicBezTo>
                  <a:pt x="6350" y="15251"/>
                  <a:pt x="6348" y="15313"/>
                  <a:pt x="6325" y="15404"/>
                </a:cubicBezTo>
              </a:path>
              <a:path w="8608" h="5632">
                <a:moveTo>
                  <a:pt x="6152" y="15652"/>
                </a:moveTo>
                <a:cubicBezTo>
                  <a:pt x="6272" y="15676"/>
                  <a:pt x="6362" y="15670"/>
                  <a:pt x="6424" y="15776"/>
                </a:cubicBezTo>
                <a:cubicBezTo>
                  <a:pt x="6449" y="15819"/>
                  <a:pt x="6471" y="15905"/>
                  <a:pt x="6400" y="15925"/>
                </a:cubicBezTo>
                <a:cubicBezTo>
                  <a:pt x="6350" y="15925"/>
                  <a:pt x="6333" y="15925"/>
                  <a:pt x="6300" y="15925"/>
                </a:cubicBezTo>
                <a:cubicBezTo>
                  <a:pt x="6322" y="15961"/>
                  <a:pt x="6364" y="16027"/>
                  <a:pt x="6375" y="16073"/>
                </a:cubicBezTo>
                <a:cubicBezTo>
                  <a:pt x="6391" y="16142"/>
                  <a:pt x="6345" y="16224"/>
                  <a:pt x="6300" y="16272"/>
                </a:cubicBezTo>
                <a:cubicBezTo>
                  <a:pt x="6240" y="16336"/>
                  <a:pt x="6184" y="16374"/>
                  <a:pt x="6102" y="16321"/>
                </a:cubicBezTo>
                <a:cubicBezTo>
                  <a:pt x="5992" y="16250"/>
                  <a:pt x="5986" y="16181"/>
                  <a:pt x="5928" y="16073"/>
                </a:cubicBezTo>
              </a:path>
              <a:path w="8608" h="5632">
                <a:moveTo>
                  <a:pt x="471" y="14883"/>
                </a:moveTo>
                <a:cubicBezTo>
                  <a:pt x="560" y="14902"/>
                  <a:pt x="606" y="14908"/>
                  <a:pt x="695" y="14908"/>
                </a:cubicBezTo>
              </a:path>
              <a:path w="8608" h="5632">
                <a:moveTo>
                  <a:pt x="1364" y="15056"/>
                </a:moveTo>
                <a:cubicBezTo>
                  <a:pt x="1308" y="15101"/>
                  <a:pt x="1274" y="15110"/>
                  <a:pt x="1215" y="15131"/>
                </a:cubicBezTo>
                <a:cubicBezTo>
                  <a:pt x="1118" y="15165"/>
                  <a:pt x="1055" y="15125"/>
                  <a:pt x="967" y="15081"/>
                </a:cubicBezTo>
                <a:cubicBezTo>
                  <a:pt x="973" y="15042"/>
                  <a:pt x="990" y="14972"/>
                  <a:pt x="1042" y="14957"/>
                </a:cubicBezTo>
                <a:cubicBezTo>
                  <a:pt x="1115" y="14936"/>
                  <a:pt x="1157" y="14976"/>
                  <a:pt x="1215" y="15007"/>
                </a:cubicBezTo>
                <a:cubicBezTo>
                  <a:pt x="1289" y="15046"/>
                  <a:pt x="1330" y="15071"/>
                  <a:pt x="1389" y="15131"/>
                </a:cubicBezTo>
                <a:cubicBezTo>
                  <a:pt x="1440" y="15182"/>
                  <a:pt x="1499" y="15201"/>
                  <a:pt x="1563" y="15230"/>
                </a:cubicBezTo>
                <a:cubicBezTo>
                  <a:pt x="1605" y="15249"/>
                  <a:pt x="1668" y="15244"/>
                  <a:pt x="1687" y="15180"/>
                </a:cubicBezTo>
                <a:cubicBezTo>
                  <a:pt x="1706" y="15114"/>
                  <a:pt x="1647" y="14987"/>
                  <a:pt x="1612" y="14932"/>
                </a:cubicBezTo>
                <a:cubicBezTo>
                  <a:pt x="1595" y="14905"/>
                  <a:pt x="1560" y="14880"/>
                  <a:pt x="1538" y="14858"/>
                </a:cubicBezTo>
              </a:path>
              <a:path w="8608" h="5632">
                <a:moveTo>
                  <a:pt x="8508" y="15503"/>
                </a:moveTo>
                <a:cubicBezTo>
                  <a:pt x="8450" y="15525"/>
                  <a:pt x="8371" y="15567"/>
                  <a:pt x="8310" y="15577"/>
                </a:cubicBezTo>
                <a:cubicBezTo>
                  <a:pt x="8247" y="15588"/>
                  <a:pt x="8161" y="15585"/>
                  <a:pt x="8111" y="15553"/>
                </a:cubicBezTo>
                <a:cubicBezTo>
                  <a:pt x="8031" y="15501"/>
                  <a:pt x="8014" y="15475"/>
                  <a:pt x="7962" y="15404"/>
                </a:cubicBezTo>
                <a:cubicBezTo>
                  <a:pt x="7920" y="15348"/>
                  <a:pt x="7898" y="15351"/>
                  <a:pt x="7888" y="15280"/>
                </a:cubicBezTo>
                <a:cubicBezTo>
                  <a:pt x="7935" y="15320"/>
                  <a:pt x="7985" y="15370"/>
                  <a:pt x="8037" y="15404"/>
                </a:cubicBezTo>
                <a:cubicBezTo>
                  <a:pt x="8091" y="15439"/>
                  <a:pt x="8149" y="15479"/>
                  <a:pt x="8210" y="15503"/>
                </a:cubicBezTo>
                <a:cubicBezTo>
                  <a:pt x="8293" y="15536"/>
                  <a:pt x="8370" y="15528"/>
                  <a:pt x="8458" y="15528"/>
                </a:cubicBezTo>
                <a:cubicBezTo>
                  <a:pt x="8505" y="15528"/>
                  <a:pt x="8589" y="15542"/>
                  <a:pt x="8607" y="15478"/>
                </a:cubicBezTo>
                <a:cubicBezTo>
                  <a:pt x="8626" y="15412"/>
                  <a:pt x="8601" y="15372"/>
                  <a:pt x="8558" y="15329"/>
                </a:cubicBezTo>
                <a:cubicBezTo>
                  <a:pt x="8504" y="15274"/>
                  <a:pt x="8456" y="15280"/>
                  <a:pt x="8384" y="15280"/>
                </a:cubicBezTo>
                <a:cubicBezTo>
                  <a:pt x="8367" y="15280"/>
                  <a:pt x="8351" y="15280"/>
                  <a:pt x="8334" y="15280"/>
                </a:cubicBezTo>
              </a:path>
              <a:path w="8608" h="5632">
                <a:moveTo>
                  <a:pt x="620" y="14635"/>
                </a:moveTo>
                <a:cubicBezTo>
                  <a:pt x="674" y="14648"/>
                  <a:pt x="725" y="14668"/>
                  <a:pt x="794" y="14660"/>
                </a:cubicBezTo>
                <a:cubicBezTo>
                  <a:pt x="864" y="14652"/>
                  <a:pt x="919" y="14637"/>
                  <a:pt x="992" y="14635"/>
                </a:cubicBezTo>
                <a:cubicBezTo>
                  <a:pt x="1113" y="14631"/>
                  <a:pt x="1227" y="14649"/>
                  <a:pt x="1339" y="14660"/>
                </a:cubicBezTo>
                <a:cubicBezTo>
                  <a:pt x="1394" y="14666"/>
                  <a:pt x="1470" y="14680"/>
                  <a:pt x="1513" y="14684"/>
                </a:cubicBezTo>
                <a:cubicBezTo>
                  <a:pt x="1602" y="14692"/>
                  <a:pt x="1711" y="14702"/>
                  <a:pt x="1786" y="14709"/>
                </a:cubicBezTo>
                <a:cubicBezTo>
                  <a:pt x="1853" y="14715"/>
                  <a:pt x="1923" y="14728"/>
                  <a:pt x="1984" y="14734"/>
                </a:cubicBezTo>
                <a:cubicBezTo>
                  <a:pt x="2066" y="14742"/>
                  <a:pt x="2155" y="14751"/>
                  <a:pt x="2232" y="14759"/>
                </a:cubicBezTo>
                <a:cubicBezTo>
                  <a:pt x="2301" y="14766"/>
                  <a:pt x="2366" y="14764"/>
                  <a:pt x="2431" y="14784"/>
                </a:cubicBezTo>
                <a:cubicBezTo>
                  <a:pt x="2501" y="14805"/>
                  <a:pt x="2558" y="14794"/>
                  <a:pt x="2629" y="14808"/>
                </a:cubicBezTo>
                <a:cubicBezTo>
                  <a:pt x="2676" y="14817"/>
                  <a:pt x="2748" y="14822"/>
                  <a:pt x="2803" y="14833"/>
                </a:cubicBezTo>
                <a:cubicBezTo>
                  <a:pt x="2883" y="14849"/>
                  <a:pt x="2909" y="14841"/>
                  <a:pt x="3001" y="14833"/>
                </a:cubicBezTo>
                <a:cubicBezTo>
                  <a:pt x="3070" y="14827"/>
                  <a:pt x="3117" y="14828"/>
                  <a:pt x="3175" y="14808"/>
                </a:cubicBezTo>
                <a:cubicBezTo>
                  <a:pt x="3238" y="14787"/>
                  <a:pt x="3261" y="14738"/>
                  <a:pt x="3274" y="14684"/>
                </a:cubicBezTo>
                <a:cubicBezTo>
                  <a:pt x="3290" y="14613"/>
                  <a:pt x="3286" y="14532"/>
                  <a:pt x="3299" y="14461"/>
                </a:cubicBezTo>
                <a:cubicBezTo>
                  <a:pt x="3270" y="14477"/>
                  <a:pt x="3241" y="14460"/>
                  <a:pt x="3225" y="14560"/>
                </a:cubicBezTo>
                <a:cubicBezTo>
                  <a:pt x="3205" y="14684"/>
                  <a:pt x="3237" y="14824"/>
                  <a:pt x="3249" y="14932"/>
                </a:cubicBezTo>
                <a:cubicBezTo>
                  <a:pt x="3249" y="14949"/>
                  <a:pt x="3249" y="14965"/>
                  <a:pt x="3249" y="14982"/>
                </a:cubicBezTo>
                <a:cubicBezTo>
                  <a:pt x="3276" y="14903"/>
                  <a:pt x="3292" y="14819"/>
                  <a:pt x="3299" y="14734"/>
                </a:cubicBezTo>
                <a:cubicBezTo>
                  <a:pt x="3305" y="14656"/>
                  <a:pt x="3334" y="14404"/>
                  <a:pt x="3299" y="14486"/>
                </a:cubicBezTo>
                <a:cubicBezTo>
                  <a:pt x="3274" y="14546"/>
                  <a:pt x="3286" y="14592"/>
                  <a:pt x="3274" y="14660"/>
                </a:cubicBezTo>
                <a:cubicBezTo>
                  <a:pt x="3258" y="14750"/>
                  <a:pt x="3251" y="14817"/>
                  <a:pt x="3249" y="14908"/>
                </a:cubicBezTo>
                <a:cubicBezTo>
                  <a:pt x="3248" y="14966"/>
                  <a:pt x="3249" y="14924"/>
                  <a:pt x="3249" y="14982"/>
                </a:cubicBezTo>
                <a:cubicBezTo>
                  <a:pt x="3275" y="14905"/>
                  <a:pt x="3274" y="14841"/>
                  <a:pt x="3274" y="14759"/>
                </a:cubicBezTo>
                <a:cubicBezTo>
                  <a:pt x="3274" y="14680"/>
                  <a:pt x="3296" y="14617"/>
                  <a:pt x="3299" y="14536"/>
                </a:cubicBezTo>
                <a:cubicBezTo>
                  <a:pt x="3299" y="14519"/>
                  <a:pt x="3299" y="14503"/>
                  <a:pt x="3299" y="14486"/>
                </a:cubicBezTo>
                <a:cubicBezTo>
                  <a:pt x="3266" y="14556"/>
                  <a:pt x="3262" y="14582"/>
                  <a:pt x="3249" y="14660"/>
                </a:cubicBezTo>
                <a:cubicBezTo>
                  <a:pt x="3231" y="14764"/>
                  <a:pt x="3225" y="14852"/>
                  <a:pt x="3225" y="14957"/>
                </a:cubicBezTo>
                <a:cubicBezTo>
                  <a:pt x="3225" y="15026"/>
                  <a:pt x="3235" y="15069"/>
                  <a:pt x="3249" y="15131"/>
                </a:cubicBezTo>
                <a:cubicBezTo>
                  <a:pt x="3254" y="15060"/>
                  <a:pt x="3269" y="15001"/>
                  <a:pt x="3274" y="14932"/>
                </a:cubicBezTo>
                <a:cubicBezTo>
                  <a:pt x="3280" y="14853"/>
                  <a:pt x="3292" y="14785"/>
                  <a:pt x="3299" y="14709"/>
                </a:cubicBezTo>
                <a:cubicBezTo>
                  <a:pt x="3305" y="14644"/>
                  <a:pt x="3312" y="14589"/>
                  <a:pt x="3324" y="14536"/>
                </a:cubicBezTo>
                <a:cubicBezTo>
                  <a:pt x="3353" y="14413"/>
                  <a:pt x="3302" y="14606"/>
                  <a:pt x="3299" y="14635"/>
                </a:cubicBezTo>
                <a:cubicBezTo>
                  <a:pt x="3287" y="14759"/>
                  <a:pt x="3303" y="14921"/>
                  <a:pt x="3274" y="150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13"/>
          <p:cNvSpPr/>
          <p:nvPr/>
        </p:nvSpPr>
        <p:spPr>
          <a:xfrm>
            <a:off x="3652920" y="5010120"/>
            <a:ext cx="1125360" cy="490680"/>
          </a:xfrm>
          <a:custGeom>
            <a:avLst/>
            <a:gdLst/>
            <a:ahLst/>
            <a:rect l="l" t="t" r="r" b="b"/>
            <a:pathLst>
              <a:path w="3127" h="1366">
                <a:moveTo>
                  <a:pt x="10641" y="13915"/>
                </a:moveTo>
                <a:cubicBezTo>
                  <a:pt x="10649" y="13923"/>
                  <a:pt x="10658" y="13932"/>
                  <a:pt x="10666" y="13940"/>
                </a:cubicBezTo>
              </a:path>
              <a:path w="3127" h="1366">
                <a:moveTo>
                  <a:pt x="10145" y="14560"/>
                </a:moveTo>
                <a:cubicBezTo>
                  <a:pt x="10145" y="14698"/>
                  <a:pt x="10149" y="14827"/>
                  <a:pt x="10170" y="14957"/>
                </a:cubicBezTo>
                <a:cubicBezTo>
                  <a:pt x="10170" y="14999"/>
                  <a:pt x="10170" y="15007"/>
                  <a:pt x="10170" y="15032"/>
                </a:cubicBezTo>
              </a:path>
              <a:path w="3127" h="1366">
                <a:moveTo>
                  <a:pt x="10170" y="14337"/>
                </a:moveTo>
                <a:cubicBezTo>
                  <a:pt x="10208" y="14281"/>
                  <a:pt x="10203" y="14256"/>
                  <a:pt x="10244" y="14263"/>
                </a:cubicBezTo>
              </a:path>
              <a:path w="3127" h="1366">
                <a:moveTo>
                  <a:pt x="10393" y="14635"/>
                </a:moveTo>
                <a:cubicBezTo>
                  <a:pt x="10393" y="14716"/>
                  <a:pt x="10382" y="14749"/>
                  <a:pt x="10418" y="14808"/>
                </a:cubicBezTo>
                <a:cubicBezTo>
                  <a:pt x="10449" y="14748"/>
                  <a:pt x="10446" y="14677"/>
                  <a:pt x="10468" y="14610"/>
                </a:cubicBezTo>
                <a:cubicBezTo>
                  <a:pt x="10481" y="14570"/>
                  <a:pt x="10489" y="14476"/>
                  <a:pt x="10542" y="14461"/>
                </a:cubicBezTo>
                <a:cubicBezTo>
                  <a:pt x="10609" y="14442"/>
                  <a:pt x="10641" y="14513"/>
                  <a:pt x="10666" y="14560"/>
                </a:cubicBezTo>
                <a:cubicBezTo>
                  <a:pt x="10705" y="14633"/>
                  <a:pt x="10714" y="14709"/>
                  <a:pt x="10740" y="14784"/>
                </a:cubicBezTo>
                <a:cubicBezTo>
                  <a:pt x="10759" y="14841"/>
                  <a:pt x="10750" y="14866"/>
                  <a:pt x="10790" y="14858"/>
                </a:cubicBezTo>
              </a:path>
              <a:path w="3127" h="1366">
                <a:moveTo>
                  <a:pt x="11088" y="14312"/>
                </a:moveTo>
                <a:cubicBezTo>
                  <a:pt x="11028" y="14431"/>
                  <a:pt x="11013" y="14479"/>
                  <a:pt x="11013" y="14610"/>
                </a:cubicBezTo>
                <a:cubicBezTo>
                  <a:pt x="11013" y="14708"/>
                  <a:pt x="11007" y="14820"/>
                  <a:pt x="11063" y="14908"/>
                </a:cubicBezTo>
                <a:cubicBezTo>
                  <a:pt x="11109" y="14954"/>
                  <a:pt x="11123" y="14966"/>
                  <a:pt x="11137" y="15007"/>
                </a:cubicBezTo>
              </a:path>
              <a:path w="3127" h="1366">
                <a:moveTo>
                  <a:pt x="11534" y="14362"/>
                </a:moveTo>
                <a:cubicBezTo>
                  <a:pt x="11584" y="14378"/>
                  <a:pt x="11714" y="14395"/>
                  <a:pt x="11683" y="14486"/>
                </a:cubicBezTo>
                <a:cubicBezTo>
                  <a:pt x="11669" y="14527"/>
                  <a:pt x="11571" y="14598"/>
                  <a:pt x="11534" y="14610"/>
                </a:cubicBezTo>
                <a:cubicBezTo>
                  <a:pt x="11501" y="14610"/>
                  <a:pt x="11485" y="14610"/>
                  <a:pt x="11460" y="14610"/>
                </a:cubicBezTo>
                <a:cubicBezTo>
                  <a:pt x="11537" y="14619"/>
                  <a:pt x="11596" y="14637"/>
                  <a:pt x="11658" y="14684"/>
                </a:cubicBezTo>
                <a:cubicBezTo>
                  <a:pt x="11724" y="14733"/>
                  <a:pt x="11708" y="14812"/>
                  <a:pt x="11708" y="14883"/>
                </a:cubicBezTo>
                <a:cubicBezTo>
                  <a:pt x="11708" y="14975"/>
                  <a:pt x="11674" y="14984"/>
                  <a:pt x="11609" y="15032"/>
                </a:cubicBezTo>
                <a:cubicBezTo>
                  <a:pt x="11564" y="15065"/>
                  <a:pt x="11527" y="15069"/>
                  <a:pt x="11485" y="15032"/>
                </a:cubicBezTo>
                <a:cubicBezTo>
                  <a:pt x="11477" y="15024"/>
                  <a:pt x="11468" y="15015"/>
                  <a:pt x="11460" y="15007"/>
                </a:cubicBezTo>
              </a:path>
              <a:path w="3127" h="1366">
                <a:moveTo>
                  <a:pt x="12005" y="14784"/>
                </a:moveTo>
                <a:cubicBezTo>
                  <a:pt x="12016" y="14870"/>
                  <a:pt x="12029" y="14943"/>
                  <a:pt x="12005" y="15032"/>
                </a:cubicBezTo>
                <a:cubicBezTo>
                  <a:pt x="11985" y="15107"/>
                  <a:pt x="11948" y="15180"/>
                  <a:pt x="11931" y="15255"/>
                </a:cubicBezTo>
                <a:cubicBezTo>
                  <a:pt x="11931" y="15263"/>
                  <a:pt x="11931" y="15272"/>
                  <a:pt x="11931" y="15280"/>
                </a:cubicBezTo>
              </a:path>
              <a:path w="3127" h="1366">
                <a:moveTo>
                  <a:pt x="12700" y="14635"/>
                </a:moveTo>
                <a:cubicBezTo>
                  <a:pt x="12737" y="14739"/>
                  <a:pt x="12762" y="14828"/>
                  <a:pt x="12675" y="14932"/>
                </a:cubicBezTo>
                <a:cubicBezTo>
                  <a:pt x="12652" y="14959"/>
                  <a:pt x="12538" y="15019"/>
                  <a:pt x="12502" y="15007"/>
                </a:cubicBezTo>
                <a:cubicBezTo>
                  <a:pt x="12452" y="14990"/>
                  <a:pt x="12429" y="14924"/>
                  <a:pt x="12427" y="14883"/>
                </a:cubicBezTo>
                <a:cubicBezTo>
                  <a:pt x="12423" y="14808"/>
                  <a:pt x="12433" y="14747"/>
                  <a:pt x="12477" y="14684"/>
                </a:cubicBezTo>
                <a:cubicBezTo>
                  <a:pt x="12485" y="14676"/>
                  <a:pt x="12494" y="14668"/>
                  <a:pt x="12502" y="14660"/>
                </a:cubicBezTo>
                <a:cubicBezTo>
                  <a:pt x="12549" y="14707"/>
                  <a:pt x="12585" y="14759"/>
                  <a:pt x="12626" y="14808"/>
                </a:cubicBezTo>
                <a:cubicBezTo>
                  <a:pt x="12698" y="14896"/>
                  <a:pt x="12780" y="14970"/>
                  <a:pt x="12874" y="15007"/>
                </a:cubicBezTo>
                <a:cubicBezTo>
                  <a:pt x="12940" y="15033"/>
                  <a:pt x="12965" y="15010"/>
                  <a:pt x="13022" y="14957"/>
                </a:cubicBezTo>
                <a:cubicBezTo>
                  <a:pt x="13094" y="14890"/>
                  <a:pt x="13097" y="14852"/>
                  <a:pt x="13097" y="14759"/>
                </a:cubicBezTo>
                <a:cubicBezTo>
                  <a:pt x="13097" y="14652"/>
                  <a:pt x="13042" y="14577"/>
                  <a:pt x="12973" y="14511"/>
                </a:cubicBezTo>
                <a:cubicBezTo>
                  <a:pt x="12931" y="14471"/>
                  <a:pt x="12922" y="14448"/>
                  <a:pt x="12874" y="14436"/>
                </a:cubicBezTo>
              </a:path>
              <a:path w="3127" h="1366">
                <a:moveTo>
                  <a:pt x="13271" y="14684"/>
                </a:moveTo>
                <a:cubicBezTo>
                  <a:pt x="13241" y="14854"/>
                  <a:pt x="13257" y="15193"/>
                  <a:pt x="13022" y="15255"/>
                </a:cubicBezTo>
                <a:cubicBezTo>
                  <a:pt x="12989" y="15255"/>
                  <a:pt x="12956" y="15255"/>
                  <a:pt x="12923" y="15255"/>
                </a:cubicBezTo>
              </a:path>
              <a:path w="3127" h="1366">
                <a:moveTo>
                  <a:pt x="10914" y="14560"/>
                </a:moveTo>
                <a:cubicBezTo>
                  <a:pt x="10938" y="14608"/>
                  <a:pt x="10944" y="14625"/>
                  <a:pt x="10988" y="14610"/>
                </a:cubicBezTo>
                <a:cubicBezTo>
                  <a:pt x="10988" y="14556"/>
                  <a:pt x="11004" y="14436"/>
                  <a:pt x="10914" y="14436"/>
                </a:cubicBezTo>
                <a:cubicBezTo>
                  <a:pt x="10886" y="14436"/>
                  <a:pt x="10799" y="14516"/>
                  <a:pt x="10790" y="14536"/>
                </a:cubicBezTo>
                <a:cubicBezTo>
                  <a:pt x="10762" y="14595"/>
                  <a:pt x="10755" y="14703"/>
                  <a:pt x="10790" y="14759"/>
                </a:cubicBezTo>
                <a:cubicBezTo>
                  <a:pt x="10831" y="14826"/>
                  <a:pt x="10921" y="14895"/>
                  <a:pt x="10988" y="14932"/>
                </a:cubicBezTo>
                <a:cubicBezTo>
                  <a:pt x="11038" y="14957"/>
                  <a:pt x="11055" y="14965"/>
                  <a:pt x="11088" y="149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14"/>
          <p:cNvSpPr/>
          <p:nvPr/>
        </p:nvSpPr>
        <p:spPr>
          <a:xfrm>
            <a:off x="3537000" y="4867200"/>
            <a:ext cx="534960" cy="223920"/>
          </a:xfrm>
          <a:custGeom>
            <a:avLst/>
            <a:gdLst/>
            <a:ahLst/>
            <a:rect l="l" t="t" r="r" b="b"/>
            <a:pathLst>
              <a:path w="1489" h="621">
                <a:moveTo>
                  <a:pt x="10145" y="13816"/>
                </a:moveTo>
                <a:cubicBezTo>
                  <a:pt x="10175" y="13767"/>
                  <a:pt x="10171" y="13699"/>
                  <a:pt x="10145" y="13643"/>
                </a:cubicBezTo>
                <a:cubicBezTo>
                  <a:pt x="10123" y="13596"/>
                  <a:pt x="10058" y="13570"/>
                  <a:pt x="10021" y="13543"/>
                </a:cubicBezTo>
                <a:cubicBezTo>
                  <a:pt x="9974" y="13508"/>
                  <a:pt x="9883" y="13504"/>
                  <a:pt x="9847" y="13568"/>
                </a:cubicBezTo>
                <a:cubicBezTo>
                  <a:pt x="9802" y="13647"/>
                  <a:pt x="9821" y="13739"/>
                  <a:pt x="9847" y="13816"/>
                </a:cubicBezTo>
                <a:cubicBezTo>
                  <a:pt x="9881" y="13918"/>
                  <a:pt x="9946" y="13973"/>
                  <a:pt x="10021" y="14039"/>
                </a:cubicBezTo>
                <a:cubicBezTo>
                  <a:pt x="10038" y="14056"/>
                  <a:pt x="10054" y="14072"/>
                  <a:pt x="10071" y="14089"/>
                </a:cubicBezTo>
              </a:path>
              <a:path w="1489" h="621">
                <a:moveTo>
                  <a:pt x="10368" y="13742"/>
                </a:moveTo>
                <a:cubicBezTo>
                  <a:pt x="10316" y="13786"/>
                  <a:pt x="10278" y="13855"/>
                  <a:pt x="10294" y="13940"/>
                </a:cubicBezTo>
                <a:cubicBezTo>
                  <a:pt x="10301" y="13977"/>
                  <a:pt x="10363" y="14068"/>
                  <a:pt x="10393" y="14089"/>
                </a:cubicBezTo>
                <a:cubicBezTo>
                  <a:pt x="10451" y="14130"/>
                  <a:pt x="10504" y="14122"/>
                  <a:pt x="10542" y="14064"/>
                </a:cubicBezTo>
                <a:cubicBezTo>
                  <a:pt x="10569" y="14022"/>
                  <a:pt x="10628" y="13942"/>
                  <a:pt x="10616" y="13891"/>
                </a:cubicBezTo>
                <a:cubicBezTo>
                  <a:pt x="10603" y="13835"/>
                  <a:pt x="10551" y="13762"/>
                  <a:pt x="10517" y="13717"/>
                </a:cubicBezTo>
                <a:cubicBezTo>
                  <a:pt x="10456" y="13636"/>
                  <a:pt x="10410" y="13710"/>
                  <a:pt x="10418" y="13767"/>
                </a:cubicBezTo>
              </a:path>
              <a:path w="1489" h="621">
                <a:moveTo>
                  <a:pt x="10666" y="13841"/>
                </a:moveTo>
                <a:cubicBezTo>
                  <a:pt x="10666" y="13914"/>
                  <a:pt x="10650" y="13969"/>
                  <a:pt x="10641" y="14039"/>
                </a:cubicBezTo>
                <a:cubicBezTo>
                  <a:pt x="10650" y="13975"/>
                  <a:pt x="10666" y="13937"/>
                  <a:pt x="10666" y="13866"/>
                </a:cubicBezTo>
                <a:cubicBezTo>
                  <a:pt x="10666" y="13814"/>
                  <a:pt x="10695" y="13735"/>
                  <a:pt x="10716" y="13692"/>
                </a:cubicBezTo>
                <a:cubicBezTo>
                  <a:pt x="10724" y="13684"/>
                  <a:pt x="10732" y="13675"/>
                  <a:pt x="10740" y="13667"/>
                </a:cubicBezTo>
                <a:cubicBezTo>
                  <a:pt x="10824" y="13691"/>
                  <a:pt x="10845" y="13769"/>
                  <a:pt x="10864" y="13866"/>
                </a:cubicBezTo>
                <a:cubicBezTo>
                  <a:pt x="10878" y="13936"/>
                  <a:pt x="10888" y="14001"/>
                  <a:pt x="10939" y="14039"/>
                </a:cubicBezTo>
              </a:path>
              <a:path w="1489" h="621">
                <a:moveTo>
                  <a:pt x="11088" y="13742"/>
                </a:moveTo>
                <a:cubicBezTo>
                  <a:pt x="11063" y="13742"/>
                  <a:pt x="11038" y="13742"/>
                  <a:pt x="11013" y="13742"/>
                </a:cubicBezTo>
                <a:cubicBezTo>
                  <a:pt x="11044" y="13859"/>
                  <a:pt x="11087" y="13935"/>
                  <a:pt x="11137" y="14039"/>
                </a:cubicBezTo>
                <a:cubicBezTo>
                  <a:pt x="11162" y="14089"/>
                  <a:pt x="11170" y="14106"/>
                  <a:pt x="11137" y="14139"/>
                </a:cubicBezTo>
                <a:cubicBezTo>
                  <a:pt x="11091" y="14112"/>
                  <a:pt x="11028" y="14069"/>
                  <a:pt x="11013" y="14015"/>
                </a:cubicBezTo>
                <a:cubicBezTo>
                  <a:pt x="11013" y="13963"/>
                  <a:pt x="11014" y="13945"/>
                  <a:pt x="11038" y="13915"/>
                </a:cubicBezTo>
              </a:path>
              <a:path w="1489" h="621">
                <a:moveTo>
                  <a:pt x="11311" y="13643"/>
                </a:moveTo>
                <a:cubicBezTo>
                  <a:pt x="11262" y="13755"/>
                  <a:pt x="11261" y="13796"/>
                  <a:pt x="11261" y="13915"/>
                </a:cubicBezTo>
                <a:cubicBezTo>
                  <a:pt x="11261" y="13968"/>
                  <a:pt x="11275" y="13972"/>
                  <a:pt x="11286" y="14015"/>
                </a:cubicBezTo>
              </a:path>
              <a:path w="1489" h="621">
                <a:moveTo>
                  <a:pt x="11162" y="13742"/>
                </a:moveTo>
                <a:cubicBezTo>
                  <a:pt x="11212" y="13742"/>
                  <a:pt x="11261" y="13742"/>
                  <a:pt x="11311" y="137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5"/>
          <p:cNvSpPr/>
          <p:nvPr/>
        </p:nvSpPr>
        <p:spPr>
          <a:xfrm>
            <a:off x="4187880" y="4894200"/>
            <a:ext cx="19080" cy="142920"/>
          </a:xfrm>
          <a:custGeom>
            <a:avLst/>
            <a:gdLst/>
            <a:ahLst/>
            <a:rect l="l" t="t" r="r" b="b"/>
            <a:pathLst>
              <a:path w="51" h="398">
                <a:moveTo>
                  <a:pt x="11658" y="13593"/>
                </a:moveTo>
                <a:cubicBezTo>
                  <a:pt x="11678" y="13633"/>
                  <a:pt x="11687" y="13640"/>
                  <a:pt x="11683" y="13667"/>
                </a:cubicBezTo>
              </a:path>
              <a:path w="51" h="398">
                <a:moveTo>
                  <a:pt x="11633" y="13915"/>
                </a:moveTo>
                <a:cubicBezTo>
                  <a:pt x="11641" y="13940"/>
                  <a:pt x="11650" y="13965"/>
                  <a:pt x="11658" y="139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16"/>
          <p:cNvSpPr/>
          <p:nvPr/>
        </p:nvSpPr>
        <p:spPr>
          <a:xfrm>
            <a:off x="4303800" y="4830840"/>
            <a:ext cx="376200" cy="339480"/>
          </a:xfrm>
          <a:custGeom>
            <a:avLst/>
            <a:gdLst/>
            <a:ahLst/>
            <a:rect l="l" t="t" r="r" b="b"/>
            <a:pathLst>
              <a:path w="1043" h="944">
                <a:moveTo>
                  <a:pt x="12105" y="13419"/>
                </a:moveTo>
                <a:cubicBezTo>
                  <a:pt x="12061" y="13515"/>
                  <a:pt x="12011" y="13586"/>
                  <a:pt x="11981" y="13692"/>
                </a:cubicBezTo>
                <a:cubicBezTo>
                  <a:pt x="11947" y="13813"/>
                  <a:pt x="11947" y="13919"/>
                  <a:pt x="11981" y="14039"/>
                </a:cubicBezTo>
                <a:cubicBezTo>
                  <a:pt x="12007" y="14132"/>
                  <a:pt x="12012" y="14177"/>
                  <a:pt x="12055" y="14263"/>
                </a:cubicBezTo>
              </a:path>
              <a:path w="1043" h="944">
                <a:moveTo>
                  <a:pt x="12204" y="13915"/>
                </a:moveTo>
                <a:cubicBezTo>
                  <a:pt x="12285" y="13937"/>
                  <a:pt x="12344" y="13940"/>
                  <a:pt x="12427" y="13940"/>
                </a:cubicBezTo>
              </a:path>
              <a:path w="1043" h="944">
                <a:moveTo>
                  <a:pt x="12675" y="13593"/>
                </a:moveTo>
                <a:cubicBezTo>
                  <a:pt x="12786" y="13600"/>
                  <a:pt x="12840" y="13593"/>
                  <a:pt x="12923" y="13667"/>
                </a:cubicBezTo>
                <a:cubicBezTo>
                  <a:pt x="12931" y="13675"/>
                  <a:pt x="12940" y="13684"/>
                  <a:pt x="12948" y="13692"/>
                </a:cubicBezTo>
                <a:cubicBezTo>
                  <a:pt x="12907" y="13765"/>
                  <a:pt x="12886" y="13786"/>
                  <a:pt x="12799" y="13791"/>
                </a:cubicBezTo>
                <a:cubicBezTo>
                  <a:pt x="12738" y="13794"/>
                  <a:pt x="12705" y="13813"/>
                  <a:pt x="12650" y="13841"/>
                </a:cubicBezTo>
                <a:cubicBezTo>
                  <a:pt x="12708" y="13899"/>
                  <a:pt x="12751" y="13892"/>
                  <a:pt x="12824" y="13915"/>
                </a:cubicBezTo>
                <a:cubicBezTo>
                  <a:pt x="12900" y="13939"/>
                  <a:pt x="12986" y="13965"/>
                  <a:pt x="12948" y="14064"/>
                </a:cubicBezTo>
                <a:cubicBezTo>
                  <a:pt x="12927" y="14119"/>
                  <a:pt x="12792" y="14138"/>
                  <a:pt x="12750" y="14114"/>
                </a:cubicBezTo>
                <a:cubicBezTo>
                  <a:pt x="12750" y="14106"/>
                  <a:pt x="12750" y="14097"/>
                  <a:pt x="12750" y="14089"/>
                </a:cubicBezTo>
              </a:path>
              <a:path w="1043" h="944">
                <a:moveTo>
                  <a:pt x="12998" y="14163"/>
                </a:moveTo>
                <a:cubicBezTo>
                  <a:pt x="12984" y="14215"/>
                  <a:pt x="12899" y="14386"/>
                  <a:pt x="12998" y="143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nk 17"/>
          <p:cNvSpPr/>
          <p:nvPr/>
        </p:nvSpPr>
        <p:spPr>
          <a:xfrm>
            <a:off x="4803840" y="4867200"/>
            <a:ext cx="233280" cy="303120"/>
          </a:xfrm>
          <a:custGeom>
            <a:avLst/>
            <a:gdLst/>
            <a:ahLst/>
            <a:rect l="l" t="t" r="r" b="b"/>
            <a:pathLst>
              <a:path w="646" h="844">
                <a:moveTo>
                  <a:pt x="13345" y="13767"/>
                </a:moveTo>
                <a:cubicBezTo>
                  <a:pt x="13395" y="13695"/>
                  <a:pt x="13408" y="13648"/>
                  <a:pt x="13494" y="13643"/>
                </a:cubicBezTo>
                <a:cubicBezTo>
                  <a:pt x="13570" y="13639"/>
                  <a:pt x="13609" y="13688"/>
                  <a:pt x="13593" y="13767"/>
                </a:cubicBezTo>
                <a:cubicBezTo>
                  <a:pt x="13582" y="13824"/>
                  <a:pt x="13509" y="13852"/>
                  <a:pt x="13469" y="13891"/>
                </a:cubicBezTo>
                <a:cubicBezTo>
                  <a:pt x="13437" y="13922"/>
                  <a:pt x="13407" y="13918"/>
                  <a:pt x="13370" y="13940"/>
                </a:cubicBezTo>
                <a:cubicBezTo>
                  <a:pt x="13452" y="13931"/>
                  <a:pt x="13533" y="13900"/>
                  <a:pt x="13618" y="13915"/>
                </a:cubicBezTo>
                <a:cubicBezTo>
                  <a:pt x="13781" y="13943"/>
                  <a:pt x="13721" y="14014"/>
                  <a:pt x="13667" y="14089"/>
                </a:cubicBezTo>
                <a:cubicBezTo>
                  <a:pt x="13621" y="14153"/>
                  <a:pt x="13577" y="14207"/>
                  <a:pt x="13494" y="14163"/>
                </a:cubicBezTo>
                <a:cubicBezTo>
                  <a:pt x="13486" y="14155"/>
                  <a:pt x="13477" y="14147"/>
                  <a:pt x="13469" y="14139"/>
                </a:cubicBezTo>
              </a:path>
              <a:path w="646" h="844">
                <a:moveTo>
                  <a:pt x="13940" y="13519"/>
                </a:moveTo>
                <a:cubicBezTo>
                  <a:pt x="13985" y="13653"/>
                  <a:pt x="13993" y="13726"/>
                  <a:pt x="13965" y="13866"/>
                </a:cubicBezTo>
                <a:cubicBezTo>
                  <a:pt x="13932" y="14034"/>
                  <a:pt x="13905" y="14158"/>
                  <a:pt x="13791" y="14288"/>
                </a:cubicBezTo>
                <a:cubicBezTo>
                  <a:pt x="13721" y="14368"/>
                  <a:pt x="13667" y="14362"/>
                  <a:pt x="13568" y="143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nk 18"/>
          <p:cNvSpPr/>
          <p:nvPr/>
        </p:nvSpPr>
        <p:spPr>
          <a:xfrm>
            <a:off x="7259760" y="5224320"/>
            <a:ext cx="304560" cy="384480"/>
          </a:xfrm>
          <a:custGeom>
            <a:avLst/>
            <a:gdLst/>
            <a:ahLst/>
            <a:rect l="l" t="t" r="r" b="b"/>
            <a:pathLst>
              <a:path w="845" h="1067">
                <a:moveTo>
                  <a:pt x="20166" y="14511"/>
                </a:moveTo>
                <a:cubicBezTo>
                  <a:pt x="20177" y="14616"/>
                  <a:pt x="20208" y="14708"/>
                  <a:pt x="20241" y="14808"/>
                </a:cubicBezTo>
                <a:cubicBezTo>
                  <a:pt x="20278" y="14922"/>
                  <a:pt x="20314" y="15050"/>
                  <a:pt x="20365" y="15156"/>
                </a:cubicBezTo>
                <a:cubicBezTo>
                  <a:pt x="20412" y="15253"/>
                  <a:pt x="20504" y="15383"/>
                  <a:pt x="20588" y="15453"/>
                </a:cubicBezTo>
                <a:cubicBezTo>
                  <a:pt x="20659" y="15512"/>
                  <a:pt x="20719" y="15572"/>
                  <a:pt x="20811" y="15577"/>
                </a:cubicBezTo>
                <a:cubicBezTo>
                  <a:pt x="20893" y="15581"/>
                  <a:pt x="20948" y="15584"/>
                  <a:pt x="20985" y="15503"/>
                </a:cubicBezTo>
                <a:cubicBezTo>
                  <a:pt x="20993" y="15478"/>
                  <a:pt x="21002" y="15454"/>
                  <a:pt x="21010" y="154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Ink 19"/>
          <p:cNvSpPr/>
          <p:nvPr/>
        </p:nvSpPr>
        <p:spPr>
          <a:xfrm>
            <a:off x="4419720" y="3759120"/>
            <a:ext cx="455400" cy="135000"/>
          </a:xfrm>
          <a:custGeom>
            <a:avLst/>
            <a:gdLst/>
            <a:ahLst/>
            <a:rect l="l" t="t" r="r" b="b"/>
            <a:pathLst>
              <a:path w="1266" h="373">
                <a:moveTo>
                  <a:pt x="12278" y="10443"/>
                </a:moveTo>
                <a:cubicBezTo>
                  <a:pt x="12400" y="10460"/>
                  <a:pt x="12532" y="10466"/>
                  <a:pt x="12650" y="10492"/>
                </a:cubicBezTo>
                <a:cubicBezTo>
                  <a:pt x="12675" y="10500"/>
                  <a:pt x="12700" y="10509"/>
                  <a:pt x="12725" y="10517"/>
                </a:cubicBezTo>
              </a:path>
              <a:path w="1266" h="373">
                <a:moveTo>
                  <a:pt x="13246" y="10592"/>
                </a:moveTo>
                <a:cubicBezTo>
                  <a:pt x="13170" y="10661"/>
                  <a:pt x="13126" y="10710"/>
                  <a:pt x="13022" y="10716"/>
                </a:cubicBezTo>
                <a:cubicBezTo>
                  <a:pt x="12928" y="10721"/>
                  <a:pt x="12837" y="10720"/>
                  <a:pt x="12750" y="10691"/>
                </a:cubicBezTo>
                <a:cubicBezTo>
                  <a:pt x="12678" y="10667"/>
                  <a:pt x="12672" y="10664"/>
                  <a:pt x="12626" y="10616"/>
                </a:cubicBezTo>
                <a:cubicBezTo>
                  <a:pt x="12697" y="10559"/>
                  <a:pt x="12761" y="10566"/>
                  <a:pt x="12849" y="10592"/>
                </a:cubicBezTo>
                <a:cubicBezTo>
                  <a:pt x="12927" y="10615"/>
                  <a:pt x="12982" y="10660"/>
                  <a:pt x="13047" y="10691"/>
                </a:cubicBezTo>
                <a:cubicBezTo>
                  <a:pt x="13135" y="10733"/>
                  <a:pt x="13230" y="10756"/>
                  <a:pt x="13320" y="10790"/>
                </a:cubicBezTo>
                <a:cubicBezTo>
                  <a:pt x="13400" y="10820"/>
                  <a:pt x="13444" y="10818"/>
                  <a:pt x="13519" y="10765"/>
                </a:cubicBezTo>
                <a:cubicBezTo>
                  <a:pt x="13590" y="10715"/>
                  <a:pt x="13521" y="10642"/>
                  <a:pt x="13494" y="10592"/>
                </a:cubicBezTo>
                <a:cubicBezTo>
                  <a:pt x="13462" y="10532"/>
                  <a:pt x="13404" y="10504"/>
                  <a:pt x="13345" y="10492"/>
                </a:cubicBezTo>
                <a:cubicBezTo>
                  <a:pt x="13304" y="10492"/>
                  <a:pt x="13296" y="10492"/>
                  <a:pt x="13271" y="104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Ink 20"/>
          <p:cNvSpPr/>
          <p:nvPr/>
        </p:nvSpPr>
        <p:spPr>
          <a:xfrm>
            <a:off x="4973760" y="3625920"/>
            <a:ext cx="1135080" cy="115920"/>
          </a:xfrm>
          <a:custGeom>
            <a:avLst/>
            <a:gdLst/>
            <a:ahLst/>
            <a:rect l="l" t="t" r="r" b="b"/>
            <a:pathLst>
              <a:path w="3151" h="323">
                <a:moveTo>
                  <a:pt x="13816" y="10170"/>
                </a:moveTo>
                <a:cubicBezTo>
                  <a:pt x="13816" y="10162"/>
                  <a:pt x="13816" y="10153"/>
                  <a:pt x="13816" y="10145"/>
                </a:cubicBezTo>
              </a:path>
              <a:path w="3151" h="323">
                <a:moveTo>
                  <a:pt x="13965" y="10120"/>
                </a:moveTo>
                <a:cubicBezTo>
                  <a:pt x="14023" y="10149"/>
                  <a:pt x="14068" y="10145"/>
                  <a:pt x="14139" y="10145"/>
                </a:cubicBezTo>
              </a:path>
              <a:path w="3151" h="323">
                <a:moveTo>
                  <a:pt x="14337" y="10195"/>
                </a:moveTo>
                <a:cubicBezTo>
                  <a:pt x="14383" y="10222"/>
                  <a:pt x="14403" y="10220"/>
                  <a:pt x="14461" y="10220"/>
                </a:cubicBezTo>
              </a:path>
              <a:path w="3151" h="323">
                <a:moveTo>
                  <a:pt x="14660" y="10244"/>
                </a:moveTo>
                <a:cubicBezTo>
                  <a:pt x="14709" y="10244"/>
                  <a:pt x="14726" y="10244"/>
                  <a:pt x="14759" y="10244"/>
                </a:cubicBezTo>
              </a:path>
              <a:path w="3151" h="323">
                <a:moveTo>
                  <a:pt x="14908" y="10244"/>
                </a:moveTo>
                <a:cubicBezTo>
                  <a:pt x="14942" y="10210"/>
                  <a:pt x="14963" y="10202"/>
                  <a:pt x="15007" y="10220"/>
                </a:cubicBezTo>
              </a:path>
              <a:path w="3151" h="323">
                <a:moveTo>
                  <a:pt x="15280" y="10220"/>
                </a:moveTo>
                <a:cubicBezTo>
                  <a:pt x="15328" y="10196"/>
                  <a:pt x="15342" y="10187"/>
                  <a:pt x="15379" y="10195"/>
                </a:cubicBezTo>
              </a:path>
              <a:path w="3151" h="323">
                <a:moveTo>
                  <a:pt x="15677" y="10220"/>
                </a:moveTo>
                <a:cubicBezTo>
                  <a:pt x="15714" y="10242"/>
                  <a:pt x="15729" y="10244"/>
                  <a:pt x="15776" y="10244"/>
                </a:cubicBezTo>
              </a:path>
              <a:path w="3151" h="323">
                <a:moveTo>
                  <a:pt x="15999" y="10244"/>
                </a:moveTo>
                <a:cubicBezTo>
                  <a:pt x="16051" y="10244"/>
                  <a:pt x="16069" y="10243"/>
                  <a:pt x="16098" y="10220"/>
                </a:cubicBezTo>
              </a:path>
              <a:path w="3151" h="323">
                <a:moveTo>
                  <a:pt x="16321" y="10220"/>
                </a:moveTo>
                <a:cubicBezTo>
                  <a:pt x="16363" y="10220"/>
                  <a:pt x="16404" y="10220"/>
                  <a:pt x="16446" y="10220"/>
                </a:cubicBezTo>
              </a:path>
              <a:path w="3151" h="323">
                <a:moveTo>
                  <a:pt x="16594" y="10195"/>
                </a:moveTo>
                <a:cubicBezTo>
                  <a:pt x="16660" y="10204"/>
                  <a:pt x="16676" y="10240"/>
                  <a:pt x="16743" y="10244"/>
                </a:cubicBezTo>
                <a:cubicBezTo>
                  <a:pt x="16795" y="10244"/>
                  <a:pt x="16812" y="10243"/>
                  <a:pt x="16818" y="10195"/>
                </a:cubicBezTo>
                <a:cubicBezTo>
                  <a:pt x="16812" y="10154"/>
                  <a:pt x="16733" y="10045"/>
                  <a:pt x="16694" y="10145"/>
                </a:cubicBezTo>
                <a:cubicBezTo>
                  <a:pt x="16678" y="10186"/>
                  <a:pt x="16825" y="10216"/>
                  <a:pt x="16842" y="10195"/>
                </a:cubicBezTo>
                <a:cubicBezTo>
                  <a:pt x="16904" y="10116"/>
                  <a:pt x="16718" y="10138"/>
                  <a:pt x="16718" y="10195"/>
                </a:cubicBezTo>
                <a:cubicBezTo>
                  <a:pt x="16718" y="10256"/>
                  <a:pt x="16822" y="10304"/>
                  <a:pt x="16867" y="10269"/>
                </a:cubicBezTo>
                <a:cubicBezTo>
                  <a:pt x="16931" y="10221"/>
                  <a:pt x="16855" y="10111"/>
                  <a:pt x="16793" y="10120"/>
                </a:cubicBezTo>
                <a:cubicBezTo>
                  <a:pt x="16697" y="10133"/>
                  <a:pt x="16676" y="10173"/>
                  <a:pt x="16718" y="10244"/>
                </a:cubicBezTo>
                <a:cubicBezTo>
                  <a:pt x="16761" y="10287"/>
                  <a:pt x="16808" y="10328"/>
                  <a:pt x="16867" y="10269"/>
                </a:cubicBezTo>
                <a:cubicBezTo>
                  <a:pt x="16907" y="10230"/>
                  <a:pt x="16904" y="10138"/>
                  <a:pt x="16842" y="10120"/>
                </a:cubicBezTo>
                <a:cubicBezTo>
                  <a:pt x="16814" y="10112"/>
                  <a:pt x="16694" y="10159"/>
                  <a:pt x="16694" y="10195"/>
                </a:cubicBezTo>
                <a:cubicBezTo>
                  <a:pt x="16694" y="10262"/>
                  <a:pt x="16771" y="10291"/>
                  <a:pt x="16818" y="10294"/>
                </a:cubicBezTo>
                <a:cubicBezTo>
                  <a:pt x="16834" y="10294"/>
                  <a:pt x="16851" y="10294"/>
                  <a:pt x="16867" y="10294"/>
                </a:cubicBezTo>
                <a:cubicBezTo>
                  <a:pt x="16889" y="10236"/>
                  <a:pt x="16925" y="10146"/>
                  <a:pt x="16867" y="10096"/>
                </a:cubicBezTo>
                <a:cubicBezTo>
                  <a:pt x="16836" y="10070"/>
                  <a:pt x="16687" y="10048"/>
                  <a:pt x="16694" y="10120"/>
                </a:cubicBezTo>
                <a:cubicBezTo>
                  <a:pt x="16700" y="10177"/>
                  <a:pt x="16792" y="10182"/>
                  <a:pt x="16818" y="10195"/>
                </a:cubicBezTo>
                <a:cubicBezTo>
                  <a:pt x="16856" y="10215"/>
                  <a:pt x="16798" y="10184"/>
                  <a:pt x="16793" y="10269"/>
                </a:cubicBezTo>
                <a:cubicBezTo>
                  <a:pt x="16788" y="10354"/>
                  <a:pt x="16806" y="10337"/>
                  <a:pt x="16867" y="10319"/>
                </a:cubicBezTo>
                <a:cubicBezTo>
                  <a:pt x="16867" y="10303"/>
                  <a:pt x="16850" y="10132"/>
                  <a:pt x="16842" y="10145"/>
                </a:cubicBezTo>
                <a:cubicBezTo>
                  <a:pt x="16815" y="10190"/>
                  <a:pt x="16849" y="10303"/>
                  <a:pt x="16867" y="10344"/>
                </a:cubicBezTo>
                <a:cubicBezTo>
                  <a:pt x="16926" y="10476"/>
                  <a:pt x="16874" y="10283"/>
                  <a:pt x="16867" y="10269"/>
                </a:cubicBezTo>
                <a:cubicBezTo>
                  <a:pt x="16842" y="10244"/>
                  <a:pt x="16834" y="10236"/>
                  <a:pt x="16818" y="10220"/>
                </a:cubicBezTo>
                <a:cubicBezTo>
                  <a:pt x="16760" y="10118"/>
                  <a:pt x="16755" y="10158"/>
                  <a:pt x="16793" y="10244"/>
                </a:cubicBezTo>
                <a:cubicBezTo>
                  <a:pt x="16824" y="10314"/>
                  <a:pt x="16823" y="10309"/>
                  <a:pt x="16892" y="10319"/>
                </a:cubicBezTo>
                <a:cubicBezTo>
                  <a:pt x="16883" y="10241"/>
                  <a:pt x="16873" y="10200"/>
                  <a:pt x="16818" y="10145"/>
                </a:cubicBezTo>
                <a:cubicBezTo>
                  <a:pt x="16785" y="10111"/>
                  <a:pt x="16685" y="10070"/>
                  <a:pt x="16743" y="10145"/>
                </a:cubicBezTo>
                <a:cubicBezTo>
                  <a:pt x="16798" y="10216"/>
                  <a:pt x="16864" y="10135"/>
                  <a:pt x="16793" y="10096"/>
                </a:cubicBezTo>
                <a:cubicBezTo>
                  <a:pt x="16768" y="10082"/>
                  <a:pt x="16594" y="10039"/>
                  <a:pt x="16594" y="10120"/>
                </a:cubicBezTo>
                <a:cubicBezTo>
                  <a:pt x="16621" y="10174"/>
                  <a:pt x="16633" y="10195"/>
                  <a:pt x="16669" y="10220"/>
                </a:cubicBezTo>
                <a:cubicBezTo>
                  <a:pt x="16716" y="10232"/>
                  <a:pt x="16819" y="10278"/>
                  <a:pt x="16842" y="10195"/>
                </a:cubicBezTo>
                <a:cubicBezTo>
                  <a:pt x="16858" y="10137"/>
                  <a:pt x="16795" y="10083"/>
                  <a:pt x="16743" y="10071"/>
                </a:cubicBezTo>
                <a:cubicBezTo>
                  <a:pt x="16689" y="10058"/>
                  <a:pt x="16677" y="10088"/>
                  <a:pt x="16644" y="10120"/>
                </a:cubicBezTo>
              </a:path>
              <a:path w="3151" h="323">
                <a:moveTo>
                  <a:pt x="13816" y="10170"/>
                </a:moveTo>
                <a:cubicBezTo>
                  <a:pt x="13824" y="10178"/>
                  <a:pt x="13833" y="10187"/>
                  <a:pt x="13841" y="10195"/>
                </a:cubicBezTo>
              </a:path>
              <a:path w="3151" h="323">
                <a:moveTo>
                  <a:pt x="13816" y="10170"/>
                </a:moveTo>
                <a:cubicBezTo>
                  <a:pt x="13833" y="10170"/>
                  <a:pt x="13849" y="10170"/>
                  <a:pt x="13866" y="10170"/>
                </a:cubicBezTo>
              </a:path>
              <a:path w="3151" h="323">
                <a:moveTo>
                  <a:pt x="14039" y="10170"/>
                </a:moveTo>
                <a:cubicBezTo>
                  <a:pt x="14047" y="10170"/>
                  <a:pt x="14056" y="10170"/>
                  <a:pt x="14064" y="10170"/>
                </a:cubicBezTo>
              </a:path>
              <a:path w="3151" h="323">
                <a:moveTo>
                  <a:pt x="14288" y="10170"/>
                </a:moveTo>
                <a:cubicBezTo>
                  <a:pt x="14304" y="10170"/>
                  <a:pt x="14321" y="10170"/>
                  <a:pt x="14337" y="10170"/>
                </a:cubicBezTo>
              </a:path>
              <a:path w="3151" h="323">
                <a:moveTo>
                  <a:pt x="14560" y="10195"/>
                </a:moveTo>
                <a:cubicBezTo>
                  <a:pt x="14626" y="10195"/>
                  <a:pt x="14659" y="10195"/>
                  <a:pt x="14709" y="10195"/>
                </a:cubicBezTo>
              </a:path>
              <a:path w="3151" h="323">
                <a:moveTo>
                  <a:pt x="14858" y="10220"/>
                </a:moveTo>
                <a:cubicBezTo>
                  <a:pt x="14903" y="10220"/>
                  <a:pt x="14916" y="10224"/>
                  <a:pt x="14932" y="10195"/>
                </a:cubicBezTo>
              </a:path>
              <a:path w="3151" h="323">
                <a:moveTo>
                  <a:pt x="15180" y="10220"/>
                </a:moveTo>
                <a:cubicBezTo>
                  <a:pt x="15203" y="10197"/>
                  <a:pt x="15207" y="10189"/>
                  <a:pt x="15230" y="10195"/>
                </a:cubicBezTo>
              </a:path>
              <a:path w="3151" h="323">
                <a:moveTo>
                  <a:pt x="15453" y="10170"/>
                </a:moveTo>
                <a:cubicBezTo>
                  <a:pt x="15503" y="10195"/>
                  <a:pt x="15520" y="10203"/>
                  <a:pt x="15553" y="10170"/>
                </a:cubicBezTo>
              </a:path>
              <a:path w="3151" h="323">
                <a:moveTo>
                  <a:pt x="15801" y="10220"/>
                </a:moveTo>
                <a:cubicBezTo>
                  <a:pt x="15883" y="10220"/>
                  <a:pt x="15900" y="10220"/>
                  <a:pt x="15949" y="10220"/>
                </a:cubicBezTo>
              </a:path>
              <a:path w="3151" h="323">
                <a:moveTo>
                  <a:pt x="16173" y="10195"/>
                </a:moveTo>
                <a:cubicBezTo>
                  <a:pt x="16198" y="10187"/>
                  <a:pt x="16222" y="10178"/>
                  <a:pt x="16247" y="10170"/>
                </a:cubicBezTo>
              </a:path>
              <a:path w="3151" h="323">
                <a:moveTo>
                  <a:pt x="16470" y="10195"/>
                </a:moveTo>
                <a:cubicBezTo>
                  <a:pt x="16512" y="10195"/>
                  <a:pt x="16520" y="10195"/>
                  <a:pt x="16545" y="10195"/>
                </a:cubicBezTo>
              </a:path>
              <a:path w="3151" h="323">
                <a:moveTo>
                  <a:pt x="16644" y="10220"/>
                </a:moveTo>
                <a:cubicBezTo>
                  <a:pt x="16682" y="10238"/>
                  <a:pt x="16739" y="10176"/>
                  <a:pt x="16743" y="10120"/>
                </a:cubicBezTo>
                <a:cubicBezTo>
                  <a:pt x="16735" y="10112"/>
                  <a:pt x="16726" y="10104"/>
                  <a:pt x="16718" y="10096"/>
                </a:cubicBezTo>
                <a:cubicBezTo>
                  <a:pt x="16669" y="10145"/>
                  <a:pt x="16646" y="10177"/>
                  <a:pt x="16694" y="10244"/>
                </a:cubicBezTo>
                <a:cubicBezTo>
                  <a:pt x="16740" y="10308"/>
                  <a:pt x="16879" y="10327"/>
                  <a:pt x="16942" y="10269"/>
                </a:cubicBezTo>
                <a:cubicBezTo>
                  <a:pt x="16950" y="10253"/>
                  <a:pt x="16958" y="10236"/>
                  <a:pt x="16966" y="10220"/>
                </a:cubicBezTo>
                <a:cubicBezTo>
                  <a:pt x="16909" y="10161"/>
                  <a:pt x="16908" y="10198"/>
                  <a:pt x="16842" y="10170"/>
                </a:cubicBezTo>
                <a:cubicBezTo>
                  <a:pt x="16799" y="10152"/>
                  <a:pt x="16751" y="10241"/>
                  <a:pt x="16793" y="10220"/>
                </a:cubicBezTo>
                <a:cubicBezTo>
                  <a:pt x="16793" y="10212"/>
                  <a:pt x="16793" y="10203"/>
                  <a:pt x="16793" y="101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nk 21"/>
          <p:cNvSpPr/>
          <p:nvPr/>
        </p:nvSpPr>
        <p:spPr>
          <a:xfrm>
            <a:off x="5848200" y="2678040"/>
            <a:ext cx="216000" cy="3403800"/>
          </a:xfrm>
          <a:custGeom>
            <a:avLst/>
            <a:gdLst/>
            <a:ahLst/>
            <a:rect l="l" t="t" r="r" b="b"/>
            <a:pathLst>
              <a:path w="596" h="9452">
                <a:moveTo>
                  <a:pt x="16718" y="7441"/>
                </a:moveTo>
                <a:cubicBezTo>
                  <a:pt x="16712" y="7538"/>
                  <a:pt x="16718" y="7620"/>
                  <a:pt x="16718" y="7714"/>
                </a:cubicBezTo>
                <a:cubicBezTo>
                  <a:pt x="16718" y="7910"/>
                  <a:pt x="16755" y="8092"/>
                  <a:pt x="16768" y="8285"/>
                </a:cubicBezTo>
                <a:cubicBezTo>
                  <a:pt x="16792" y="8641"/>
                  <a:pt x="16798" y="8995"/>
                  <a:pt x="16818" y="9351"/>
                </a:cubicBezTo>
                <a:cubicBezTo>
                  <a:pt x="16839" y="9731"/>
                  <a:pt x="16818" y="10110"/>
                  <a:pt x="16818" y="10492"/>
                </a:cubicBezTo>
                <a:cubicBezTo>
                  <a:pt x="16818" y="11078"/>
                  <a:pt x="16776" y="11669"/>
                  <a:pt x="16743" y="12254"/>
                </a:cubicBezTo>
                <a:cubicBezTo>
                  <a:pt x="16672" y="13510"/>
                  <a:pt x="16597" y="14755"/>
                  <a:pt x="16396" y="15999"/>
                </a:cubicBezTo>
                <a:cubicBezTo>
                  <a:pt x="16346" y="16297"/>
                  <a:pt x="16297" y="16594"/>
                  <a:pt x="16247" y="168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22"/>
          <p:cNvSpPr/>
          <p:nvPr/>
        </p:nvSpPr>
        <p:spPr>
          <a:xfrm>
            <a:off x="4946760" y="3643200"/>
            <a:ext cx="2608200" cy="63720"/>
          </a:xfrm>
          <a:custGeom>
            <a:avLst/>
            <a:gdLst/>
            <a:ahLst/>
            <a:rect l="l" t="t" r="r" b="b"/>
            <a:pathLst>
              <a:path w="7244" h="175">
                <a:moveTo>
                  <a:pt x="13742" y="10120"/>
                </a:moveTo>
                <a:cubicBezTo>
                  <a:pt x="13829" y="10134"/>
                  <a:pt x="13905" y="10164"/>
                  <a:pt x="13990" y="10170"/>
                </a:cubicBezTo>
                <a:cubicBezTo>
                  <a:pt x="14194" y="10184"/>
                  <a:pt x="14407" y="10191"/>
                  <a:pt x="14610" y="10195"/>
                </a:cubicBezTo>
                <a:cubicBezTo>
                  <a:pt x="14860" y="10200"/>
                  <a:pt x="15105" y="10157"/>
                  <a:pt x="15354" y="10170"/>
                </a:cubicBezTo>
                <a:cubicBezTo>
                  <a:pt x="15685" y="10187"/>
                  <a:pt x="16013" y="10195"/>
                  <a:pt x="16346" y="10195"/>
                </a:cubicBezTo>
                <a:cubicBezTo>
                  <a:pt x="16827" y="10195"/>
                  <a:pt x="17303" y="10217"/>
                  <a:pt x="17785" y="10220"/>
                </a:cubicBezTo>
                <a:cubicBezTo>
                  <a:pt x="18609" y="10226"/>
                  <a:pt x="19443" y="10179"/>
                  <a:pt x="20265" y="10244"/>
                </a:cubicBezTo>
                <a:cubicBezTo>
                  <a:pt x="20508" y="10263"/>
                  <a:pt x="20742" y="10288"/>
                  <a:pt x="20985" y="102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relative minimums and maximum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–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x –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unction is considered “even” if f(-x) = f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it is even if the graph is symmetric to the y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File:Function x^2.svg"/>
          <p:cNvPicPr/>
          <p:nvPr/>
        </p:nvPicPr>
        <p:blipFill>
          <a:blip r:embed="rId1"/>
          <a:stretch/>
        </p:blipFill>
        <p:spPr>
          <a:xfrm>
            <a:off x="2209680" y="2971800"/>
            <a:ext cx="3467160" cy="3467160"/>
          </a:xfrm>
          <a:prstGeom prst="rect">
            <a:avLst/>
          </a:prstGeom>
          <a:ln w="0">
            <a:noFill/>
          </a:ln>
        </p:spPr>
      </p:pic>
      <p:sp>
        <p:nvSpPr>
          <p:cNvPr id="131" name="Ink 8"/>
          <p:cNvSpPr/>
          <p:nvPr/>
        </p:nvSpPr>
        <p:spPr>
          <a:xfrm>
            <a:off x="3911760" y="3044880"/>
            <a:ext cx="268200" cy="3143160"/>
          </a:xfrm>
          <a:custGeom>
            <a:avLst/>
            <a:gdLst/>
            <a:ahLst/>
            <a:rect l="l" t="t" r="r" b="b"/>
            <a:pathLst>
              <a:path w="746" h="8733">
                <a:moveTo>
                  <a:pt x="11162" y="8458"/>
                </a:moveTo>
                <a:cubicBezTo>
                  <a:pt x="11196" y="8500"/>
                  <a:pt x="11253" y="8472"/>
                  <a:pt x="11286" y="8558"/>
                </a:cubicBezTo>
                <a:cubicBezTo>
                  <a:pt x="11326" y="8661"/>
                  <a:pt x="11321" y="8774"/>
                  <a:pt x="11336" y="8880"/>
                </a:cubicBezTo>
                <a:cubicBezTo>
                  <a:pt x="11357" y="9023"/>
                  <a:pt x="11352" y="9157"/>
                  <a:pt x="11361" y="9302"/>
                </a:cubicBezTo>
                <a:cubicBezTo>
                  <a:pt x="11374" y="9500"/>
                  <a:pt x="11400" y="9699"/>
                  <a:pt x="11410" y="9897"/>
                </a:cubicBezTo>
                <a:cubicBezTo>
                  <a:pt x="11426" y="10234"/>
                  <a:pt x="11431" y="10577"/>
                  <a:pt x="11435" y="10914"/>
                </a:cubicBezTo>
                <a:cubicBezTo>
                  <a:pt x="11439" y="11245"/>
                  <a:pt x="11460" y="11574"/>
                  <a:pt x="11460" y="11906"/>
                </a:cubicBezTo>
                <a:cubicBezTo>
                  <a:pt x="11460" y="12593"/>
                  <a:pt x="11454" y="13279"/>
                  <a:pt x="11435" y="13965"/>
                </a:cubicBezTo>
                <a:cubicBezTo>
                  <a:pt x="11423" y="14408"/>
                  <a:pt x="11409" y="14865"/>
                  <a:pt x="11336" y="15304"/>
                </a:cubicBezTo>
                <a:cubicBezTo>
                  <a:pt x="11284" y="15620"/>
                  <a:pt x="11221" y="15933"/>
                  <a:pt x="11162" y="16247"/>
                </a:cubicBezTo>
                <a:cubicBezTo>
                  <a:pt x="11133" y="16399"/>
                  <a:pt x="11111" y="16545"/>
                  <a:pt x="11088" y="16694"/>
                </a:cubicBezTo>
                <a:cubicBezTo>
                  <a:pt x="11041" y="16825"/>
                  <a:pt x="11052" y="16833"/>
                  <a:pt x="11088" y="16694"/>
                </a:cubicBezTo>
                <a:cubicBezTo>
                  <a:pt x="11175" y="16356"/>
                  <a:pt x="11240" y="15997"/>
                  <a:pt x="11286" y="15652"/>
                </a:cubicBezTo>
                <a:cubicBezTo>
                  <a:pt x="11348" y="15183"/>
                  <a:pt x="11396" y="14742"/>
                  <a:pt x="11435" y="14263"/>
                </a:cubicBezTo>
                <a:cubicBezTo>
                  <a:pt x="11464" y="13913"/>
                  <a:pt x="11485" y="13573"/>
                  <a:pt x="11485" y="13221"/>
                </a:cubicBezTo>
                <a:cubicBezTo>
                  <a:pt x="11485" y="12684"/>
                  <a:pt x="11496" y="12145"/>
                  <a:pt x="11460" y="11609"/>
                </a:cubicBezTo>
                <a:cubicBezTo>
                  <a:pt x="11433" y="11208"/>
                  <a:pt x="11371" y="10813"/>
                  <a:pt x="11311" y="10418"/>
                </a:cubicBezTo>
                <a:cubicBezTo>
                  <a:pt x="11271" y="10159"/>
                  <a:pt x="11231" y="9906"/>
                  <a:pt x="11187" y="9649"/>
                </a:cubicBezTo>
                <a:cubicBezTo>
                  <a:pt x="11152" y="9445"/>
                  <a:pt x="11108" y="9254"/>
                  <a:pt x="11063" y="9054"/>
                </a:cubicBezTo>
                <a:cubicBezTo>
                  <a:pt x="11017" y="9145"/>
                  <a:pt x="11059" y="9001"/>
                  <a:pt x="11063" y="9103"/>
                </a:cubicBezTo>
                <a:cubicBezTo>
                  <a:pt x="11069" y="9257"/>
                  <a:pt x="11100" y="9398"/>
                  <a:pt x="11112" y="9550"/>
                </a:cubicBezTo>
                <a:cubicBezTo>
                  <a:pt x="11131" y="9789"/>
                  <a:pt x="11121" y="10029"/>
                  <a:pt x="11137" y="10269"/>
                </a:cubicBezTo>
                <a:cubicBezTo>
                  <a:pt x="11158" y="10575"/>
                  <a:pt x="11184" y="10879"/>
                  <a:pt x="11187" y="11187"/>
                </a:cubicBezTo>
                <a:cubicBezTo>
                  <a:pt x="11191" y="11543"/>
                  <a:pt x="11212" y="11897"/>
                  <a:pt x="11212" y="12254"/>
                </a:cubicBezTo>
                <a:cubicBezTo>
                  <a:pt x="11212" y="12775"/>
                  <a:pt x="11215" y="13296"/>
                  <a:pt x="11187" y="13816"/>
                </a:cubicBezTo>
                <a:cubicBezTo>
                  <a:pt x="11165" y="14230"/>
                  <a:pt x="11146" y="14642"/>
                  <a:pt x="11112" y="15056"/>
                </a:cubicBezTo>
                <a:cubicBezTo>
                  <a:pt x="11078" y="15478"/>
                  <a:pt x="11038" y="15904"/>
                  <a:pt x="10964" y="16321"/>
                </a:cubicBezTo>
                <a:cubicBezTo>
                  <a:pt x="10930" y="16512"/>
                  <a:pt x="10860" y="16696"/>
                  <a:pt x="10864" y="16892"/>
                </a:cubicBezTo>
                <a:cubicBezTo>
                  <a:pt x="10864" y="16937"/>
                  <a:pt x="10860" y="16950"/>
                  <a:pt x="10889" y="16966"/>
                </a:cubicBezTo>
                <a:cubicBezTo>
                  <a:pt x="10974" y="16817"/>
                  <a:pt x="11052" y="16664"/>
                  <a:pt x="11112" y="16495"/>
                </a:cubicBezTo>
                <a:cubicBezTo>
                  <a:pt x="11239" y="16139"/>
                  <a:pt x="11313" y="15773"/>
                  <a:pt x="11385" y="15404"/>
                </a:cubicBezTo>
                <a:cubicBezTo>
                  <a:pt x="11448" y="15083"/>
                  <a:pt x="11498" y="14762"/>
                  <a:pt x="11534" y="14436"/>
                </a:cubicBezTo>
                <a:cubicBezTo>
                  <a:pt x="11572" y="14087"/>
                  <a:pt x="11616" y="13720"/>
                  <a:pt x="11609" y="13370"/>
                </a:cubicBezTo>
                <a:cubicBezTo>
                  <a:pt x="11600" y="12882"/>
                  <a:pt x="11575" y="12393"/>
                  <a:pt x="11534" y="11906"/>
                </a:cubicBezTo>
                <a:cubicBezTo>
                  <a:pt x="11502" y="11533"/>
                  <a:pt x="11451" y="11159"/>
                  <a:pt x="11385" y="10790"/>
                </a:cubicBezTo>
                <a:cubicBezTo>
                  <a:pt x="11330" y="10483"/>
                  <a:pt x="11265" y="10174"/>
                  <a:pt x="11187" y="9872"/>
                </a:cubicBezTo>
                <a:cubicBezTo>
                  <a:pt x="11118" y="9605"/>
                  <a:pt x="11034" y="9343"/>
                  <a:pt x="10964" y="9079"/>
                </a:cubicBezTo>
                <a:cubicBezTo>
                  <a:pt x="10942" y="8997"/>
                  <a:pt x="10932" y="8911"/>
                  <a:pt x="10914" y="8830"/>
                </a:cubicBezTo>
                <a:cubicBezTo>
                  <a:pt x="10919" y="8930"/>
                  <a:pt x="10928" y="8930"/>
                  <a:pt x="10939" y="9029"/>
                </a:cubicBezTo>
                <a:cubicBezTo>
                  <a:pt x="10967" y="9276"/>
                  <a:pt x="10982" y="9525"/>
                  <a:pt x="11013" y="9773"/>
                </a:cubicBezTo>
                <a:cubicBezTo>
                  <a:pt x="11081" y="10318"/>
                  <a:pt x="11156" y="10864"/>
                  <a:pt x="11212" y="11410"/>
                </a:cubicBezTo>
                <a:cubicBezTo>
                  <a:pt x="11260" y="11882"/>
                  <a:pt x="11275" y="12352"/>
                  <a:pt x="11311" y="12824"/>
                </a:cubicBezTo>
                <a:cubicBezTo>
                  <a:pt x="11341" y="13221"/>
                  <a:pt x="11374" y="13617"/>
                  <a:pt x="11385" y="14015"/>
                </a:cubicBezTo>
                <a:cubicBezTo>
                  <a:pt x="11402" y="14610"/>
                  <a:pt x="11397" y="15209"/>
                  <a:pt x="11336" y="15801"/>
                </a:cubicBezTo>
                <a:cubicBezTo>
                  <a:pt x="11312" y="16039"/>
                  <a:pt x="11301" y="16285"/>
                  <a:pt x="11261" y="16520"/>
                </a:cubicBezTo>
                <a:cubicBezTo>
                  <a:pt x="11237" y="16661"/>
                  <a:pt x="11207" y="16803"/>
                  <a:pt x="11187" y="16942"/>
                </a:cubicBezTo>
                <a:cubicBezTo>
                  <a:pt x="11173" y="17039"/>
                  <a:pt x="11179" y="17096"/>
                  <a:pt x="11137" y="17190"/>
                </a:cubicBezTo>
                <a:cubicBezTo>
                  <a:pt x="11129" y="17190"/>
                  <a:pt x="11120" y="17190"/>
                  <a:pt x="11112" y="171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Ink 9"/>
          <p:cNvSpPr/>
          <p:nvPr/>
        </p:nvSpPr>
        <p:spPr>
          <a:xfrm>
            <a:off x="142920" y="1751040"/>
            <a:ext cx="1758960" cy="1106640"/>
          </a:xfrm>
          <a:custGeom>
            <a:avLst/>
            <a:gdLst/>
            <a:ahLst/>
            <a:rect l="l" t="t" r="r" b="b"/>
            <a:pathLst>
              <a:path w="4887" h="3077">
                <a:moveTo>
                  <a:pt x="397" y="5482"/>
                </a:moveTo>
                <a:cubicBezTo>
                  <a:pt x="397" y="5600"/>
                  <a:pt x="413" y="5726"/>
                  <a:pt x="422" y="5829"/>
                </a:cubicBezTo>
                <a:cubicBezTo>
                  <a:pt x="429" y="5912"/>
                  <a:pt x="423" y="5970"/>
                  <a:pt x="446" y="6052"/>
                </a:cubicBezTo>
                <a:cubicBezTo>
                  <a:pt x="475" y="6153"/>
                  <a:pt x="517" y="6236"/>
                  <a:pt x="571" y="6325"/>
                </a:cubicBezTo>
                <a:cubicBezTo>
                  <a:pt x="599" y="6371"/>
                  <a:pt x="635" y="6408"/>
                  <a:pt x="670" y="6449"/>
                </a:cubicBezTo>
                <a:cubicBezTo>
                  <a:pt x="726" y="6514"/>
                  <a:pt x="776" y="6527"/>
                  <a:pt x="843" y="6573"/>
                </a:cubicBezTo>
                <a:cubicBezTo>
                  <a:pt x="924" y="6629"/>
                  <a:pt x="1001" y="6675"/>
                  <a:pt x="1091" y="6722"/>
                </a:cubicBezTo>
                <a:cubicBezTo>
                  <a:pt x="1195" y="6776"/>
                  <a:pt x="1291" y="6839"/>
                  <a:pt x="1389" y="6896"/>
                </a:cubicBezTo>
                <a:cubicBezTo>
                  <a:pt x="1538" y="6983"/>
                  <a:pt x="1695" y="7049"/>
                  <a:pt x="1836" y="7144"/>
                </a:cubicBezTo>
                <a:cubicBezTo>
                  <a:pt x="1890" y="7180"/>
                  <a:pt x="1957" y="7204"/>
                  <a:pt x="2009" y="7243"/>
                </a:cubicBezTo>
                <a:cubicBezTo>
                  <a:pt x="2064" y="7285"/>
                  <a:pt x="2130" y="7325"/>
                  <a:pt x="2183" y="7367"/>
                </a:cubicBezTo>
                <a:cubicBezTo>
                  <a:pt x="2225" y="7400"/>
                  <a:pt x="2288" y="7452"/>
                  <a:pt x="2332" y="7491"/>
                </a:cubicBezTo>
                <a:cubicBezTo>
                  <a:pt x="2379" y="7533"/>
                  <a:pt x="2430" y="7590"/>
                  <a:pt x="2480" y="7640"/>
                </a:cubicBezTo>
                <a:cubicBezTo>
                  <a:pt x="2570" y="7730"/>
                  <a:pt x="2632" y="7811"/>
                  <a:pt x="2704" y="7913"/>
                </a:cubicBezTo>
                <a:cubicBezTo>
                  <a:pt x="2712" y="7921"/>
                  <a:pt x="2721" y="7930"/>
                  <a:pt x="2729" y="7938"/>
                </a:cubicBezTo>
              </a:path>
              <a:path w="4887" h="3077">
                <a:moveTo>
                  <a:pt x="2629" y="7764"/>
                </a:moveTo>
                <a:cubicBezTo>
                  <a:pt x="2659" y="7794"/>
                  <a:pt x="2664" y="7808"/>
                  <a:pt x="2629" y="7838"/>
                </a:cubicBezTo>
                <a:cubicBezTo>
                  <a:pt x="2629" y="7782"/>
                  <a:pt x="2604" y="7790"/>
                  <a:pt x="2604" y="7838"/>
                </a:cubicBezTo>
                <a:cubicBezTo>
                  <a:pt x="2604" y="7978"/>
                  <a:pt x="2615" y="7774"/>
                  <a:pt x="2629" y="7913"/>
                </a:cubicBezTo>
                <a:cubicBezTo>
                  <a:pt x="2637" y="7849"/>
                  <a:pt x="2631" y="7795"/>
                  <a:pt x="2654" y="7739"/>
                </a:cubicBezTo>
                <a:cubicBezTo>
                  <a:pt x="2679" y="7679"/>
                  <a:pt x="2753" y="7628"/>
                  <a:pt x="2803" y="7590"/>
                </a:cubicBezTo>
                <a:cubicBezTo>
                  <a:pt x="2852" y="7553"/>
                  <a:pt x="2903" y="7539"/>
                  <a:pt x="2952" y="7516"/>
                </a:cubicBezTo>
                <a:cubicBezTo>
                  <a:pt x="3033" y="7478"/>
                  <a:pt x="3127" y="7450"/>
                  <a:pt x="3200" y="7417"/>
                </a:cubicBezTo>
                <a:cubicBezTo>
                  <a:pt x="3260" y="7390"/>
                  <a:pt x="3312" y="7338"/>
                  <a:pt x="3373" y="7317"/>
                </a:cubicBezTo>
                <a:cubicBezTo>
                  <a:pt x="3474" y="7283"/>
                  <a:pt x="3571" y="7256"/>
                  <a:pt x="3671" y="7218"/>
                </a:cubicBezTo>
                <a:cubicBezTo>
                  <a:pt x="3779" y="7177"/>
                  <a:pt x="3886" y="7135"/>
                  <a:pt x="3994" y="7094"/>
                </a:cubicBezTo>
                <a:cubicBezTo>
                  <a:pt x="4082" y="7061"/>
                  <a:pt x="4161" y="7018"/>
                  <a:pt x="4242" y="6970"/>
                </a:cubicBezTo>
                <a:cubicBezTo>
                  <a:pt x="4323" y="6922"/>
                  <a:pt x="4414" y="6875"/>
                  <a:pt x="4490" y="6821"/>
                </a:cubicBezTo>
                <a:cubicBezTo>
                  <a:pt x="4567" y="6766"/>
                  <a:pt x="4651" y="6696"/>
                  <a:pt x="4713" y="6623"/>
                </a:cubicBezTo>
                <a:cubicBezTo>
                  <a:pt x="4815" y="6504"/>
                  <a:pt x="4927" y="6372"/>
                  <a:pt x="4986" y="6226"/>
                </a:cubicBezTo>
                <a:cubicBezTo>
                  <a:pt x="5028" y="6121"/>
                  <a:pt x="5073" y="6011"/>
                  <a:pt x="5110" y="5904"/>
                </a:cubicBezTo>
                <a:cubicBezTo>
                  <a:pt x="5146" y="5801"/>
                  <a:pt x="5184" y="5688"/>
                  <a:pt x="5209" y="5581"/>
                </a:cubicBezTo>
                <a:cubicBezTo>
                  <a:pt x="5237" y="5458"/>
                  <a:pt x="5242" y="5334"/>
                  <a:pt x="5259" y="5209"/>
                </a:cubicBezTo>
                <a:cubicBezTo>
                  <a:pt x="5270" y="5127"/>
                  <a:pt x="5292" y="5050"/>
                  <a:pt x="5283" y="4961"/>
                </a:cubicBezTo>
                <a:cubicBezTo>
                  <a:pt x="5278" y="4910"/>
                  <a:pt x="5269" y="4961"/>
                  <a:pt x="5259" y="49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Ink 10"/>
          <p:cNvSpPr/>
          <p:nvPr/>
        </p:nvSpPr>
        <p:spPr>
          <a:xfrm>
            <a:off x="1017720" y="3884760"/>
            <a:ext cx="1019160" cy="1536480"/>
          </a:xfrm>
          <a:custGeom>
            <a:avLst/>
            <a:gdLst/>
            <a:ahLst/>
            <a:rect l="l" t="t" r="r" b="b"/>
            <a:pathLst>
              <a:path w="2828" h="4267">
                <a:moveTo>
                  <a:pt x="3423" y="11658"/>
                </a:moveTo>
                <a:cubicBezTo>
                  <a:pt x="3514" y="11624"/>
                  <a:pt x="3556" y="11647"/>
                  <a:pt x="3646" y="11658"/>
                </a:cubicBezTo>
                <a:cubicBezTo>
                  <a:pt x="3693" y="11664"/>
                  <a:pt x="3747" y="11658"/>
                  <a:pt x="3795" y="11658"/>
                </a:cubicBezTo>
              </a:path>
              <a:path w="2828" h="4267">
                <a:moveTo>
                  <a:pt x="3423" y="11708"/>
                </a:moveTo>
                <a:cubicBezTo>
                  <a:pt x="3415" y="11749"/>
                  <a:pt x="3406" y="11791"/>
                  <a:pt x="3398" y="11832"/>
                </a:cubicBezTo>
                <a:cubicBezTo>
                  <a:pt x="3450" y="11806"/>
                  <a:pt x="3535" y="11738"/>
                  <a:pt x="3597" y="11757"/>
                </a:cubicBezTo>
                <a:cubicBezTo>
                  <a:pt x="3639" y="11770"/>
                  <a:pt x="3701" y="11848"/>
                  <a:pt x="3721" y="11881"/>
                </a:cubicBezTo>
                <a:cubicBezTo>
                  <a:pt x="3768" y="11961"/>
                  <a:pt x="3771" y="12023"/>
                  <a:pt x="3795" y="12105"/>
                </a:cubicBezTo>
                <a:cubicBezTo>
                  <a:pt x="3818" y="12183"/>
                  <a:pt x="3807" y="12199"/>
                  <a:pt x="3746" y="12254"/>
                </a:cubicBezTo>
                <a:cubicBezTo>
                  <a:pt x="3699" y="12296"/>
                  <a:pt x="3637" y="12321"/>
                  <a:pt x="3572" y="12303"/>
                </a:cubicBezTo>
                <a:cubicBezTo>
                  <a:pt x="3522" y="12289"/>
                  <a:pt x="3452" y="12250"/>
                  <a:pt x="3423" y="12204"/>
                </a:cubicBezTo>
                <a:cubicBezTo>
                  <a:pt x="3403" y="12163"/>
                  <a:pt x="3394" y="12157"/>
                  <a:pt x="3398" y="12129"/>
                </a:cubicBezTo>
              </a:path>
              <a:path w="2828" h="4267">
                <a:moveTo>
                  <a:pt x="4539" y="11658"/>
                </a:moveTo>
                <a:cubicBezTo>
                  <a:pt x="4615" y="11668"/>
                  <a:pt x="4668" y="11698"/>
                  <a:pt x="4738" y="11733"/>
                </a:cubicBezTo>
                <a:cubicBezTo>
                  <a:pt x="4795" y="11761"/>
                  <a:pt x="4873" y="11783"/>
                  <a:pt x="4887" y="11857"/>
                </a:cubicBezTo>
                <a:cubicBezTo>
                  <a:pt x="4905" y="11957"/>
                  <a:pt x="4822" y="12001"/>
                  <a:pt x="4762" y="12055"/>
                </a:cubicBezTo>
                <a:cubicBezTo>
                  <a:pt x="4727" y="12086"/>
                  <a:pt x="4650" y="12158"/>
                  <a:pt x="4638" y="12204"/>
                </a:cubicBezTo>
                <a:cubicBezTo>
                  <a:pt x="4618" y="12277"/>
                  <a:pt x="4679" y="12329"/>
                  <a:pt x="4738" y="12353"/>
                </a:cubicBezTo>
                <a:cubicBezTo>
                  <a:pt x="4814" y="12384"/>
                  <a:pt x="4857" y="12395"/>
                  <a:pt x="4936" y="12402"/>
                </a:cubicBezTo>
              </a:path>
              <a:path w="2828" h="4267">
                <a:moveTo>
                  <a:pt x="5159" y="11857"/>
                </a:moveTo>
                <a:cubicBezTo>
                  <a:pt x="5099" y="11935"/>
                  <a:pt x="4983" y="12024"/>
                  <a:pt x="5060" y="12129"/>
                </a:cubicBezTo>
                <a:cubicBezTo>
                  <a:pt x="5110" y="12198"/>
                  <a:pt x="5197" y="12264"/>
                  <a:pt x="5283" y="12278"/>
                </a:cubicBezTo>
                <a:cubicBezTo>
                  <a:pt x="5347" y="12288"/>
                  <a:pt x="5459" y="12282"/>
                  <a:pt x="5507" y="12229"/>
                </a:cubicBezTo>
                <a:cubicBezTo>
                  <a:pt x="5541" y="12192"/>
                  <a:pt x="5592" y="12081"/>
                  <a:pt x="5581" y="12030"/>
                </a:cubicBezTo>
                <a:cubicBezTo>
                  <a:pt x="5552" y="11901"/>
                  <a:pt x="5383" y="11875"/>
                  <a:pt x="5283" y="11832"/>
                </a:cubicBezTo>
              </a:path>
              <a:path w="2828" h="4267">
                <a:moveTo>
                  <a:pt x="2828" y="12824"/>
                </a:moveTo>
                <a:cubicBezTo>
                  <a:pt x="2960" y="12824"/>
                  <a:pt x="3093" y="12824"/>
                  <a:pt x="3225" y="12824"/>
                </a:cubicBezTo>
              </a:path>
              <a:path w="2828" h="4267">
                <a:moveTo>
                  <a:pt x="3597" y="12601"/>
                </a:moveTo>
                <a:cubicBezTo>
                  <a:pt x="3731" y="12601"/>
                  <a:pt x="3754" y="12618"/>
                  <a:pt x="3820" y="12576"/>
                </a:cubicBezTo>
              </a:path>
              <a:path w="2828" h="4267">
                <a:moveTo>
                  <a:pt x="3473" y="12551"/>
                </a:moveTo>
                <a:cubicBezTo>
                  <a:pt x="3394" y="12682"/>
                  <a:pt x="3329" y="12710"/>
                  <a:pt x="3423" y="12824"/>
                </a:cubicBezTo>
                <a:cubicBezTo>
                  <a:pt x="3468" y="12879"/>
                  <a:pt x="3539" y="12939"/>
                  <a:pt x="3597" y="12973"/>
                </a:cubicBezTo>
                <a:cubicBezTo>
                  <a:pt x="3659" y="13010"/>
                  <a:pt x="3729" y="13060"/>
                  <a:pt x="3770" y="13122"/>
                </a:cubicBezTo>
                <a:cubicBezTo>
                  <a:pt x="3809" y="13180"/>
                  <a:pt x="3854" y="13236"/>
                  <a:pt x="3820" y="13295"/>
                </a:cubicBezTo>
                <a:cubicBezTo>
                  <a:pt x="3788" y="13349"/>
                  <a:pt x="3701" y="13357"/>
                  <a:pt x="3646" y="13345"/>
                </a:cubicBezTo>
                <a:cubicBezTo>
                  <a:pt x="3547" y="13323"/>
                  <a:pt x="3509" y="13293"/>
                  <a:pt x="3423" y="13246"/>
                </a:cubicBezTo>
                <a:cubicBezTo>
                  <a:pt x="3366" y="13218"/>
                  <a:pt x="3347" y="13202"/>
                  <a:pt x="3349" y="13146"/>
                </a:cubicBezTo>
              </a:path>
              <a:path w="2828" h="4267">
                <a:moveTo>
                  <a:pt x="4440" y="12874"/>
                </a:moveTo>
                <a:cubicBezTo>
                  <a:pt x="4490" y="12834"/>
                  <a:pt x="4552" y="12810"/>
                  <a:pt x="4614" y="12799"/>
                </a:cubicBezTo>
                <a:cubicBezTo>
                  <a:pt x="4690" y="12786"/>
                  <a:pt x="4797" y="12806"/>
                  <a:pt x="4862" y="12849"/>
                </a:cubicBezTo>
                <a:cubicBezTo>
                  <a:pt x="4932" y="12896"/>
                  <a:pt x="4930" y="12988"/>
                  <a:pt x="4887" y="13047"/>
                </a:cubicBezTo>
                <a:cubicBezTo>
                  <a:pt x="4845" y="13105"/>
                  <a:pt x="4731" y="13194"/>
                  <a:pt x="4713" y="13271"/>
                </a:cubicBezTo>
                <a:cubicBezTo>
                  <a:pt x="4689" y="13372"/>
                  <a:pt x="4722" y="13434"/>
                  <a:pt x="4787" y="13494"/>
                </a:cubicBezTo>
                <a:cubicBezTo>
                  <a:pt x="4844" y="13546"/>
                  <a:pt x="4919" y="13562"/>
                  <a:pt x="4986" y="13519"/>
                </a:cubicBezTo>
                <a:cubicBezTo>
                  <a:pt x="5019" y="13494"/>
                  <a:pt x="5052" y="13469"/>
                  <a:pt x="5085" y="13444"/>
                </a:cubicBezTo>
              </a:path>
              <a:path w="2828" h="4267">
                <a:moveTo>
                  <a:pt x="5135" y="12898"/>
                </a:moveTo>
                <a:cubicBezTo>
                  <a:pt x="5094" y="13040"/>
                  <a:pt x="5042" y="13143"/>
                  <a:pt x="5135" y="13271"/>
                </a:cubicBezTo>
                <a:cubicBezTo>
                  <a:pt x="5191" y="13348"/>
                  <a:pt x="5287" y="13451"/>
                  <a:pt x="5383" y="13469"/>
                </a:cubicBezTo>
                <a:cubicBezTo>
                  <a:pt x="5472" y="13486"/>
                  <a:pt x="5538" y="13472"/>
                  <a:pt x="5581" y="13395"/>
                </a:cubicBezTo>
                <a:cubicBezTo>
                  <a:pt x="5661" y="13251"/>
                  <a:pt x="5667" y="13187"/>
                  <a:pt x="5581" y="13047"/>
                </a:cubicBezTo>
                <a:cubicBezTo>
                  <a:pt x="5511" y="12933"/>
                  <a:pt x="5381" y="12807"/>
                  <a:pt x="5259" y="12750"/>
                </a:cubicBezTo>
                <a:cubicBezTo>
                  <a:pt x="5226" y="12742"/>
                  <a:pt x="5192" y="12733"/>
                  <a:pt x="5159" y="12725"/>
                </a:cubicBezTo>
              </a:path>
              <a:path w="2828" h="4267">
                <a:moveTo>
                  <a:pt x="3398" y="10790"/>
                </a:moveTo>
                <a:cubicBezTo>
                  <a:pt x="3485" y="10790"/>
                  <a:pt x="3574" y="10779"/>
                  <a:pt x="3646" y="10815"/>
                </a:cubicBezTo>
                <a:cubicBezTo>
                  <a:pt x="3690" y="10837"/>
                  <a:pt x="3701" y="10840"/>
                  <a:pt x="3721" y="10864"/>
                </a:cubicBezTo>
                <a:cubicBezTo>
                  <a:pt x="3695" y="10909"/>
                  <a:pt x="3667" y="10959"/>
                  <a:pt x="3621" y="10988"/>
                </a:cubicBezTo>
                <a:cubicBezTo>
                  <a:pt x="3538" y="11042"/>
                  <a:pt x="3464" y="11005"/>
                  <a:pt x="3522" y="11038"/>
                </a:cubicBezTo>
                <a:cubicBezTo>
                  <a:pt x="3574" y="11067"/>
                  <a:pt x="3642" y="11071"/>
                  <a:pt x="3696" y="11112"/>
                </a:cubicBezTo>
                <a:cubicBezTo>
                  <a:pt x="3747" y="11151"/>
                  <a:pt x="3845" y="11205"/>
                  <a:pt x="3820" y="11286"/>
                </a:cubicBezTo>
                <a:cubicBezTo>
                  <a:pt x="3803" y="11341"/>
                  <a:pt x="3715" y="11348"/>
                  <a:pt x="3671" y="11336"/>
                </a:cubicBezTo>
                <a:cubicBezTo>
                  <a:pt x="3606" y="11318"/>
                  <a:pt x="3570" y="11308"/>
                  <a:pt x="3522" y="11261"/>
                </a:cubicBezTo>
                <a:cubicBezTo>
                  <a:pt x="3514" y="11253"/>
                  <a:pt x="3505" y="11245"/>
                  <a:pt x="3497" y="11237"/>
                </a:cubicBezTo>
              </a:path>
              <a:path w="2828" h="4267">
                <a:moveTo>
                  <a:pt x="4812" y="10939"/>
                </a:moveTo>
                <a:cubicBezTo>
                  <a:pt x="4802" y="11016"/>
                  <a:pt x="4763" y="11106"/>
                  <a:pt x="4787" y="11187"/>
                </a:cubicBezTo>
                <a:cubicBezTo>
                  <a:pt x="4803" y="11242"/>
                  <a:pt x="4800" y="11248"/>
                  <a:pt x="4837" y="11237"/>
                </a:cubicBezTo>
              </a:path>
              <a:path w="2828" h="4267">
                <a:moveTo>
                  <a:pt x="5060" y="10914"/>
                </a:moveTo>
                <a:cubicBezTo>
                  <a:pt x="5140" y="10918"/>
                  <a:pt x="5276" y="10962"/>
                  <a:pt x="5358" y="10939"/>
                </a:cubicBezTo>
                <a:cubicBezTo>
                  <a:pt x="5407" y="10914"/>
                  <a:pt x="5424" y="10905"/>
                  <a:pt x="5457" y="10889"/>
                </a:cubicBezTo>
                <a:cubicBezTo>
                  <a:pt x="5491" y="10978"/>
                  <a:pt x="5472" y="11001"/>
                  <a:pt x="5457" y="11088"/>
                </a:cubicBezTo>
                <a:cubicBezTo>
                  <a:pt x="5431" y="11241"/>
                  <a:pt x="5465" y="11411"/>
                  <a:pt x="5482" y="11559"/>
                </a:cubicBezTo>
                <a:cubicBezTo>
                  <a:pt x="5490" y="11631"/>
                  <a:pt x="5481" y="11670"/>
                  <a:pt x="5457" y="11733"/>
                </a:cubicBezTo>
              </a:path>
              <a:path w="2828" h="4267">
                <a:moveTo>
                  <a:pt x="2902" y="13965"/>
                </a:moveTo>
                <a:cubicBezTo>
                  <a:pt x="2999" y="13965"/>
                  <a:pt x="3080" y="13986"/>
                  <a:pt x="3175" y="13990"/>
                </a:cubicBezTo>
                <a:cubicBezTo>
                  <a:pt x="3249" y="13990"/>
                  <a:pt x="3274" y="13990"/>
                  <a:pt x="3324" y="13990"/>
                </a:cubicBezTo>
              </a:path>
              <a:path w="2828" h="4267">
                <a:moveTo>
                  <a:pt x="3522" y="13767"/>
                </a:moveTo>
                <a:cubicBezTo>
                  <a:pt x="3622" y="13790"/>
                  <a:pt x="3725" y="13810"/>
                  <a:pt x="3795" y="13891"/>
                </a:cubicBezTo>
                <a:cubicBezTo>
                  <a:pt x="3803" y="13907"/>
                  <a:pt x="3812" y="13924"/>
                  <a:pt x="3820" y="13940"/>
                </a:cubicBezTo>
                <a:cubicBezTo>
                  <a:pt x="3772" y="13998"/>
                  <a:pt x="3686" y="14016"/>
                  <a:pt x="3597" y="13990"/>
                </a:cubicBezTo>
                <a:cubicBezTo>
                  <a:pt x="3589" y="13982"/>
                  <a:pt x="3580" y="13973"/>
                  <a:pt x="3572" y="13965"/>
                </a:cubicBezTo>
                <a:cubicBezTo>
                  <a:pt x="3593" y="14039"/>
                  <a:pt x="3646" y="14066"/>
                  <a:pt x="3696" y="14139"/>
                </a:cubicBezTo>
                <a:cubicBezTo>
                  <a:pt x="3746" y="14213"/>
                  <a:pt x="3781" y="14280"/>
                  <a:pt x="3820" y="14362"/>
                </a:cubicBezTo>
                <a:cubicBezTo>
                  <a:pt x="3857" y="14439"/>
                  <a:pt x="3827" y="14482"/>
                  <a:pt x="3746" y="14486"/>
                </a:cubicBezTo>
                <a:cubicBezTo>
                  <a:pt x="3716" y="14487"/>
                  <a:pt x="3569" y="14468"/>
                  <a:pt x="3621" y="14387"/>
                </a:cubicBezTo>
                <a:cubicBezTo>
                  <a:pt x="3646" y="14362"/>
                  <a:pt x="3671" y="14337"/>
                  <a:pt x="3696" y="14312"/>
                </a:cubicBezTo>
              </a:path>
              <a:path w="2828" h="4267">
                <a:moveTo>
                  <a:pt x="4812" y="14188"/>
                </a:moveTo>
                <a:cubicBezTo>
                  <a:pt x="4812" y="14359"/>
                  <a:pt x="4813" y="14502"/>
                  <a:pt x="4837" y="14660"/>
                </a:cubicBezTo>
                <a:cubicBezTo>
                  <a:pt x="4837" y="14701"/>
                  <a:pt x="4829" y="14717"/>
                  <a:pt x="4862" y="14709"/>
                </a:cubicBezTo>
              </a:path>
              <a:path w="2828" h="4267">
                <a:moveTo>
                  <a:pt x="4986" y="14114"/>
                </a:moveTo>
                <a:cubicBezTo>
                  <a:pt x="5077" y="14033"/>
                  <a:pt x="5077" y="14046"/>
                  <a:pt x="5184" y="14064"/>
                </a:cubicBezTo>
                <a:cubicBezTo>
                  <a:pt x="5259" y="14077"/>
                  <a:pt x="5335" y="14102"/>
                  <a:pt x="5407" y="14114"/>
                </a:cubicBezTo>
                <a:cubicBezTo>
                  <a:pt x="5459" y="14114"/>
                  <a:pt x="5477" y="14115"/>
                  <a:pt x="5507" y="14139"/>
                </a:cubicBezTo>
                <a:cubicBezTo>
                  <a:pt x="5466" y="14220"/>
                  <a:pt x="5436" y="14300"/>
                  <a:pt x="5407" y="14387"/>
                </a:cubicBezTo>
                <a:cubicBezTo>
                  <a:pt x="5369" y="14502"/>
                  <a:pt x="5361" y="14638"/>
                  <a:pt x="5358" y="14759"/>
                </a:cubicBezTo>
                <a:cubicBezTo>
                  <a:pt x="5355" y="14863"/>
                  <a:pt x="5351" y="14960"/>
                  <a:pt x="5383" y="150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nk 11"/>
          <p:cNvSpPr/>
          <p:nvPr/>
        </p:nvSpPr>
        <p:spPr>
          <a:xfrm>
            <a:off x="133200" y="1884240"/>
            <a:ext cx="1893960" cy="4295880"/>
          </a:xfrm>
          <a:custGeom>
            <a:avLst/>
            <a:gdLst/>
            <a:ahLst/>
            <a:rect l="l" t="t" r="r" b="b"/>
            <a:pathLst>
              <a:path w="5260" h="11932">
                <a:moveTo>
                  <a:pt x="2307" y="5234"/>
                </a:moveTo>
                <a:cubicBezTo>
                  <a:pt x="2317" y="5323"/>
                  <a:pt x="2330" y="5410"/>
                  <a:pt x="2332" y="5507"/>
                </a:cubicBezTo>
                <a:cubicBezTo>
                  <a:pt x="2334" y="5640"/>
                  <a:pt x="2338" y="5773"/>
                  <a:pt x="2356" y="5904"/>
                </a:cubicBezTo>
                <a:cubicBezTo>
                  <a:pt x="2380" y="6079"/>
                  <a:pt x="2437" y="6248"/>
                  <a:pt x="2456" y="6424"/>
                </a:cubicBezTo>
                <a:cubicBezTo>
                  <a:pt x="2478" y="6631"/>
                  <a:pt x="2485" y="6838"/>
                  <a:pt x="2505" y="7045"/>
                </a:cubicBezTo>
                <a:cubicBezTo>
                  <a:pt x="2530" y="7299"/>
                  <a:pt x="2567" y="7558"/>
                  <a:pt x="2580" y="7813"/>
                </a:cubicBezTo>
                <a:cubicBezTo>
                  <a:pt x="2600" y="8193"/>
                  <a:pt x="2606" y="8575"/>
                  <a:pt x="2629" y="8954"/>
                </a:cubicBezTo>
                <a:cubicBezTo>
                  <a:pt x="2649" y="9289"/>
                  <a:pt x="2633" y="9611"/>
                  <a:pt x="2629" y="9947"/>
                </a:cubicBezTo>
                <a:cubicBezTo>
                  <a:pt x="2625" y="10294"/>
                  <a:pt x="2626" y="10642"/>
                  <a:pt x="2604" y="10988"/>
                </a:cubicBezTo>
                <a:cubicBezTo>
                  <a:pt x="2582" y="11335"/>
                  <a:pt x="2554" y="11684"/>
                  <a:pt x="2530" y="12030"/>
                </a:cubicBezTo>
                <a:cubicBezTo>
                  <a:pt x="2501" y="12460"/>
                  <a:pt x="2458" y="12890"/>
                  <a:pt x="2431" y="13320"/>
                </a:cubicBezTo>
              </a:path>
              <a:path w="5260" h="11932">
                <a:moveTo>
                  <a:pt x="397" y="9227"/>
                </a:moveTo>
                <a:cubicBezTo>
                  <a:pt x="433" y="9263"/>
                  <a:pt x="358" y="9285"/>
                  <a:pt x="496" y="9302"/>
                </a:cubicBezTo>
                <a:cubicBezTo>
                  <a:pt x="713" y="9328"/>
                  <a:pt x="950" y="9313"/>
                  <a:pt x="1166" y="9327"/>
                </a:cubicBezTo>
                <a:cubicBezTo>
                  <a:pt x="1347" y="9339"/>
                  <a:pt x="1532" y="9348"/>
                  <a:pt x="1712" y="9351"/>
                </a:cubicBezTo>
                <a:cubicBezTo>
                  <a:pt x="2011" y="9356"/>
                  <a:pt x="2305" y="9413"/>
                  <a:pt x="2604" y="9426"/>
                </a:cubicBezTo>
                <a:cubicBezTo>
                  <a:pt x="2951" y="9441"/>
                  <a:pt x="3297" y="9471"/>
                  <a:pt x="3646" y="9475"/>
                </a:cubicBezTo>
                <a:cubicBezTo>
                  <a:pt x="3975" y="9479"/>
                  <a:pt x="4310" y="9497"/>
                  <a:pt x="4638" y="9525"/>
                </a:cubicBezTo>
                <a:cubicBezTo>
                  <a:pt x="4862" y="9544"/>
                  <a:pt x="5084" y="9570"/>
                  <a:pt x="5308" y="9575"/>
                </a:cubicBezTo>
                <a:cubicBezTo>
                  <a:pt x="5396" y="9577"/>
                  <a:pt x="5534" y="9594"/>
                  <a:pt x="5606" y="9525"/>
                </a:cubicBezTo>
                <a:cubicBezTo>
                  <a:pt x="5640" y="9491"/>
                  <a:pt x="5648" y="9470"/>
                  <a:pt x="5631" y="9426"/>
                </a:cubicBezTo>
              </a:path>
              <a:path w="5260" h="11932">
                <a:moveTo>
                  <a:pt x="4341" y="10964"/>
                </a:moveTo>
                <a:cubicBezTo>
                  <a:pt x="4326" y="11064"/>
                  <a:pt x="4316" y="11151"/>
                  <a:pt x="4316" y="11261"/>
                </a:cubicBezTo>
                <a:cubicBezTo>
                  <a:pt x="4316" y="11602"/>
                  <a:pt x="4303" y="11939"/>
                  <a:pt x="4291" y="12278"/>
                </a:cubicBezTo>
                <a:cubicBezTo>
                  <a:pt x="4275" y="12725"/>
                  <a:pt x="4285" y="13171"/>
                  <a:pt x="4266" y="13618"/>
                </a:cubicBezTo>
                <a:cubicBezTo>
                  <a:pt x="4244" y="14138"/>
                  <a:pt x="4244" y="14660"/>
                  <a:pt x="4217" y="15180"/>
                </a:cubicBezTo>
                <a:cubicBezTo>
                  <a:pt x="4195" y="15607"/>
                  <a:pt x="4139" y="16048"/>
                  <a:pt x="4068" y="16470"/>
                </a:cubicBezTo>
                <a:cubicBezTo>
                  <a:pt x="4028" y="16708"/>
                  <a:pt x="3961" y="16934"/>
                  <a:pt x="3894" y="17165"/>
                </a:cubicBezTo>
              </a:path>
              <a:path w="5260" h="11932">
                <a:moveTo>
                  <a:pt x="4341" y="15776"/>
                </a:moveTo>
                <a:cubicBezTo>
                  <a:pt x="4399" y="15511"/>
                  <a:pt x="4456" y="15247"/>
                  <a:pt x="4514" y="149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unction is considered “odd” if f(-x) = -f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479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it is odd if the graph is symmetric to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File:Function-x3.svg"/>
          <p:cNvPicPr/>
          <p:nvPr/>
        </p:nvPicPr>
        <p:blipFill>
          <a:blip r:embed="rId1"/>
          <a:stretch/>
        </p:blipFill>
        <p:spPr>
          <a:xfrm>
            <a:off x="2438280" y="2971800"/>
            <a:ext cx="3543480" cy="3543480"/>
          </a:xfrm>
          <a:prstGeom prst="rect">
            <a:avLst/>
          </a:prstGeom>
          <a:ln w="0">
            <a:noFill/>
          </a:ln>
        </p:spPr>
      </p:pic>
      <p:sp>
        <p:nvSpPr>
          <p:cNvPr id="138" name="Ink 8"/>
          <p:cNvSpPr/>
          <p:nvPr/>
        </p:nvSpPr>
        <p:spPr>
          <a:xfrm>
            <a:off x="5599080" y="2608200"/>
            <a:ext cx="874800" cy="214200"/>
          </a:xfrm>
          <a:custGeom>
            <a:avLst/>
            <a:gdLst/>
            <a:ahLst/>
            <a:rect l="l" t="t" r="r" b="b"/>
            <a:pathLst>
              <a:path w="2431" h="596">
                <a:moveTo>
                  <a:pt x="15553" y="7392"/>
                </a:moveTo>
                <a:cubicBezTo>
                  <a:pt x="15730" y="7392"/>
                  <a:pt x="15897" y="7396"/>
                  <a:pt x="16073" y="7417"/>
                </a:cubicBezTo>
                <a:cubicBezTo>
                  <a:pt x="16347" y="7449"/>
                  <a:pt x="16618" y="7462"/>
                  <a:pt x="16892" y="7491"/>
                </a:cubicBezTo>
                <a:cubicBezTo>
                  <a:pt x="17069" y="7510"/>
                  <a:pt x="17235" y="7541"/>
                  <a:pt x="17413" y="7541"/>
                </a:cubicBezTo>
                <a:cubicBezTo>
                  <a:pt x="17228" y="7454"/>
                  <a:pt x="17025" y="7421"/>
                  <a:pt x="16818" y="7392"/>
                </a:cubicBezTo>
                <a:cubicBezTo>
                  <a:pt x="16588" y="7360"/>
                  <a:pt x="16354" y="7353"/>
                  <a:pt x="16123" y="7342"/>
                </a:cubicBezTo>
                <a:cubicBezTo>
                  <a:pt x="16441" y="7269"/>
                  <a:pt x="16738" y="7227"/>
                  <a:pt x="17066" y="7268"/>
                </a:cubicBezTo>
                <a:cubicBezTo>
                  <a:pt x="17164" y="7280"/>
                  <a:pt x="17925" y="7436"/>
                  <a:pt x="17686" y="7441"/>
                </a:cubicBezTo>
                <a:cubicBezTo>
                  <a:pt x="17400" y="7447"/>
                  <a:pt x="17127" y="7457"/>
                  <a:pt x="16842" y="7491"/>
                </a:cubicBezTo>
                <a:cubicBezTo>
                  <a:pt x="16669" y="7513"/>
                  <a:pt x="16628" y="7521"/>
                  <a:pt x="16520" y="7516"/>
                </a:cubicBezTo>
                <a:cubicBezTo>
                  <a:pt x="16323" y="7516"/>
                  <a:pt x="16634" y="7496"/>
                  <a:pt x="16669" y="7491"/>
                </a:cubicBezTo>
                <a:cubicBezTo>
                  <a:pt x="16988" y="7443"/>
                  <a:pt x="17316" y="7460"/>
                  <a:pt x="17636" y="7491"/>
                </a:cubicBezTo>
                <a:cubicBezTo>
                  <a:pt x="17811" y="7513"/>
                  <a:pt x="17853" y="7516"/>
                  <a:pt x="17959" y="7541"/>
                </a:cubicBezTo>
                <a:cubicBezTo>
                  <a:pt x="17723" y="7488"/>
                  <a:pt x="17506" y="7491"/>
                  <a:pt x="17264" y="7491"/>
                </a:cubicBezTo>
                <a:cubicBezTo>
                  <a:pt x="17168" y="7491"/>
                  <a:pt x="16578" y="7493"/>
                  <a:pt x="16669" y="7466"/>
                </a:cubicBezTo>
                <a:cubicBezTo>
                  <a:pt x="16719" y="7458"/>
                  <a:pt x="16768" y="7449"/>
                  <a:pt x="16818" y="7441"/>
                </a:cubicBezTo>
                <a:cubicBezTo>
                  <a:pt x="17133" y="7413"/>
                  <a:pt x="17400" y="7431"/>
                  <a:pt x="17711" y="7491"/>
                </a:cubicBezTo>
                <a:cubicBezTo>
                  <a:pt x="17993" y="7546"/>
                  <a:pt x="17821" y="7506"/>
                  <a:pt x="17661" y="7516"/>
                </a:cubicBezTo>
                <a:cubicBezTo>
                  <a:pt x="17339" y="7536"/>
                  <a:pt x="17035" y="7627"/>
                  <a:pt x="16718" y="7665"/>
                </a:cubicBezTo>
                <a:cubicBezTo>
                  <a:pt x="16389" y="7705"/>
                  <a:pt x="16607" y="7637"/>
                  <a:pt x="16768" y="7615"/>
                </a:cubicBezTo>
                <a:cubicBezTo>
                  <a:pt x="17171" y="7560"/>
                  <a:pt x="17583" y="7638"/>
                  <a:pt x="17983" y="7689"/>
                </a:cubicBezTo>
                <a:cubicBezTo>
                  <a:pt x="17711" y="7625"/>
                  <a:pt x="17474" y="7593"/>
                  <a:pt x="17190" y="7590"/>
                </a:cubicBezTo>
                <a:cubicBezTo>
                  <a:pt x="17164" y="7590"/>
                  <a:pt x="16505" y="7573"/>
                  <a:pt x="16793" y="7615"/>
                </a:cubicBezTo>
                <a:cubicBezTo>
                  <a:pt x="17132" y="7664"/>
                  <a:pt x="17414" y="7727"/>
                  <a:pt x="17735" y="78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nk 9"/>
          <p:cNvSpPr/>
          <p:nvPr/>
        </p:nvSpPr>
        <p:spPr>
          <a:xfrm>
            <a:off x="3160800" y="2741760"/>
            <a:ext cx="1268280" cy="322200"/>
          </a:xfrm>
          <a:custGeom>
            <a:avLst/>
            <a:gdLst/>
            <a:ahLst/>
            <a:rect l="l" t="t" r="r" b="b"/>
            <a:pathLst>
              <a:path w="3523" h="894">
                <a:moveTo>
                  <a:pt x="8806" y="8235"/>
                </a:moveTo>
                <a:cubicBezTo>
                  <a:pt x="8806" y="8266"/>
                  <a:pt x="8806" y="8489"/>
                  <a:pt x="8806" y="8359"/>
                </a:cubicBezTo>
                <a:cubicBezTo>
                  <a:pt x="8806" y="8268"/>
                  <a:pt x="8794" y="8198"/>
                  <a:pt x="8781" y="8111"/>
                </a:cubicBezTo>
                <a:cubicBezTo>
                  <a:pt x="8762" y="7982"/>
                  <a:pt x="8785" y="7876"/>
                  <a:pt x="8830" y="7764"/>
                </a:cubicBezTo>
                <a:cubicBezTo>
                  <a:pt x="8865" y="7678"/>
                  <a:pt x="8950" y="7620"/>
                  <a:pt x="9054" y="7640"/>
                </a:cubicBezTo>
                <a:cubicBezTo>
                  <a:pt x="9155" y="7659"/>
                  <a:pt x="9194" y="7724"/>
                  <a:pt x="9203" y="7813"/>
                </a:cubicBezTo>
                <a:cubicBezTo>
                  <a:pt x="9213" y="7919"/>
                  <a:pt x="9147" y="7970"/>
                  <a:pt x="9079" y="8037"/>
                </a:cubicBezTo>
                <a:cubicBezTo>
                  <a:pt x="9014" y="8101"/>
                  <a:pt x="8998" y="8119"/>
                  <a:pt x="8930" y="8161"/>
                </a:cubicBezTo>
                <a:cubicBezTo>
                  <a:pt x="8970" y="8232"/>
                  <a:pt x="9010" y="8246"/>
                  <a:pt x="9079" y="8285"/>
                </a:cubicBezTo>
                <a:cubicBezTo>
                  <a:pt x="9135" y="8317"/>
                  <a:pt x="9305" y="8413"/>
                  <a:pt x="9376" y="8409"/>
                </a:cubicBezTo>
                <a:cubicBezTo>
                  <a:pt x="9384" y="8401"/>
                  <a:pt x="9393" y="8392"/>
                  <a:pt x="9401" y="8384"/>
                </a:cubicBezTo>
              </a:path>
              <a:path w="3523" h="894">
                <a:moveTo>
                  <a:pt x="9426" y="8111"/>
                </a:moveTo>
                <a:cubicBezTo>
                  <a:pt x="9396" y="8194"/>
                  <a:pt x="9361" y="8235"/>
                  <a:pt x="9401" y="8310"/>
                </a:cubicBezTo>
                <a:cubicBezTo>
                  <a:pt x="9441" y="8384"/>
                  <a:pt x="9525" y="8375"/>
                  <a:pt x="9599" y="8334"/>
                </a:cubicBezTo>
                <a:cubicBezTo>
                  <a:pt x="9641" y="8311"/>
                  <a:pt x="9686" y="8259"/>
                  <a:pt x="9674" y="8210"/>
                </a:cubicBezTo>
                <a:cubicBezTo>
                  <a:pt x="9658" y="8142"/>
                  <a:pt x="9638" y="8079"/>
                  <a:pt x="9575" y="8037"/>
                </a:cubicBezTo>
                <a:cubicBezTo>
                  <a:pt x="9513" y="7995"/>
                  <a:pt x="9422" y="8039"/>
                  <a:pt x="9401" y="8111"/>
                </a:cubicBezTo>
                <a:cubicBezTo>
                  <a:pt x="9375" y="8200"/>
                  <a:pt x="9432" y="8173"/>
                  <a:pt x="9475" y="8161"/>
                </a:cubicBezTo>
              </a:path>
              <a:path w="3523" h="894">
                <a:moveTo>
                  <a:pt x="9847" y="7789"/>
                </a:moveTo>
                <a:cubicBezTo>
                  <a:pt x="9829" y="7941"/>
                  <a:pt x="9823" y="8082"/>
                  <a:pt x="9823" y="8235"/>
                </a:cubicBezTo>
                <a:cubicBezTo>
                  <a:pt x="9823" y="8298"/>
                  <a:pt x="9834" y="8331"/>
                  <a:pt x="9847" y="8384"/>
                </a:cubicBezTo>
              </a:path>
              <a:path w="3523" h="894">
                <a:moveTo>
                  <a:pt x="9674" y="8111"/>
                </a:moveTo>
                <a:cubicBezTo>
                  <a:pt x="9755" y="8138"/>
                  <a:pt x="9859" y="8153"/>
                  <a:pt x="9947" y="8136"/>
                </a:cubicBezTo>
                <a:cubicBezTo>
                  <a:pt x="10002" y="8126"/>
                  <a:pt x="10053" y="8112"/>
                  <a:pt x="10096" y="8086"/>
                </a:cubicBezTo>
                <a:cubicBezTo>
                  <a:pt x="10168" y="8014"/>
                  <a:pt x="10002" y="8179"/>
                  <a:pt x="9996" y="8186"/>
                </a:cubicBezTo>
                <a:cubicBezTo>
                  <a:pt x="9943" y="8251"/>
                  <a:pt x="9975" y="8355"/>
                  <a:pt x="10071" y="8334"/>
                </a:cubicBezTo>
                <a:cubicBezTo>
                  <a:pt x="10104" y="8327"/>
                  <a:pt x="10133" y="8256"/>
                  <a:pt x="10145" y="8235"/>
                </a:cubicBezTo>
                <a:cubicBezTo>
                  <a:pt x="10153" y="8227"/>
                  <a:pt x="10162" y="8218"/>
                  <a:pt x="10170" y="8210"/>
                </a:cubicBezTo>
                <a:cubicBezTo>
                  <a:pt x="10177" y="8281"/>
                  <a:pt x="10179" y="8317"/>
                  <a:pt x="10244" y="8359"/>
                </a:cubicBezTo>
                <a:cubicBezTo>
                  <a:pt x="10297" y="8393"/>
                  <a:pt x="10389" y="8367"/>
                  <a:pt x="10443" y="8334"/>
                </a:cubicBezTo>
                <a:cubicBezTo>
                  <a:pt x="10513" y="8292"/>
                  <a:pt x="10506" y="8118"/>
                  <a:pt x="10517" y="8062"/>
                </a:cubicBezTo>
                <a:cubicBezTo>
                  <a:pt x="10539" y="7951"/>
                  <a:pt x="10542" y="7852"/>
                  <a:pt x="10542" y="7739"/>
                </a:cubicBezTo>
                <a:cubicBezTo>
                  <a:pt x="10492" y="7801"/>
                  <a:pt x="10475" y="7882"/>
                  <a:pt x="10468" y="7962"/>
                </a:cubicBezTo>
                <a:cubicBezTo>
                  <a:pt x="10457" y="8079"/>
                  <a:pt x="10492" y="8175"/>
                  <a:pt x="10567" y="8260"/>
                </a:cubicBezTo>
                <a:cubicBezTo>
                  <a:pt x="10619" y="8318"/>
                  <a:pt x="10684" y="8356"/>
                  <a:pt x="10765" y="8334"/>
                </a:cubicBezTo>
                <a:cubicBezTo>
                  <a:pt x="10847" y="8312"/>
                  <a:pt x="10865" y="8249"/>
                  <a:pt x="10889" y="8186"/>
                </a:cubicBezTo>
                <a:cubicBezTo>
                  <a:pt x="10897" y="8169"/>
                  <a:pt x="10906" y="8153"/>
                  <a:pt x="10914" y="8136"/>
                </a:cubicBezTo>
                <a:cubicBezTo>
                  <a:pt x="10795" y="8221"/>
                  <a:pt x="10793" y="8286"/>
                  <a:pt x="10889" y="8434"/>
                </a:cubicBezTo>
                <a:cubicBezTo>
                  <a:pt x="10916" y="8476"/>
                  <a:pt x="10996" y="8497"/>
                  <a:pt x="11038" y="8508"/>
                </a:cubicBezTo>
              </a:path>
              <a:path w="3523" h="894">
                <a:moveTo>
                  <a:pt x="10344" y="7962"/>
                </a:moveTo>
                <a:cubicBezTo>
                  <a:pt x="10440" y="8027"/>
                  <a:pt x="10542" y="8034"/>
                  <a:pt x="10666" y="8037"/>
                </a:cubicBezTo>
                <a:cubicBezTo>
                  <a:pt x="10707" y="8037"/>
                  <a:pt x="10749" y="8037"/>
                  <a:pt x="10790" y="8037"/>
                </a:cubicBezTo>
              </a:path>
              <a:path w="3523" h="894">
                <a:moveTo>
                  <a:pt x="11385" y="7789"/>
                </a:moveTo>
                <a:cubicBezTo>
                  <a:pt x="11385" y="7951"/>
                  <a:pt x="11350" y="8155"/>
                  <a:pt x="11410" y="8310"/>
                </a:cubicBezTo>
                <a:cubicBezTo>
                  <a:pt x="11435" y="8359"/>
                  <a:pt x="11444" y="8376"/>
                  <a:pt x="11460" y="8409"/>
                </a:cubicBezTo>
              </a:path>
              <a:path w="3523" h="894">
                <a:moveTo>
                  <a:pt x="11733" y="7863"/>
                </a:moveTo>
                <a:cubicBezTo>
                  <a:pt x="11654" y="7846"/>
                  <a:pt x="11611" y="7838"/>
                  <a:pt x="11534" y="7838"/>
                </a:cubicBezTo>
                <a:cubicBezTo>
                  <a:pt x="11534" y="7945"/>
                  <a:pt x="11567" y="7974"/>
                  <a:pt x="11633" y="8062"/>
                </a:cubicBezTo>
                <a:cubicBezTo>
                  <a:pt x="11681" y="8126"/>
                  <a:pt x="11812" y="8267"/>
                  <a:pt x="11807" y="8359"/>
                </a:cubicBezTo>
                <a:cubicBezTo>
                  <a:pt x="11782" y="8409"/>
                  <a:pt x="11774" y="8425"/>
                  <a:pt x="11733" y="8434"/>
                </a:cubicBezTo>
                <a:cubicBezTo>
                  <a:pt x="11672" y="8397"/>
                  <a:pt x="11563" y="8361"/>
                  <a:pt x="11559" y="8260"/>
                </a:cubicBezTo>
                <a:cubicBezTo>
                  <a:pt x="11555" y="8148"/>
                  <a:pt x="11636" y="8084"/>
                  <a:pt x="11708" y="8012"/>
                </a:cubicBezTo>
                <a:cubicBezTo>
                  <a:pt x="11782" y="7937"/>
                  <a:pt x="11858" y="7885"/>
                  <a:pt x="11956" y="7863"/>
                </a:cubicBezTo>
                <a:cubicBezTo>
                  <a:pt x="11943" y="7964"/>
                  <a:pt x="11886" y="7999"/>
                  <a:pt x="11832" y="8086"/>
                </a:cubicBezTo>
                <a:cubicBezTo>
                  <a:pt x="11770" y="8186"/>
                  <a:pt x="11779" y="8243"/>
                  <a:pt x="11881" y="8310"/>
                </a:cubicBezTo>
                <a:cubicBezTo>
                  <a:pt x="11934" y="8345"/>
                  <a:pt x="12053" y="8342"/>
                  <a:pt x="12105" y="8310"/>
                </a:cubicBezTo>
                <a:cubicBezTo>
                  <a:pt x="12176" y="8266"/>
                  <a:pt x="12215" y="8138"/>
                  <a:pt x="12229" y="8062"/>
                </a:cubicBezTo>
                <a:cubicBezTo>
                  <a:pt x="12247" y="7964"/>
                  <a:pt x="12122" y="7920"/>
                  <a:pt x="12055" y="7888"/>
                </a:cubicBezTo>
                <a:cubicBezTo>
                  <a:pt x="12011" y="7866"/>
                  <a:pt x="12000" y="7863"/>
                  <a:pt x="11981" y="7838"/>
                </a:cubicBezTo>
              </a:path>
              <a:path w="3523" h="894">
                <a:moveTo>
                  <a:pt x="12129" y="7665"/>
                </a:moveTo>
                <a:cubicBezTo>
                  <a:pt x="12140" y="7738"/>
                  <a:pt x="12151" y="7759"/>
                  <a:pt x="12229" y="7764"/>
                </a:cubicBezTo>
                <a:cubicBezTo>
                  <a:pt x="12273" y="7764"/>
                  <a:pt x="12287" y="7767"/>
                  <a:pt x="12303" y="7739"/>
                </a:cubicBezTo>
                <a:cubicBezTo>
                  <a:pt x="12288" y="7632"/>
                  <a:pt x="12207" y="7643"/>
                  <a:pt x="12105" y="76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10"/>
          <p:cNvSpPr/>
          <p:nvPr/>
        </p:nvSpPr>
        <p:spPr>
          <a:xfrm>
            <a:off x="223920" y="2027160"/>
            <a:ext cx="1133280" cy="438120"/>
          </a:xfrm>
          <a:custGeom>
            <a:avLst/>
            <a:gdLst/>
            <a:ahLst/>
            <a:rect l="l" t="t" r="r" b="b"/>
            <a:pathLst>
              <a:path w="3151" h="1216">
                <a:moveTo>
                  <a:pt x="620" y="6598"/>
                </a:moveTo>
                <a:cubicBezTo>
                  <a:pt x="725" y="6617"/>
                  <a:pt x="826" y="6598"/>
                  <a:pt x="943" y="6598"/>
                </a:cubicBezTo>
                <a:cubicBezTo>
                  <a:pt x="1129" y="6598"/>
                  <a:pt x="1327" y="6565"/>
                  <a:pt x="1513" y="6548"/>
                </a:cubicBezTo>
                <a:cubicBezTo>
                  <a:pt x="1778" y="6523"/>
                  <a:pt x="2041" y="6484"/>
                  <a:pt x="2307" y="6474"/>
                </a:cubicBezTo>
                <a:cubicBezTo>
                  <a:pt x="2588" y="6463"/>
                  <a:pt x="2870" y="6473"/>
                  <a:pt x="3150" y="6449"/>
                </a:cubicBezTo>
                <a:cubicBezTo>
                  <a:pt x="3331" y="6434"/>
                  <a:pt x="3545" y="6444"/>
                  <a:pt x="3721" y="6400"/>
                </a:cubicBezTo>
                <a:cubicBezTo>
                  <a:pt x="3762" y="6400"/>
                  <a:pt x="3778" y="6408"/>
                  <a:pt x="3770" y="6375"/>
                </a:cubicBezTo>
              </a:path>
              <a:path w="3151" h="1216">
                <a:moveTo>
                  <a:pt x="1315" y="5779"/>
                </a:moveTo>
                <a:cubicBezTo>
                  <a:pt x="1431" y="5914"/>
                  <a:pt x="1531" y="6037"/>
                  <a:pt x="1687" y="6127"/>
                </a:cubicBezTo>
                <a:cubicBezTo>
                  <a:pt x="1763" y="6171"/>
                  <a:pt x="1871" y="6256"/>
                  <a:pt x="1960" y="6276"/>
                </a:cubicBezTo>
                <a:cubicBezTo>
                  <a:pt x="1976" y="6276"/>
                  <a:pt x="1993" y="6276"/>
                  <a:pt x="2009" y="6276"/>
                </a:cubicBezTo>
              </a:path>
              <a:path w="3151" h="1216">
                <a:moveTo>
                  <a:pt x="1761" y="5631"/>
                </a:moveTo>
                <a:cubicBezTo>
                  <a:pt x="1660" y="5745"/>
                  <a:pt x="1592" y="5887"/>
                  <a:pt x="1538" y="6028"/>
                </a:cubicBezTo>
                <a:cubicBezTo>
                  <a:pt x="1512" y="6096"/>
                  <a:pt x="1410" y="6253"/>
                  <a:pt x="1414" y="6325"/>
                </a:cubicBezTo>
                <a:cubicBezTo>
                  <a:pt x="1422" y="6342"/>
                  <a:pt x="1431" y="6358"/>
                  <a:pt x="1439" y="6375"/>
                </a:cubicBezTo>
              </a:path>
              <a:path w="3151" h="1216">
                <a:moveTo>
                  <a:pt x="2654" y="6028"/>
                </a:moveTo>
                <a:cubicBezTo>
                  <a:pt x="2683" y="6097"/>
                  <a:pt x="2716" y="6250"/>
                  <a:pt x="2803" y="6276"/>
                </a:cubicBezTo>
                <a:cubicBezTo>
                  <a:pt x="2884" y="6300"/>
                  <a:pt x="2957" y="6261"/>
                  <a:pt x="3026" y="6226"/>
                </a:cubicBezTo>
              </a:path>
              <a:path w="3151" h="1216">
                <a:moveTo>
                  <a:pt x="3150" y="6028"/>
                </a:moveTo>
                <a:cubicBezTo>
                  <a:pt x="3167" y="5978"/>
                  <a:pt x="3183" y="5929"/>
                  <a:pt x="3200" y="5879"/>
                </a:cubicBezTo>
                <a:cubicBezTo>
                  <a:pt x="3200" y="5998"/>
                  <a:pt x="3222" y="6108"/>
                  <a:pt x="3225" y="6226"/>
                </a:cubicBezTo>
                <a:cubicBezTo>
                  <a:pt x="3228" y="6334"/>
                  <a:pt x="3237" y="6446"/>
                  <a:pt x="3200" y="6548"/>
                </a:cubicBezTo>
                <a:cubicBezTo>
                  <a:pt x="3156" y="6667"/>
                  <a:pt x="3105" y="6723"/>
                  <a:pt x="3001" y="6796"/>
                </a:cubicBezTo>
                <a:cubicBezTo>
                  <a:pt x="2976" y="6813"/>
                  <a:pt x="2952" y="6829"/>
                  <a:pt x="2927" y="6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11"/>
          <p:cNvSpPr/>
          <p:nvPr/>
        </p:nvSpPr>
        <p:spPr>
          <a:xfrm>
            <a:off x="490680" y="2894040"/>
            <a:ext cx="196560" cy="258840"/>
          </a:xfrm>
          <a:custGeom>
            <a:avLst/>
            <a:gdLst/>
            <a:ahLst/>
            <a:rect l="l" t="t" r="r" b="b"/>
            <a:pathLst>
              <a:path w="547" h="720">
                <a:moveTo>
                  <a:pt x="1439" y="8111"/>
                </a:moveTo>
                <a:cubicBezTo>
                  <a:pt x="1524" y="8111"/>
                  <a:pt x="1584" y="8099"/>
                  <a:pt x="1662" y="8086"/>
                </a:cubicBezTo>
                <a:cubicBezTo>
                  <a:pt x="1738" y="8073"/>
                  <a:pt x="1754" y="8094"/>
                  <a:pt x="1811" y="8037"/>
                </a:cubicBezTo>
              </a:path>
              <a:path w="547" h="720">
                <a:moveTo>
                  <a:pt x="1414" y="8111"/>
                </a:moveTo>
                <a:cubicBezTo>
                  <a:pt x="1371" y="8210"/>
                  <a:pt x="1342" y="8207"/>
                  <a:pt x="1389" y="8285"/>
                </a:cubicBezTo>
                <a:cubicBezTo>
                  <a:pt x="1453" y="8276"/>
                  <a:pt x="1514" y="8239"/>
                  <a:pt x="1588" y="8260"/>
                </a:cubicBezTo>
                <a:cubicBezTo>
                  <a:pt x="1718" y="8296"/>
                  <a:pt x="1764" y="8357"/>
                  <a:pt x="1836" y="8458"/>
                </a:cubicBezTo>
                <a:cubicBezTo>
                  <a:pt x="1899" y="8546"/>
                  <a:pt x="1962" y="8623"/>
                  <a:pt x="1860" y="8706"/>
                </a:cubicBezTo>
                <a:cubicBezTo>
                  <a:pt x="1817" y="8741"/>
                  <a:pt x="1690" y="8764"/>
                  <a:pt x="1637" y="8756"/>
                </a:cubicBezTo>
                <a:cubicBezTo>
                  <a:pt x="1578" y="8747"/>
                  <a:pt x="1466" y="8730"/>
                  <a:pt x="1414" y="8706"/>
                </a:cubicBezTo>
                <a:cubicBezTo>
                  <a:pt x="1406" y="8698"/>
                  <a:pt x="1397" y="8690"/>
                  <a:pt x="1389" y="86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12"/>
          <p:cNvSpPr/>
          <p:nvPr/>
        </p:nvSpPr>
        <p:spPr>
          <a:xfrm>
            <a:off x="1027080" y="2901960"/>
            <a:ext cx="339840" cy="241200"/>
          </a:xfrm>
          <a:custGeom>
            <a:avLst/>
            <a:gdLst/>
            <a:ahLst/>
            <a:rect l="l" t="t" r="r" b="b"/>
            <a:pathLst>
              <a:path w="943" h="670">
                <a:moveTo>
                  <a:pt x="2853" y="8062"/>
                </a:moveTo>
                <a:cubicBezTo>
                  <a:pt x="2876" y="8157"/>
                  <a:pt x="2877" y="8236"/>
                  <a:pt x="2877" y="8334"/>
                </a:cubicBezTo>
                <a:cubicBezTo>
                  <a:pt x="2877" y="8448"/>
                  <a:pt x="2889" y="8551"/>
                  <a:pt x="2902" y="8657"/>
                </a:cubicBezTo>
                <a:cubicBezTo>
                  <a:pt x="2902" y="8682"/>
                  <a:pt x="2902" y="8706"/>
                  <a:pt x="2902" y="8731"/>
                </a:cubicBezTo>
              </a:path>
              <a:path w="943" h="670">
                <a:moveTo>
                  <a:pt x="3249" y="8186"/>
                </a:moveTo>
                <a:cubicBezTo>
                  <a:pt x="3229" y="8330"/>
                  <a:pt x="3184" y="8493"/>
                  <a:pt x="3299" y="8607"/>
                </a:cubicBezTo>
                <a:cubicBezTo>
                  <a:pt x="3337" y="8645"/>
                  <a:pt x="3440" y="8712"/>
                  <a:pt x="3497" y="8706"/>
                </a:cubicBezTo>
                <a:cubicBezTo>
                  <a:pt x="3577" y="8697"/>
                  <a:pt x="3665" y="8635"/>
                  <a:pt x="3721" y="8582"/>
                </a:cubicBezTo>
                <a:cubicBezTo>
                  <a:pt x="3807" y="8501"/>
                  <a:pt x="3795" y="8420"/>
                  <a:pt x="3795" y="8310"/>
                </a:cubicBezTo>
                <a:cubicBezTo>
                  <a:pt x="3795" y="8176"/>
                  <a:pt x="3710" y="8150"/>
                  <a:pt x="3597" y="8111"/>
                </a:cubicBezTo>
                <a:cubicBezTo>
                  <a:pt x="3483" y="8072"/>
                  <a:pt x="3387" y="8083"/>
                  <a:pt x="3274" y="81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13"/>
          <p:cNvSpPr/>
          <p:nvPr/>
        </p:nvSpPr>
        <p:spPr>
          <a:xfrm>
            <a:off x="384120" y="3303720"/>
            <a:ext cx="347760" cy="223560"/>
          </a:xfrm>
          <a:custGeom>
            <a:avLst/>
            <a:gdLst/>
            <a:ahLst/>
            <a:rect l="l" t="t" r="r" b="b"/>
            <a:pathLst>
              <a:path w="968" h="621">
                <a:moveTo>
                  <a:pt x="1067" y="9376"/>
                </a:moveTo>
                <a:cubicBezTo>
                  <a:pt x="1185" y="9376"/>
                  <a:pt x="1304" y="9388"/>
                  <a:pt x="1414" y="9351"/>
                </a:cubicBezTo>
              </a:path>
              <a:path w="968" h="621">
                <a:moveTo>
                  <a:pt x="1637" y="9178"/>
                </a:moveTo>
                <a:cubicBezTo>
                  <a:pt x="1740" y="9191"/>
                  <a:pt x="1848" y="9230"/>
                  <a:pt x="1935" y="9178"/>
                </a:cubicBezTo>
              </a:path>
              <a:path w="968" h="621">
                <a:moveTo>
                  <a:pt x="1563" y="9227"/>
                </a:moveTo>
                <a:cubicBezTo>
                  <a:pt x="1487" y="9303"/>
                  <a:pt x="1475" y="9291"/>
                  <a:pt x="1463" y="9376"/>
                </a:cubicBezTo>
                <a:cubicBezTo>
                  <a:pt x="1549" y="9434"/>
                  <a:pt x="1594" y="9404"/>
                  <a:pt x="1687" y="9426"/>
                </a:cubicBezTo>
                <a:cubicBezTo>
                  <a:pt x="1789" y="9451"/>
                  <a:pt x="1872" y="9495"/>
                  <a:pt x="1960" y="9550"/>
                </a:cubicBezTo>
                <a:cubicBezTo>
                  <a:pt x="2024" y="9590"/>
                  <a:pt x="2089" y="9699"/>
                  <a:pt x="2009" y="9773"/>
                </a:cubicBezTo>
                <a:cubicBezTo>
                  <a:pt x="1976" y="9804"/>
                  <a:pt x="1837" y="9798"/>
                  <a:pt x="1786" y="9798"/>
                </a:cubicBezTo>
                <a:cubicBezTo>
                  <a:pt x="1737" y="9798"/>
                  <a:pt x="1632" y="9818"/>
                  <a:pt x="1612" y="9748"/>
                </a:cubicBezTo>
                <a:cubicBezTo>
                  <a:pt x="1612" y="9732"/>
                  <a:pt x="1612" y="9715"/>
                  <a:pt x="1612" y="96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14"/>
          <p:cNvSpPr/>
          <p:nvPr/>
        </p:nvSpPr>
        <p:spPr>
          <a:xfrm>
            <a:off x="982800" y="3321000"/>
            <a:ext cx="438120" cy="243000"/>
          </a:xfrm>
          <a:custGeom>
            <a:avLst/>
            <a:gdLst/>
            <a:ahLst/>
            <a:rect l="l" t="t" r="r" b="b"/>
            <a:pathLst>
              <a:path w="1216" h="671">
                <a:moveTo>
                  <a:pt x="2729" y="9500"/>
                </a:moveTo>
                <a:cubicBezTo>
                  <a:pt x="2807" y="9516"/>
                  <a:pt x="2919" y="9548"/>
                  <a:pt x="3001" y="9525"/>
                </a:cubicBezTo>
                <a:cubicBezTo>
                  <a:pt x="3018" y="9517"/>
                  <a:pt x="3034" y="9508"/>
                  <a:pt x="3051" y="9500"/>
                </a:cubicBezTo>
              </a:path>
              <a:path w="1216" h="671">
                <a:moveTo>
                  <a:pt x="3249" y="9252"/>
                </a:moveTo>
                <a:cubicBezTo>
                  <a:pt x="3249" y="9354"/>
                  <a:pt x="3189" y="9781"/>
                  <a:pt x="3274" y="9897"/>
                </a:cubicBezTo>
                <a:cubicBezTo>
                  <a:pt x="3282" y="9897"/>
                  <a:pt x="3291" y="9897"/>
                  <a:pt x="3299" y="9897"/>
                </a:cubicBezTo>
              </a:path>
              <a:path w="1216" h="671">
                <a:moveTo>
                  <a:pt x="3522" y="9277"/>
                </a:moveTo>
                <a:cubicBezTo>
                  <a:pt x="3496" y="9386"/>
                  <a:pt x="3473" y="9465"/>
                  <a:pt x="3473" y="9575"/>
                </a:cubicBezTo>
                <a:cubicBezTo>
                  <a:pt x="3473" y="9673"/>
                  <a:pt x="3507" y="9708"/>
                  <a:pt x="3572" y="9773"/>
                </a:cubicBezTo>
                <a:cubicBezTo>
                  <a:pt x="3606" y="9807"/>
                  <a:pt x="3697" y="9812"/>
                  <a:pt x="3746" y="9798"/>
                </a:cubicBezTo>
                <a:cubicBezTo>
                  <a:pt x="3818" y="9778"/>
                  <a:pt x="3890" y="9689"/>
                  <a:pt x="3919" y="9624"/>
                </a:cubicBezTo>
                <a:cubicBezTo>
                  <a:pt x="3948" y="9558"/>
                  <a:pt x="3971" y="9415"/>
                  <a:pt x="3919" y="9351"/>
                </a:cubicBezTo>
                <a:cubicBezTo>
                  <a:pt x="3873" y="9294"/>
                  <a:pt x="3719" y="9236"/>
                  <a:pt x="3646" y="9227"/>
                </a:cubicBezTo>
                <a:cubicBezTo>
                  <a:pt x="3555" y="9227"/>
                  <a:pt x="3531" y="9227"/>
                  <a:pt x="3473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15"/>
          <p:cNvSpPr/>
          <p:nvPr/>
        </p:nvSpPr>
        <p:spPr>
          <a:xfrm>
            <a:off x="330120" y="3714840"/>
            <a:ext cx="455760" cy="250560"/>
          </a:xfrm>
          <a:custGeom>
            <a:avLst/>
            <a:gdLst/>
            <a:ahLst/>
            <a:rect l="l" t="t" r="r" b="b"/>
            <a:pathLst>
              <a:path w="1266" h="695">
                <a:moveTo>
                  <a:pt x="918" y="10492"/>
                </a:moveTo>
                <a:cubicBezTo>
                  <a:pt x="968" y="10517"/>
                  <a:pt x="1078" y="10537"/>
                  <a:pt x="1141" y="10542"/>
                </a:cubicBezTo>
                <a:cubicBezTo>
                  <a:pt x="1266" y="10542"/>
                  <a:pt x="1294" y="10550"/>
                  <a:pt x="1364" y="10517"/>
                </a:cubicBezTo>
              </a:path>
              <a:path w="1266" h="695">
                <a:moveTo>
                  <a:pt x="1588" y="10319"/>
                </a:moveTo>
                <a:cubicBezTo>
                  <a:pt x="1588" y="10433"/>
                  <a:pt x="1556" y="10582"/>
                  <a:pt x="1563" y="10691"/>
                </a:cubicBezTo>
                <a:cubicBezTo>
                  <a:pt x="1569" y="10778"/>
                  <a:pt x="1561" y="10877"/>
                  <a:pt x="1588" y="10964"/>
                </a:cubicBezTo>
                <a:cubicBezTo>
                  <a:pt x="1608" y="11004"/>
                  <a:pt x="1616" y="11030"/>
                  <a:pt x="1612" y="10988"/>
                </a:cubicBezTo>
              </a:path>
              <a:path w="1266" h="695">
                <a:moveTo>
                  <a:pt x="1761" y="10368"/>
                </a:moveTo>
                <a:cubicBezTo>
                  <a:pt x="1877" y="10368"/>
                  <a:pt x="1972" y="10388"/>
                  <a:pt x="2084" y="10393"/>
                </a:cubicBezTo>
                <a:cubicBezTo>
                  <a:pt x="2135" y="10393"/>
                  <a:pt x="2154" y="10394"/>
                  <a:pt x="2183" y="10418"/>
                </a:cubicBezTo>
                <a:cubicBezTo>
                  <a:pt x="2136" y="10465"/>
                  <a:pt x="2114" y="10508"/>
                  <a:pt x="2084" y="10567"/>
                </a:cubicBezTo>
                <a:cubicBezTo>
                  <a:pt x="2051" y="10633"/>
                  <a:pt x="2038" y="10716"/>
                  <a:pt x="2034" y="10790"/>
                </a:cubicBezTo>
                <a:cubicBezTo>
                  <a:pt x="2031" y="10848"/>
                  <a:pt x="2024" y="10930"/>
                  <a:pt x="2084" y="10964"/>
                </a:cubicBezTo>
                <a:cubicBezTo>
                  <a:pt x="2092" y="10964"/>
                  <a:pt x="2100" y="10964"/>
                  <a:pt x="2108" y="109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nk 16"/>
          <p:cNvSpPr/>
          <p:nvPr/>
        </p:nvSpPr>
        <p:spPr>
          <a:xfrm>
            <a:off x="1035000" y="3786120"/>
            <a:ext cx="349200" cy="277920"/>
          </a:xfrm>
          <a:custGeom>
            <a:avLst/>
            <a:gdLst/>
            <a:ahLst/>
            <a:rect l="l" t="t" r="r" b="b"/>
            <a:pathLst>
              <a:path w="969" h="770">
                <a:moveTo>
                  <a:pt x="2877" y="10567"/>
                </a:moveTo>
                <a:cubicBezTo>
                  <a:pt x="2877" y="10738"/>
                  <a:pt x="2880" y="10897"/>
                  <a:pt x="2902" y="11063"/>
                </a:cubicBezTo>
                <a:cubicBezTo>
                  <a:pt x="2911" y="11135"/>
                  <a:pt x="2902" y="11213"/>
                  <a:pt x="2902" y="11286"/>
                </a:cubicBezTo>
              </a:path>
              <a:path w="969" h="770">
                <a:moveTo>
                  <a:pt x="3026" y="10616"/>
                </a:moveTo>
                <a:cubicBezTo>
                  <a:pt x="3209" y="10521"/>
                  <a:pt x="3205" y="10487"/>
                  <a:pt x="3373" y="10567"/>
                </a:cubicBezTo>
                <a:cubicBezTo>
                  <a:pt x="3458" y="10608"/>
                  <a:pt x="3479" y="10681"/>
                  <a:pt x="3448" y="10765"/>
                </a:cubicBezTo>
                <a:cubicBezTo>
                  <a:pt x="3414" y="10856"/>
                  <a:pt x="3355" y="10875"/>
                  <a:pt x="3299" y="10939"/>
                </a:cubicBezTo>
                <a:cubicBezTo>
                  <a:pt x="3263" y="10980"/>
                  <a:pt x="3227" y="11055"/>
                  <a:pt x="3249" y="11112"/>
                </a:cubicBezTo>
                <a:cubicBezTo>
                  <a:pt x="3270" y="11166"/>
                  <a:pt x="3353" y="11171"/>
                  <a:pt x="3398" y="11187"/>
                </a:cubicBezTo>
                <a:cubicBezTo>
                  <a:pt x="3484" y="11217"/>
                  <a:pt x="3604" y="11229"/>
                  <a:pt x="3696" y="11212"/>
                </a:cubicBezTo>
                <a:cubicBezTo>
                  <a:pt x="3756" y="11201"/>
                  <a:pt x="3794" y="11166"/>
                  <a:pt x="3845" y="111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nk 17"/>
          <p:cNvSpPr/>
          <p:nvPr/>
        </p:nvSpPr>
        <p:spPr>
          <a:xfrm>
            <a:off x="509760" y="4106880"/>
            <a:ext cx="1000080" cy="457200"/>
          </a:xfrm>
          <a:custGeom>
            <a:avLst/>
            <a:gdLst/>
            <a:ahLst/>
            <a:rect l="l" t="t" r="r" b="b"/>
            <a:pathLst>
              <a:path w="2779" h="1266">
                <a:moveTo>
                  <a:pt x="1414" y="11410"/>
                </a:moveTo>
                <a:cubicBezTo>
                  <a:pt x="1441" y="11532"/>
                  <a:pt x="1477" y="11658"/>
                  <a:pt x="1488" y="11782"/>
                </a:cubicBezTo>
                <a:cubicBezTo>
                  <a:pt x="1501" y="11933"/>
                  <a:pt x="1493" y="12081"/>
                  <a:pt x="1513" y="12229"/>
                </a:cubicBezTo>
                <a:cubicBezTo>
                  <a:pt x="1518" y="12269"/>
                  <a:pt x="1513" y="12313"/>
                  <a:pt x="1513" y="12353"/>
                </a:cubicBezTo>
              </a:path>
              <a:path w="2779" h="1266">
                <a:moveTo>
                  <a:pt x="1588" y="11584"/>
                </a:moveTo>
                <a:cubicBezTo>
                  <a:pt x="1686" y="11542"/>
                  <a:pt x="1798" y="11503"/>
                  <a:pt x="1910" y="11534"/>
                </a:cubicBezTo>
                <a:cubicBezTo>
                  <a:pt x="1938" y="11562"/>
                  <a:pt x="1951" y="11571"/>
                  <a:pt x="1984" y="11559"/>
                </a:cubicBezTo>
                <a:cubicBezTo>
                  <a:pt x="1976" y="11635"/>
                  <a:pt x="1954" y="11710"/>
                  <a:pt x="1935" y="11782"/>
                </a:cubicBezTo>
                <a:cubicBezTo>
                  <a:pt x="1908" y="11884"/>
                  <a:pt x="1910" y="11974"/>
                  <a:pt x="1910" y="12080"/>
                </a:cubicBezTo>
                <a:cubicBezTo>
                  <a:pt x="1910" y="12172"/>
                  <a:pt x="1921" y="12244"/>
                  <a:pt x="1935" y="12328"/>
                </a:cubicBezTo>
                <a:cubicBezTo>
                  <a:pt x="1935" y="12380"/>
                  <a:pt x="1936" y="12397"/>
                  <a:pt x="1984" y="12402"/>
                </a:cubicBezTo>
              </a:path>
              <a:path w="2779" h="1266">
                <a:moveTo>
                  <a:pt x="2555" y="12005"/>
                </a:moveTo>
                <a:cubicBezTo>
                  <a:pt x="2663" y="12011"/>
                  <a:pt x="2794" y="12052"/>
                  <a:pt x="2902" y="12030"/>
                </a:cubicBezTo>
                <a:cubicBezTo>
                  <a:pt x="2927" y="12022"/>
                  <a:pt x="2952" y="12013"/>
                  <a:pt x="2977" y="12005"/>
                </a:cubicBezTo>
              </a:path>
              <a:path w="2779" h="1266">
                <a:moveTo>
                  <a:pt x="3150" y="11733"/>
                </a:moveTo>
                <a:cubicBezTo>
                  <a:pt x="3150" y="11976"/>
                  <a:pt x="3157" y="12211"/>
                  <a:pt x="3175" y="12452"/>
                </a:cubicBezTo>
                <a:cubicBezTo>
                  <a:pt x="3179" y="12501"/>
                  <a:pt x="3175" y="12552"/>
                  <a:pt x="3175" y="12601"/>
                </a:cubicBezTo>
              </a:path>
              <a:path w="2779" h="1266">
                <a:moveTo>
                  <a:pt x="3349" y="11931"/>
                </a:moveTo>
                <a:cubicBezTo>
                  <a:pt x="3425" y="11862"/>
                  <a:pt x="3469" y="11813"/>
                  <a:pt x="3572" y="11807"/>
                </a:cubicBezTo>
                <a:cubicBezTo>
                  <a:pt x="3663" y="11802"/>
                  <a:pt x="3690" y="11854"/>
                  <a:pt x="3721" y="11931"/>
                </a:cubicBezTo>
                <a:cubicBezTo>
                  <a:pt x="3763" y="12038"/>
                  <a:pt x="3740" y="12133"/>
                  <a:pt x="3671" y="12229"/>
                </a:cubicBezTo>
                <a:cubicBezTo>
                  <a:pt x="3622" y="12296"/>
                  <a:pt x="3562" y="12352"/>
                  <a:pt x="3522" y="12427"/>
                </a:cubicBezTo>
                <a:cubicBezTo>
                  <a:pt x="3490" y="12488"/>
                  <a:pt x="3465" y="12511"/>
                  <a:pt x="3497" y="12576"/>
                </a:cubicBezTo>
                <a:cubicBezTo>
                  <a:pt x="3534" y="12650"/>
                  <a:pt x="3608" y="12635"/>
                  <a:pt x="3671" y="12650"/>
                </a:cubicBezTo>
                <a:cubicBezTo>
                  <a:pt x="3774" y="12674"/>
                  <a:pt x="3862" y="12675"/>
                  <a:pt x="3969" y="12675"/>
                </a:cubicBezTo>
                <a:cubicBezTo>
                  <a:pt x="4058" y="12675"/>
                  <a:pt x="4104" y="12689"/>
                  <a:pt x="4167" y="12626"/>
                </a:cubicBezTo>
                <a:cubicBezTo>
                  <a:pt x="4175" y="12618"/>
                  <a:pt x="4184" y="12609"/>
                  <a:pt x="4192" y="126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Ink 18"/>
          <p:cNvSpPr/>
          <p:nvPr/>
        </p:nvSpPr>
        <p:spPr>
          <a:xfrm>
            <a:off x="4276800" y="458136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1906" y="12799"/>
                </a:moveTo>
                <a:cubicBezTo>
                  <a:pt x="11920" y="12849"/>
                  <a:pt x="12030" y="12918"/>
                  <a:pt x="12030" y="12824"/>
                </a:cubicBezTo>
                <a:cubicBezTo>
                  <a:pt x="12030" y="12804"/>
                  <a:pt x="11971" y="12744"/>
                  <a:pt x="11956" y="12725"/>
                </a:cubicBezTo>
                <a:cubicBezTo>
                  <a:pt x="11939" y="12725"/>
                  <a:pt x="11923" y="12725"/>
                  <a:pt x="11906" y="12725"/>
                </a:cubicBezTo>
                <a:cubicBezTo>
                  <a:pt x="11986" y="12803"/>
                  <a:pt x="11984" y="12713"/>
                  <a:pt x="11906" y="12774"/>
                </a:cubicBezTo>
                <a:cubicBezTo>
                  <a:pt x="11860" y="12811"/>
                  <a:pt x="11948" y="12912"/>
                  <a:pt x="11981" y="12874"/>
                </a:cubicBezTo>
                <a:cubicBezTo>
                  <a:pt x="12006" y="12845"/>
                  <a:pt x="12006" y="12764"/>
                  <a:pt x="11956" y="12750"/>
                </a:cubicBezTo>
                <a:cubicBezTo>
                  <a:pt x="11911" y="12750"/>
                  <a:pt x="11891" y="12746"/>
                  <a:pt x="11931" y="12774"/>
                </a:cubicBezTo>
                <a:cubicBezTo>
                  <a:pt x="12044" y="12708"/>
                  <a:pt x="11968" y="12790"/>
                  <a:pt x="11981" y="12824"/>
                </a:cubicBezTo>
                <a:cubicBezTo>
                  <a:pt x="11989" y="12824"/>
                  <a:pt x="11997" y="12824"/>
                  <a:pt x="12005" y="128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Ink 19"/>
          <p:cNvSpPr/>
          <p:nvPr/>
        </p:nvSpPr>
        <p:spPr>
          <a:xfrm>
            <a:off x="758880" y="2197080"/>
            <a:ext cx="152280" cy="2963880"/>
          </a:xfrm>
          <a:custGeom>
            <a:avLst/>
            <a:gdLst/>
            <a:ahLst/>
            <a:rect l="l" t="t" r="r" b="b"/>
            <a:pathLst>
              <a:path w="423" h="8236">
                <a:moveTo>
                  <a:pt x="2356" y="6102"/>
                </a:moveTo>
                <a:cubicBezTo>
                  <a:pt x="2375" y="6300"/>
                  <a:pt x="2388" y="6499"/>
                  <a:pt x="2406" y="6697"/>
                </a:cubicBezTo>
                <a:cubicBezTo>
                  <a:pt x="2423" y="6886"/>
                  <a:pt x="2437" y="7079"/>
                  <a:pt x="2456" y="7268"/>
                </a:cubicBezTo>
                <a:cubicBezTo>
                  <a:pt x="2481" y="7516"/>
                  <a:pt x="2502" y="7763"/>
                  <a:pt x="2505" y="8012"/>
                </a:cubicBezTo>
                <a:cubicBezTo>
                  <a:pt x="2509" y="8322"/>
                  <a:pt x="2515" y="8620"/>
                  <a:pt x="2505" y="8930"/>
                </a:cubicBezTo>
                <a:cubicBezTo>
                  <a:pt x="2493" y="9294"/>
                  <a:pt x="2484" y="9657"/>
                  <a:pt x="2456" y="10021"/>
                </a:cubicBezTo>
                <a:cubicBezTo>
                  <a:pt x="2424" y="10435"/>
                  <a:pt x="2410" y="10847"/>
                  <a:pt x="2381" y="11261"/>
                </a:cubicBezTo>
                <a:cubicBezTo>
                  <a:pt x="2340" y="11850"/>
                  <a:pt x="2277" y="12434"/>
                  <a:pt x="2232" y="13022"/>
                </a:cubicBezTo>
                <a:cubicBezTo>
                  <a:pt x="2199" y="13461"/>
                  <a:pt x="2144" y="13897"/>
                  <a:pt x="2108" y="143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ither even nor o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File:Function-x3plus1.svg"/>
          <p:cNvPicPr/>
          <p:nvPr/>
        </p:nvPicPr>
        <p:blipFill>
          <a:blip r:embed="rId1"/>
          <a:stretch/>
        </p:blipFill>
        <p:spPr>
          <a:xfrm>
            <a:off x="129528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if the function is even or o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Ink 4"/>
          <p:cNvSpPr/>
          <p:nvPr/>
        </p:nvSpPr>
        <p:spPr>
          <a:xfrm>
            <a:off x="3724200" y="1125360"/>
            <a:ext cx="1606680" cy="1589400"/>
          </a:xfrm>
          <a:custGeom>
            <a:avLst/>
            <a:gdLst/>
            <a:ahLst/>
            <a:rect l="l" t="t" r="r" b="b"/>
            <a:pathLst>
              <a:path w="4465" h="4417">
                <a:moveTo>
                  <a:pt x="12923" y="3125"/>
                </a:moveTo>
                <a:cubicBezTo>
                  <a:pt x="12920" y="3150"/>
                  <a:pt x="12902" y="3227"/>
                  <a:pt x="12898" y="3274"/>
                </a:cubicBezTo>
                <a:cubicBezTo>
                  <a:pt x="12892" y="3357"/>
                  <a:pt x="12880" y="3442"/>
                  <a:pt x="12874" y="3522"/>
                </a:cubicBezTo>
                <a:cubicBezTo>
                  <a:pt x="12836" y="4029"/>
                  <a:pt x="12877" y="4556"/>
                  <a:pt x="12898" y="5060"/>
                </a:cubicBezTo>
                <a:cubicBezTo>
                  <a:pt x="12907" y="5269"/>
                  <a:pt x="12909" y="5473"/>
                  <a:pt x="12923" y="5680"/>
                </a:cubicBezTo>
                <a:cubicBezTo>
                  <a:pt x="12936" y="5870"/>
                  <a:pt x="12934" y="6063"/>
                  <a:pt x="12948" y="6251"/>
                </a:cubicBezTo>
                <a:cubicBezTo>
                  <a:pt x="12964" y="6474"/>
                  <a:pt x="12954" y="6700"/>
                  <a:pt x="12973" y="6921"/>
                </a:cubicBezTo>
                <a:cubicBezTo>
                  <a:pt x="12983" y="7044"/>
                  <a:pt x="12994" y="7171"/>
                  <a:pt x="12998" y="7293"/>
                </a:cubicBezTo>
                <a:cubicBezTo>
                  <a:pt x="13000" y="7362"/>
                  <a:pt x="12986" y="7411"/>
                  <a:pt x="12973" y="7466"/>
                </a:cubicBezTo>
              </a:path>
              <a:path w="4465" h="4417">
                <a:moveTo>
                  <a:pt x="10344" y="5234"/>
                </a:moveTo>
                <a:cubicBezTo>
                  <a:pt x="10416" y="5239"/>
                  <a:pt x="10473" y="5252"/>
                  <a:pt x="10542" y="5259"/>
                </a:cubicBezTo>
                <a:cubicBezTo>
                  <a:pt x="10661" y="5271"/>
                  <a:pt x="10791" y="5234"/>
                  <a:pt x="10914" y="5234"/>
                </a:cubicBezTo>
                <a:cubicBezTo>
                  <a:pt x="11091" y="5234"/>
                  <a:pt x="11259" y="5212"/>
                  <a:pt x="11435" y="5209"/>
                </a:cubicBezTo>
                <a:cubicBezTo>
                  <a:pt x="11693" y="5204"/>
                  <a:pt x="11947" y="5197"/>
                  <a:pt x="12204" y="5184"/>
                </a:cubicBezTo>
                <a:cubicBezTo>
                  <a:pt x="12486" y="5169"/>
                  <a:pt x="12767" y="5196"/>
                  <a:pt x="13047" y="5209"/>
                </a:cubicBezTo>
                <a:cubicBezTo>
                  <a:pt x="13271" y="5220"/>
                  <a:pt x="13495" y="5222"/>
                  <a:pt x="13717" y="5234"/>
                </a:cubicBezTo>
                <a:cubicBezTo>
                  <a:pt x="13898" y="5244"/>
                  <a:pt x="14083" y="5250"/>
                  <a:pt x="14263" y="5259"/>
                </a:cubicBezTo>
                <a:cubicBezTo>
                  <a:pt x="14402" y="5266"/>
                  <a:pt x="14526" y="5273"/>
                  <a:pt x="14660" y="5283"/>
                </a:cubicBezTo>
                <a:cubicBezTo>
                  <a:pt x="14709" y="5283"/>
                  <a:pt x="14726" y="5283"/>
                  <a:pt x="14759" y="5283"/>
                </a:cubicBezTo>
              </a:path>
              <a:path w="4465" h="4417">
                <a:moveTo>
                  <a:pt x="11658" y="7293"/>
                </a:moveTo>
                <a:cubicBezTo>
                  <a:pt x="11666" y="7238"/>
                  <a:pt x="11675" y="7224"/>
                  <a:pt x="11683" y="7169"/>
                </a:cubicBezTo>
              </a:path>
              <a:path w="4465" h="4417">
                <a:moveTo>
                  <a:pt x="11683" y="7144"/>
                </a:moveTo>
                <a:cubicBezTo>
                  <a:pt x="11686" y="7075"/>
                  <a:pt x="11703" y="7007"/>
                  <a:pt x="11708" y="6945"/>
                </a:cubicBezTo>
                <a:cubicBezTo>
                  <a:pt x="11713" y="6870"/>
                  <a:pt x="11728" y="6790"/>
                  <a:pt x="11733" y="6722"/>
                </a:cubicBezTo>
                <a:cubicBezTo>
                  <a:pt x="11740" y="6635"/>
                  <a:pt x="11753" y="6522"/>
                  <a:pt x="11757" y="6449"/>
                </a:cubicBezTo>
                <a:cubicBezTo>
                  <a:pt x="11762" y="6367"/>
                  <a:pt x="11767" y="6304"/>
                  <a:pt x="11782" y="6226"/>
                </a:cubicBezTo>
                <a:cubicBezTo>
                  <a:pt x="11794" y="6166"/>
                  <a:pt x="11794" y="6116"/>
                  <a:pt x="11807" y="6052"/>
                </a:cubicBezTo>
                <a:cubicBezTo>
                  <a:pt x="11820" y="5985"/>
                  <a:pt x="11840" y="5900"/>
                  <a:pt x="11857" y="5829"/>
                </a:cubicBezTo>
                <a:cubicBezTo>
                  <a:pt x="11871" y="5772"/>
                  <a:pt x="11884" y="5666"/>
                  <a:pt x="11906" y="5606"/>
                </a:cubicBezTo>
                <a:cubicBezTo>
                  <a:pt x="11924" y="5556"/>
                  <a:pt x="11939" y="5510"/>
                  <a:pt x="11956" y="5457"/>
                </a:cubicBezTo>
                <a:cubicBezTo>
                  <a:pt x="11973" y="5402"/>
                  <a:pt x="12011" y="5343"/>
                  <a:pt x="12030" y="5283"/>
                </a:cubicBezTo>
                <a:cubicBezTo>
                  <a:pt x="12050" y="5219"/>
                  <a:pt x="12081" y="5169"/>
                  <a:pt x="12105" y="5110"/>
                </a:cubicBezTo>
                <a:cubicBezTo>
                  <a:pt x="12128" y="5053"/>
                  <a:pt x="12139" y="5018"/>
                  <a:pt x="12179" y="4961"/>
                </a:cubicBezTo>
                <a:cubicBezTo>
                  <a:pt x="12223" y="4899"/>
                  <a:pt x="12252" y="4842"/>
                  <a:pt x="12328" y="4812"/>
                </a:cubicBezTo>
                <a:cubicBezTo>
                  <a:pt x="12383" y="4790"/>
                  <a:pt x="12464" y="4768"/>
                  <a:pt x="12526" y="4787"/>
                </a:cubicBezTo>
                <a:cubicBezTo>
                  <a:pt x="12571" y="4801"/>
                  <a:pt x="12613" y="4857"/>
                  <a:pt x="12650" y="4887"/>
                </a:cubicBezTo>
                <a:cubicBezTo>
                  <a:pt x="12724" y="4947"/>
                  <a:pt x="12799" y="5032"/>
                  <a:pt x="12849" y="5110"/>
                </a:cubicBezTo>
                <a:cubicBezTo>
                  <a:pt x="12873" y="5148"/>
                  <a:pt x="12903" y="5191"/>
                  <a:pt x="12923" y="5234"/>
                </a:cubicBezTo>
                <a:cubicBezTo>
                  <a:pt x="12948" y="5287"/>
                  <a:pt x="12961" y="5349"/>
                  <a:pt x="12998" y="5407"/>
                </a:cubicBezTo>
                <a:cubicBezTo>
                  <a:pt x="13036" y="5467"/>
                  <a:pt x="13091" y="5562"/>
                  <a:pt x="13146" y="5606"/>
                </a:cubicBezTo>
                <a:cubicBezTo>
                  <a:pt x="13184" y="5637"/>
                  <a:pt x="13227" y="5675"/>
                  <a:pt x="13271" y="5680"/>
                </a:cubicBezTo>
                <a:cubicBezTo>
                  <a:pt x="13352" y="5690"/>
                  <a:pt x="13377" y="5665"/>
                  <a:pt x="13444" y="5631"/>
                </a:cubicBezTo>
                <a:cubicBezTo>
                  <a:pt x="13522" y="5592"/>
                  <a:pt x="13541" y="5545"/>
                  <a:pt x="13593" y="5482"/>
                </a:cubicBezTo>
                <a:cubicBezTo>
                  <a:pt x="13632" y="5435"/>
                  <a:pt x="13660" y="5385"/>
                  <a:pt x="13692" y="5333"/>
                </a:cubicBezTo>
                <a:cubicBezTo>
                  <a:pt x="13728" y="5275"/>
                  <a:pt x="13759" y="5220"/>
                  <a:pt x="13791" y="5159"/>
                </a:cubicBezTo>
                <a:cubicBezTo>
                  <a:pt x="13849" y="5045"/>
                  <a:pt x="13892" y="4923"/>
                  <a:pt x="13940" y="4812"/>
                </a:cubicBezTo>
                <a:cubicBezTo>
                  <a:pt x="13964" y="4756"/>
                  <a:pt x="13998" y="4705"/>
                  <a:pt x="14015" y="4638"/>
                </a:cubicBezTo>
                <a:cubicBezTo>
                  <a:pt x="14039" y="4544"/>
                  <a:pt x="14062" y="4459"/>
                  <a:pt x="14089" y="4366"/>
                </a:cubicBezTo>
                <a:cubicBezTo>
                  <a:pt x="14110" y="4295"/>
                  <a:pt x="14114" y="4241"/>
                  <a:pt x="14139" y="4167"/>
                </a:cubicBezTo>
                <a:cubicBezTo>
                  <a:pt x="14183" y="4038"/>
                  <a:pt x="14230" y="3914"/>
                  <a:pt x="14288" y="3795"/>
                </a:cubicBezTo>
                <a:cubicBezTo>
                  <a:pt x="14313" y="3744"/>
                  <a:pt x="14335" y="3702"/>
                  <a:pt x="14362" y="3646"/>
                </a:cubicBezTo>
                <a:cubicBezTo>
                  <a:pt x="14395" y="3577"/>
                  <a:pt x="14441" y="3498"/>
                  <a:pt x="14461" y="3423"/>
                </a:cubicBezTo>
                <a:cubicBezTo>
                  <a:pt x="14475" y="3370"/>
                  <a:pt x="14475" y="3327"/>
                  <a:pt x="14486" y="3274"/>
                </a:cubicBezTo>
                <a:cubicBezTo>
                  <a:pt x="14395" y="3320"/>
                  <a:pt x="14320" y="3368"/>
                  <a:pt x="14238" y="3423"/>
                </a:cubicBezTo>
                <a:cubicBezTo>
                  <a:pt x="14194" y="3445"/>
                  <a:pt x="14182" y="3448"/>
                  <a:pt x="14163" y="3473"/>
                </a:cubicBezTo>
                <a:cubicBezTo>
                  <a:pt x="14269" y="3420"/>
                  <a:pt x="14366" y="3367"/>
                  <a:pt x="14461" y="3299"/>
                </a:cubicBezTo>
                <a:cubicBezTo>
                  <a:pt x="14527" y="3252"/>
                  <a:pt x="14556" y="3193"/>
                  <a:pt x="14635" y="3249"/>
                </a:cubicBezTo>
                <a:cubicBezTo>
                  <a:pt x="14642" y="3254"/>
                  <a:pt x="14721" y="3451"/>
                  <a:pt x="14734" y="3473"/>
                </a:cubicBezTo>
                <a:cubicBezTo>
                  <a:pt x="14778" y="3538"/>
                  <a:pt x="14789" y="3552"/>
                  <a:pt x="14808" y="3597"/>
                </a:cubicBezTo>
              </a:path>
              <a:path w="4465" h="4417">
                <a:moveTo>
                  <a:pt x="11336" y="6921"/>
                </a:moveTo>
                <a:cubicBezTo>
                  <a:pt x="11362" y="7017"/>
                  <a:pt x="11385" y="7083"/>
                  <a:pt x="11435" y="7169"/>
                </a:cubicBezTo>
                <a:cubicBezTo>
                  <a:pt x="11486" y="7257"/>
                  <a:pt x="11554" y="7334"/>
                  <a:pt x="11609" y="7417"/>
                </a:cubicBezTo>
                <a:cubicBezTo>
                  <a:pt x="11621" y="7435"/>
                  <a:pt x="11675" y="7543"/>
                  <a:pt x="11708" y="7541"/>
                </a:cubicBezTo>
                <a:cubicBezTo>
                  <a:pt x="11801" y="7536"/>
                  <a:pt x="11888" y="7443"/>
                  <a:pt x="11956" y="7392"/>
                </a:cubicBezTo>
                <a:cubicBezTo>
                  <a:pt x="12050" y="7321"/>
                  <a:pt x="12078" y="7301"/>
                  <a:pt x="12129" y="72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Ink 5"/>
          <p:cNvSpPr/>
          <p:nvPr/>
        </p:nvSpPr>
        <p:spPr>
          <a:xfrm>
            <a:off x="5715000" y="1554120"/>
            <a:ext cx="615960" cy="303120"/>
          </a:xfrm>
          <a:custGeom>
            <a:avLst/>
            <a:gdLst/>
            <a:ahLst/>
            <a:rect l="l" t="t" r="r" b="b"/>
            <a:pathLst>
              <a:path w="1713" h="844">
                <a:moveTo>
                  <a:pt x="15974" y="4787"/>
                </a:moveTo>
                <a:cubicBezTo>
                  <a:pt x="15944" y="4847"/>
                  <a:pt x="15890" y="4921"/>
                  <a:pt x="15875" y="4986"/>
                </a:cubicBezTo>
                <a:cubicBezTo>
                  <a:pt x="15867" y="5021"/>
                  <a:pt x="15898" y="5114"/>
                  <a:pt x="15925" y="5135"/>
                </a:cubicBezTo>
                <a:cubicBezTo>
                  <a:pt x="15992" y="5186"/>
                  <a:pt x="16085" y="5151"/>
                  <a:pt x="16148" y="5110"/>
                </a:cubicBezTo>
                <a:cubicBezTo>
                  <a:pt x="16187" y="5085"/>
                  <a:pt x="16260" y="5005"/>
                  <a:pt x="16272" y="4961"/>
                </a:cubicBezTo>
                <a:cubicBezTo>
                  <a:pt x="16290" y="4892"/>
                  <a:pt x="16287" y="4804"/>
                  <a:pt x="16222" y="4762"/>
                </a:cubicBezTo>
                <a:cubicBezTo>
                  <a:pt x="16166" y="4726"/>
                  <a:pt x="16120" y="4698"/>
                  <a:pt x="16049" y="4713"/>
                </a:cubicBezTo>
                <a:cubicBezTo>
                  <a:pt x="15981" y="4728"/>
                  <a:pt x="15899" y="4775"/>
                  <a:pt x="15925" y="4862"/>
                </a:cubicBezTo>
                <a:cubicBezTo>
                  <a:pt x="15933" y="4870"/>
                  <a:pt x="15941" y="4879"/>
                  <a:pt x="15949" y="4887"/>
                </a:cubicBezTo>
              </a:path>
              <a:path w="1713" h="844">
                <a:moveTo>
                  <a:pt x="16718" y="4663"/>
                </a:moveTo>
                <a:cubicBezTo>
                  <a:pt x="16680" y="4748"/>
                  <a:pt x="16594" y="4820"/>
                  <a:pt x="16570" y="4911"/>
                </a:cubicBezTo>
                <a:cubicBezTo>
                  <a:pt x="16553" y="4979"/>
                  <a:pt x="16570" y="5043"/>
                  <a:pt x="16644" y="5060"/>
                </a:cubicBezTo>
                <a:cubicBezTo>
                  <a:pt x="16730" y="5080"/>
                  <a:pt x="16762" y="5042"/>
                  <a:pt x="16818" y="4986"/>
                </a:cubicBezTo>
                <a:cubicBezTo>
                  <a:pt x="16883" y="4921"/>
                  <a:pt x="16928" y="4831"/>
                  <a:pt x="16942" y="4738"/>
                </a:cubicBezTo>
                <a:cubicBezTo>
                  <a:pt x="16956" y="4642"/>
                  <a:pt x="16928" y="4553"/>
                  <a:pt x="16917" y="4465"/>
                </a:cubicBezTo>
                <a:cubicBezTo>
                  <a:pt x="16906" y="4375"/>
                  <a:pt x="16910" y="4391"/>
                  <a:pt x="16867" y="4316"/>
                </a:cubicBezTo>
                <a:cubicBezTo>
                  <a:pt x="16867" y="4453"/>
                  <a:pt x="16877" y="4580"/>
                  <a:pt x="16892" y="4713"/>
                </a:cubicBezTo>
                <a:cubicBezTo>
                  <a:pt x="16901" y="4796"/>
                  <a:pt x="16908" y="4846"/>
                  <a:pt x="16966" y="4911"/>
                </a:cubicBezTo>
                <a:cubicBezTo>
                  <a:pt x="16974" y="4919"/>
                  <a:pt x="16983" y="4928"/>
                  <a:pt x="16991" y="4936"/>
                </a:cubicBezTo>
              </a:path>
              <a:path w="1713" h="844">
                <a:moveTo>
                  <a:pt x="17264" y="4539"/>
                </a:moveTo>
                <a:cubicBezTo>
                  <a:pt x="17231" y="4596"/>
                  <a:pt x="17116" y="4744"/>
                  <a:pt x="17190" y="4812"/>
                </a:cubicBezTo>
                <a:cubicBezTo>
                  <a:pt x="17254" y="4871"/>
                  <a:pt x="17355" y="4746"/>
                  <a:pt x="17388" y="4713"/>
                </a:cubicBezTo>
                <a:cubicBezTo>
                  <a:pt x="17475" y="4627"/>
                  <a:pt x="17521" y="4529"/>
                  <a:pt x="17562" y="4415"/>
                </a:cubicBezTo>
                <a:cubicBezTo>
                  <a:pt x="17570" y="4390"/>
                  <a:pt x="17579" y="4366"/>
                  <a:pt x="17587" y="4341"/>
                </a:cubicBezTo>
                <a:cubicBezTo>
                  <a:pt x="17491" y="4353"/>
                  <a:pt x="17444" y="4399"/>
                  <a:pt x="17363" y="4440"/>
                </a:cubicBezTo>
                <a:cubicBezTo>
                  <a:pt x="17338" y="4448"/>
                  <a:pt x="17314" y="4457"/>
                  <a:pt x="17289" y="44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6"/>
          <p:cNvSpPr/>
          <p:nvPr/>
        </p:nvSpPr>
        <p:spPr>
          <a:xfrm>
            <a:off x="2741760" y="2367000"/>
            <a:ext cx="1687320" cy="2401920"/>
          </a:xfrm>
          <a:custGeom>
            <a:avLst/>
            <a:gdLst/>
            <a:ahLst/>
            <a:rect l="l" t="t" r="r" b="b"/>
            <a:pathLst>
              <a:path w="4689" h="6674">
                <a:moveTo>
                  <a:pt x="9996" y="6573"/>
                </a:moveTo>
                <a:cubicBezTo>
                  <a:pt x="9996" y="7037"/>
                  <a:pt x="10021" y="7499"/>
                  <a:pt x="10021" y="7962"/>
                </a:cubicBezTo>
                <a:cubicBezTo>
                  <a:pt x="10021" y="8228"/>
                  <a:pt x="9999" y="8490"/>
                  <a:pt x="9996" y="8756"/>
                </a:cubicBezTo>
                <a:cubicBezTo>
                  <a:pt x="9992" y="9080"/>
                  <a:pt x="9975" y="9400"/>
                  <a:pt x="9971" y="9723"/>
                </a:cubicBezTo>
                <a:cubicBezTo>
                  <a:pt x="9967" y="10080"/>
                  <a:pt x="9950" y="10434"/>
                  <a:pt x="9947" y="10790"/>
                </a:cubicBezTo>
                <a:cubicBezTo>
                  <a:pt x="9943" y="11154"/>
                  <a:pt x="9929" y="11518"/>
                  <a:pt x="9922" y="11881"/>
                </a:cubicBezTo>
                <a:cubicBezTo>
                  <a:pt x="9914" y="12251"/>
                  <a:pt x="9892" y="12607"/>
                  <a:pt x="9872" y="12973"/>
                </a:cubicBezTo>
                <a:cubicBezTo>
                  <a:pt x="9866" y="13088"/>
                  <a:pt x="9883" y="13147"/>
                  <a:pt x="9897" y="13246"/>
                </a:cubicBezTo>
              </a:path>
              <a:path w="4689" h="6674">
                <a:moveTo>
                  <a:pt x="7615" y="10195"/>
                </a:moveTo>
                <a:cubicBezTo>
                  <a:pt x="7669" y="10217"/>
                  <a:pt x="7698" y="10255"/>
                  <a:pt x="7764" y="10269"/>
                </a:cubicBezTo>
                <a:cubicBezTo>
                  <a:pt x="7911" y="10299"/>
                  <a:pt x="8061" y="10281"/>
                  <a:pt x="8210" y="10294"/>
                </a:cubicBezTo>
                <a:cubicBezTo>
                  <a:pt x="8475" y="10317"/>
                  <a:pt x="8739" y="10340"/>
                  <a:pt x="9004" y="10368"/>
                </a:cubicBezTo>
                <a:cubicBezTo>
                  <a:pt x="9354" y="10404"/>
                  <a:pt x="9698" y="10473"/>
                  <a:pt x="10046" y="10517"/>
                </a:cubicBezTo>
                <a:cubicBezTo>
                  <a:pt x="10371" y="10558"/>
                  <a:pt x="10690" y="10616"/>
                  <a:pt x="11013" y="10666"/>
                </a:cubicBezTo>
                <a:cubicBezTo>
                  <a:pt x="11277" y="10707"/>
                  <a:pt x="11666" y="10822"/>
                  <a:pt x="11931" y="10790"/>
                </a:cubicBezTo>
                <a:cubicBezTo>
                  <a:pt x="11969" y="10785"/>
                  <a:pt x="12022" y="10719"/>
                  <a:pt x="12030" y="10716"/>
                </a:cubicBezTo>
              </a:path>
              <a:path w="4689" h="6674">
                <a:moveTo>
                  <a:pt x="8657" y="7392"/>
                </a:moveTo>
                <a:cubicBezTo>
                  <a:pt x="8662" y="7470"/>
                  <a:pt x="8677" y="7539"/>
                  <a:pt x="8682" y="7615"/>
                </a:cubicBezTo>
                <a:cubicBezTo>
                  <a:pt x="8687" y="7690"/>
                  <a:pt x="8693" y="7745"/>
                  <a:pt x="8706" y="7813"/>
                </a:cubicBezTo>
                <a:cubicBezTo>
                  <a:pt x="8720" y="7889"/>
                  <a:pt x="8738" y="7962"/>
                  <a:pt x="8756" y="8037"/>
                </a:cubicBezTo>
                <a:cubicBezTo>
                  <a:pt x="8772" y="8106"/>
                  <a:pt x="8783" y="8167"/>
                  <a:pt x="8806" y="8235"/>
                </a:cubicBezTo>
                <a:cubicBezTo>
                  <a:pt x="8831" y="8307"/>
                  <a:pt x="8859" y="8382"/>
                  <a:pt x="8880" y="8458"/>
                </a:cubicBezTo>
                <a:cubicBezTo>
                  <a:pt x="8902" y="8540"/>
                  <a:pt x="8921" y="8626"/>
                  <a:pt x="8954" y="8706"/>
                </a:cubicBezTo>
                <a:cubicBezTo>
                  <a:pt x="8975" y="8758"/>
                  <a:pt x="9003" y="8799"/>
                  <a:pt x="9029" y="8855"/>
                </a:cubicBezTo>
                <a:cubicBezTo>
                  <a:pt x="9059" y="8920"/>
                  <a:pt x="9072" y="8972"/>
                  <a:pt x="9103" y="9029"/>
                </a:cubicBezTo>
                <a:cubicBezTo>
                  <a:pt x="9132" y="9082"/>
                  <a:pt x="9174" y="9127"/>
                  <a:pt x="9203" y="9178"/>
                </a:cubicBezTo>
                <a:cubicBezTo>
                  <a:pt x="9229" y="9224"/>
                  <a:pt x="9236" y="9278"/>
                  <a:pt x="9277" y="9327"/>
                </a:cubicBezTo>
                <a:cubicBezTo>
                  <a:pt x="9319" y="9377"/>
                  <a:pt x="9355" y="9433"/>
                  <a:pt x="9401" y="9475"/>
                </a:cubicBezTo>
                <a:cubicBezTo>
                  <a:pt x="9442" y="9512"/>
                  <a:pt x="9482" y="9541"/>
                  <a:pt x="9525" y="9575"/>
                </a:cubicBezTo>
                <a:cubicBezTo>
                  <a:pt x="9663" y="9683"/>
                  <a:pt x="9817" y="9734"/>
                  <a:pt x="9971" y="9798"/>
                </a:cubicBezTo>
                <a:cubicBezTo>
                  <a:pt x="10024" y="9820"/>
                  <a:pt x="10060" y="9840"/>
                  <a:pt x="10120" y="9847"/>
                </a:cubicBezTo>
                <a:cubicBezTo>
                  <a:pt x="10188" y="9855"/>
                  <a:pt x="10239" y="9841"/>
                  <a:pt x="10294" y="9823"/>
                </a:cubicBezTo>
                <a:cubicBezTo>
                  <a:pt x="10354" y="9803"/>
                  <a:pt x="10385" y="9788"/>
                  <a:pt x="10443" y="9748"/>
                </a:cubicBezTo>
                <a:cubicBezTo>
                  <a:pt x="10485" y="9720"/>
                  <a:pt x="10530" y="9682"/>
                  <a:pt x="10567" y="9649"/>
                </a:cubicBezTo>
                <a:cubicBezTo>
                  <a:pt x="10649" y="9576"/>
                  <a:pt x="10737" y="9498"/>
                  <a:pt x="10815" y="9426"/>
                </a:cubicBezTo>
                <a:cubicBezTo>
                  <a:pt x="10906" y="9342"/>
                  <a:pt x="10982" y="9241"/>
                  <a:pt x="11063" y="9153"/>
                </a:cubicBezTo>
                <a:cubicBezTo>
                  <a:pt x="11131" y="9079"/>
                  <a:pt x="11197" y="9007"/>
                  <a:pt x="11261" y="8930"/>
                </a:cubicBezTo>
                <a:cubicBezTo>
                  <a:pt x="11340" y="8834"/>
                  <a:pt x="11443" y="8736"/>
                  <a:pt x="11509" y="8632"/>
                </a:cubicBezTo>
                <a:cubicBezTo>
                  <a:pt x="11569" y="8538"/>
                  <a:pt x="11624" y="8454"/>
                  <a:pt x="11683" y="8359"/>
                </a:cubicBezTo>
                <a:cubicBezTo>
                  <a:pt x="11736" y="8274"/>
                  <a:pt x="11824" y="8155"/>
                  <a:pt x="11857" y="8062"/>
                </a:cubicBezTo>
                <a:cubicBezTo>
                  <a:pt x="11885" y="7982"/>
                  <a:pt x="11910" y="7873"/>
                  <a:pt x="11931" y="7789"/>
                </a:cubicBezTo>
                <a:cubicBezTo>
                  <a:pt x="11946" y="7727"/>
                  <a:pt x="11948" y="7683"/>
                  <a:pt x="11956" y="7615"/>
                </a:cubicBezTo>
                <a:cubicBezTo>
                  <a:pt x="11895" y="7650"/>
                  <a:pt x="11825" y="7696"/>
                  <a:pt x="11757" y="7739"/>
                </a:cubicBezTo>
                <a:cubicBezTo>
                  <a:pt x="11689" y="7782"/>
                  <a:pt x="11592" y="7830"/>
                  <a:pt x="11534" y="7888"/>
                </a:cubicBezTo>
                <a:cubicBezTo>
                  <a:pt x="11518" y="7913"/>
                  <a:pt x="11501" y="7937"/>
                  <a:pt x="11485" y="7962"/>
                </a:cubicBezTo>
                <a:cubicBezTo>
                  <a:pt x="11535" y="7928"/>
                  <a:pt x="11596" y="7886"/>
                  <a:pt x="11658" y="7838"/>
                </a:cubicBezTo>
                <a:cubicBezTo>
                  <a:pt x="11713" y="7796"/>
                  <a:pt x="11817" y="7687"/>
                  <a:pt x="11881" y="7665"/>
                </a:cubicBezTo>
                <a:cubicBezTo>
                  <a:pt x="11973" y="7633"/>
                  <a:pt x="11985" y="7686"/>
                  <a:pt x="12030" y="7739"/>
                </a:cubicBezTo>
                <a:cubicBezTo>
                  <a:pt x="12127" y="7853"/>
                  <a:pt x="12172" y="8011"/>
                  <a:pt x="12254" y="8136"/>
                </a:cubicBezTo>
                <a:cubicBezTo>
                  <a:pt x="12270" y="8161"/>
                  <a:pt x="12287" y="8185"/>
                  <a:pt x="12303" y="82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Ink 7"/>
          <p:cNvSpPr/>
          <p:nvPr/>
        </p:nvSpPr>
        <p:spPr>
          <a:xfrm>
            <a:off x="3017880" y="2589120"/>
            <a:ext cx="233280" cy="117720"/>
          </a:xfrm>
          <a:custGeom>
            <a:avLst/>
            <a:gdLst/>
            <a:ahLst/>
            <a:rect l="l" t="t" r="r" b="b"/>
            <a:pathLst>
              <a:path w="646" h="324">
                <a:moveTo>
                  <a:pt x="8384" y="7516"/>
                </a:moveTo>
                <a:cubicBezTo>
                  <a:pt x="8407" y="7455"/>
                  <a:pt x="8444" y="7381"/>
                  <a:pt x="8458" y="7317"/>
                </a:cubicBezTo>
                <a:cubicBezTo>
                  <a:pt x="8469" y="7266"/>
                  <a:pt x="8475" y="7246"/>
                  <a:pt x="8483" y="7193"/>
                </a:cubicBezTo>
                <a:cubicBezTo>
                  <a:pt x="8609" y="7304"/>
                  <a:pt x="8744" y="7332"/>
                  <a:pt x="8905" y="7392"/>
                </a:cubicBezTo>
                <a:cubicBezTo>
                  <a:pt x="8946" y="7408"/>
                  <a:pt x="8988" y="7425"/>
                  <a:pt x="9029" y="74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nk 8"/>
          <p:cNvSpPr/>
          <p:nvPr/>
        </p:nvSpPr>
        <p:spPr>
          <a:xfrm>
            <a:off x="4160880" y="3394080"/>
            <a:ext cx="652320" cy="177840"/>
          </a:xfrm>
          <a:custGeom>
            <a:avLst/>
            <a:gdLst/>
            <a:ahLst/>
            <a:rect l="l" t="t" r="r" b="b"/>
            <a:pathLst>
              <a:path w="1812" h="497">
                <a:moveTo>
                  <a:pt x="11559" y="9823"/>
                </a:moveTo>
                <a:cubicBezTo>
                  <a:pt x="11637" y="9784"/>
                  <a:pt x="11702" y="9779"/>
                  <a:pt x="11782" y="9748"/>
                </a:cubicBezTo>
                <a:cubicBezTo>
                  <a:pt x="11844" y="9724"/>
                  <a:pt x="11951" y="9695"/>
                  <a:pt x="11981" y="9624"/>
                </a:cubicBezTo>
                <a:cubicBezTo>
                  <a:pt x="12009" y="9558"/>
                  <a:pt x="12022" y="9451"/>
                  <a:pt x="11931" y="9426"/>
                </a:cubicBezTo>
                <a:cubicBezTo>
                  <a:pt x="11866" y="9408"/>
                  <a:pt x="11735" y="9461"/>
                  <a:pt x="11683" y="9500"/>
                </a:cubicBezTo>
                <a:cubicBezTo>
                  <a:pt x="11594" y="9565"/>
                  <a:pt x="11603" y="9631"/>
                  <a:pt x="11633" y="9723"/>
                </a:cubicBezTo>
                <a:cubicBezTo>
                  <a:pt x="11656" y="9792"/>
                  <a:pt x="11702" y="9878"/>
                  <a:pt x="11782" y="9897"/>
                </a:cubicBezTo>
                <a:cubicBezTo>
                  <a:pt x="11799" y="9897"/>
                  <a:pt x="11815" y="9897"/>
                  <a:pt x="11832" y="9897"/>
                </a:cubicBezTo>
              </a:path>
              <a:path w="1812" h="497">
                <a:moveTo>
                  <a:pt x="12105" y="9798"/>
                </a:moveTo>
                <a:cubicBezTo>
                  <a:pt x="12131" y="9818"/>
                  <a:pt x="12305" y="10006"/>
                  <a:pt x="12353" y="9872"/>
                </a:cubicBezTo>
                <a:cubicBezTo>
                  <a:pt x="12378" y="9802"/>
                  <a:pt x="12392" y="9699"/>
                  <a:pt x="12402" y="9624"/>
                </a:cubicBezTo>
                <a:cubicBezTo>
                  <a:pt x="12411" y="9559"/>
                  <a:pt x="12412" y="9507"/>
                  <a:pt x="12427" y="9451"/>
                </a:cubicBezTo>
              </a:path>
              <a:path w="1812" h="497">
                <a:moveTo>
                  <a:pt x="12626" y="9649"/>
                </a:moveTo>
                <a:cubicBezTo>
                  <a:pt x="12740" y="9632"/>
                  <a:pt x="12840" y="9650"/>
                  <a:pt x="12898" y="9550"/>
                </a:cubicBezTo>
                <a:cubicBezTo>
                  <a:pt x="12922" y="9502"/>
                  <a:pt x="12930" y="9488"/>
                  <a:pt x="12923" y="9451"/>
                </a:cubicBezTo>
                <a:cubicBezTo>
                  <a:pt x="12855" y="9417"/>
                  <a:pt x="12775" y="9411"/>
                  <a:pt x="12700" y="9451"/>
                </a:cubicBezTo>
                <a:cubicBezTo>
                  <a:pt x="12602" y="9504"/>
                  <a:pt x="12584" y="9527"/>
                  <a:pt x="12626" y="9624"/>
                </a:cubicBezTo>
                <a:cubicBezTo>
                  <a:pt x="12650" y="9674"/>
                  <a:pt x="12658" y="9691"/>
                  <a:pt x="12700" y="9699"/>
                </a:cubicBezTo>
              </a:path>
              <a:path w="1812" h="497">
                <a:moveTo>
                  <a:pt x="12948" y="9624"/>
                </a:moveTo>
                <a:cubicBezTo>
                  <a:pt x="13016" y="9624"/>
                  <a:pt x="13084" y="9619"/>
                  <a:pt x="13146" y="9599"/>
                </a:cubicBezTo>
                <a:cubicBezTo>
                  <a:pt x="13255" y="9564"/>
                  <a:pt x="13304" y="9598"/>
                  <a:pt x="13345" y="9699"/>
                </a:cubicBezTo>
                <a:cubicBezTo>
                  <a:pt x="13380" y="9787"/>
                  <a:pt x="13356" y="9817"/>
                  <a:pt x="13320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Ink 9"/>
          <p:cNvSpPr/>
          <p:nvPr/>
        </p:nvSpPr>
        <p:spPr>
          <a:xfrm>
            <a:off x="295200" y="3241800"/>
            <a:ext cx="1901880" cy="2679480"/>
          </a:xfrm>
          <a:custGeom>
            <a:avLst/>
            <a:gdLst/>
            <a:ahLst/>
            <a:rect l="l" t="t" r="r" b="b"/>
            <a:pathLst>
              <a:path w="5284" h="7443">
                <a:moveTo>
                  <a:pt x="6102" y="9004"/>
                </a:moveTo>
                <a:cubicBezTo>
                  <a:pt x="5961" y="9225"/>
                  <a:pt x="5853" y="9447"/>
                  <a:pt x="5730" y="9674"/>
                </a:cubicBezTo>
                <a:cubicBezTo>
                  <a:pt x="5636" y="9846"/>
                  <a:pt x="5549" y="10023"/>
                  <a:pt x="5457" y="10195"/>
                </a:cubicBezTo>
                <a:cubicBezTo>
                  <a:pt x="5394" y="10314"/>
                  <a:pt x="5309" y="10458"/>
                  <a:pt x="5234" y="10567"/>
                </a:cubicBezTo>
                <a:cubicBezTo>
                  <a:pt x="5200" y="10616"/>
                  <a:pt x="5158" y="10702"/>
                  <a:pt x="5110" y="10666"/>
                </a:cubicBezTo>
                <a:cubicBezTo>
                  <a:pt x="5080" y="10636"/>
                  <a:pt x="5069" y="10622"/>
                  <a:pt x="5060" y="10592"/>
                </a:cubicBezTo>
              </a:path>
              <a:path w="5284" h="7443">
                <a:moveTo>
                  <a:pt x="4887" y="10269"/>
                </a:moveTo>
                <a:cubicBezTo>
                  <a:pt x="4870" y="10244"/>
                  <a:pt x="4854" y="10220"/>
                  <a:pt x="4837" y="10195"/>
                </a:cubicBezTo>
                <a:cubicBezTo>
                  <a:pt x="4792" y="10251"/>
                  <a:pt x="4752" y="10320"/>
                  <a:pt x="4738" y="10393"/>
                </a:cubicBezTo>
                <a:cubicBezTo>
                  <a:pt x="4722" y="10479"/>
                  <a:pt x="4750" y="10522"/>
                  <a:pt x="4787" y="10592"/>
                </a:cubicBezTo>
                <a:cubicBezTo>
                  <a:pt x="4831" y="10674"/>
                  <a:pt x="4922" y="10681"/>
                  <a:pt x="5011" y="10691"/>
                </a:cubicBezTo>
                <a:cubicBezTo>
                  <a:pt x="5120" y="10703"/>
                  <a:pt x="5206" y="10675"/>
                  <a:pt x="5308" y="10641"/>
                </a:cubicBezTo>
              </a:path>
              <a:path w="5284" h="7443">
                <a:moveTo>
                  <a:pt x="3026" y="9996"/>
                </a:moveTo>
                <a:cubicBezTo>
                  <a:pt x="3060" y="10079"/>
                  <a:pt x="3100" y="10150"/>
                  <a:pt x="3125" y="10244"/>
                </a:cubicBezTo>
                <a:cubicBezTo>
                  <a:pt x="3170" y="10412"/>
                  <a:pt x="3150" y="10593"/>
                  <a:pt x="3150" y="10765"/>
                </a:cubicBezTo>
                <a:cubicBezTo>
                  <a:pt x="3150" y="10997"/>
                  <a:pt x="3144" y="11229"/>
                  <a:pt x="3125" y="11460"/>
                </a:cubicBezTo>
                <a:cubicBezTo>
                  <a:pt x="3049" y="12378"/>
                  <a:pt x="2941" y="13296"/>
                  <a:pt x="2853" y="14213"/>
                </a:cubicBezTo>
                <a:cubicBezTo>
                  <a:pt x="2808" y="14678"/>
                  <a:pt x="2748" y="15139"/>
                  <a:pt x="2679" y="15602"/>
                </a:cubicBezTo>
                <a:cubicBezTo>
                  <a:pt x="2619" y="15990"/>
                  <a:pt x="2596" y="16163"/>
                  <a:pt x="2580" y="16446"/>
                </a:cubicBezTo>
              </a:path>
              <a:path w="5284" h="7443">
                <a:moveTo>
                  <a:pt x="819" y="12626"/>
                </a:moveTo>
                <a:cubicBezTo>
                  <a:pt x="895" y="12639"/>
                  <a:pt x="960" y="12649"/>
                  <a:pt x="1042" y="12650"/>
                </a:cubicBezTo>
                <a:cubicBezTo>
                  <a:pt x="1276" y="12654"/>
                  <a:pt x="1504" y="12637"/>
                  <a:pt x="1736" y="12626"/>
                </a:cubicBezTo>
                <a:cubicBezTo>
                  <a:pt x="1991" y="12614"/>
                  <a:pt x="2250" y="12611"/>
                  <a:pt x="2505" y="12601"/>
                </a:cubicBezTo>
                <a:cubicBezTo>
                  <a:pt x="2976" y="12583"/>
                  <a:pt x="3449" y="12594"/>
                  <a:pt x="3919" y="12576"/>
                </a:cubicBezTo>
                <a:cubicBezTo>
                  <a:pt x="4230" y="12564"/>
                  <a:pt x="4528" y="12499"/>
                  <a:pt x="4837" y="12477"/>
                </a:cubicBezTo>
                <a:cubicBezTo>
                  <a:pt x="4995" y="12466"/>
                  <a:pt x="5180" y="12468"/>
                  <a:pt x="5333" y="12427"/>
                </a:cubicBezTo>
                <a:cubicBezTo>
                  <a:pt x="5537" y="12373"/>
                  <a:pt x="5407" y="12369"/>
                  <a:pt x="5482" y="12328"/>
                </a:cubicBezTo>
              </a:path>
              <a:path w="5284" h="7443">
                <a:moveTo>
                  <a:pt x="1215" y="15230"/>
                </a:moveTo>
                <a:cubicBezTo>
                  <a:pt x="1232" y="15230"/>
                  <a:pt x="1248" y="15230"/>
                  <a:pt x="1265" y="15230"/>
                </a:cubicBezTo>
                <a:cubicBezTo>
                  <a:pt x="1283" y="15172"/>
                  <a:pt x="1300" y="15119"/>
                  <a:pt x="1315" y="15056"/>
                </a:cubicBezTo>
                <a:cubicBezTo>
                  <a:pt x="1330" y="14990"/>
                  <a:pt x="1320" y="14924"/>
                  <a:pt x="1339" y="14858"/>
                </a:cubicBezTo>
                <a:cubicBezTo>
                  <a:pt x="1354" y="14804"/>
                  <a:pt x="1371" y="14740"/>
                  <a:pt x="1389" y="14684"/>
                </a:cubicBezTo>
                <a:cubicBezTo>
                  <a:pt x="1406" y="14634"/>
                  <a:pt x="1438" y="14590"/>
                  <a:pt x="1463" y="14536"/>
                </a:cubicBezTo>
                <a:cubicBezTo>
                  <a:pt x="1498" y="14463"/>
                  <a:pt x="1525" y="14385"/>
                  <a:pt x="1563" y="14312"/>
                </a:cubicBezTo>
                <a:cubicBezTo>
                  <a:pt x="1593" y="14255"/>
                  <a:pt x="1630" y="14198"/>
                  <a:pt x="1662" y="14139"/>
                </a:cubicBezTo>
                <a:cubicBezTo>
                  <a:pt x="1691" y="14085"/>
                  <a:pt x="1725" y="14039"/>
                  <a:pt x="1761" y="13990"/>
                </a:cubicBezTo>
                <a:cubicBezTo>
                  <a:pt x="1802" y="13934"/>
                  <a:pt x="1835" y="13865"/>
                  <a:pt x="1885" y="13816"/>
                </a:cubicBezTo>
                <a:cubicBezTo>
                  <a:pt x="1920" y="13782"/>
                  <a:pt x="1974" y="13719"/>
                  <a:pt x="2009" y="13692"/>
                </a:cubicBezTo>
                <a:cubicBezTo>
                  <a:pt x="2056" y="13656"/>
                  <a:pt x="2111" y="13630"/>
                  <a:pt x="2158" y="13593"/>
                </a:cubicBezTo>
                <a:cubicBezTo>
                  <a:pt x="2220" y="13545"/>
                  <a:pt x="2289" y="13485"/>
                  <a:pt x="2356" y="13444"/>
                </a:cubicBezTo>
                <a:cubicBezTo>
                  <a:pt x="2384" y="13427"/>
                  <a:pt x="2467" y="13384"/>
                  <a:pt x="2505" y="13370"/>
                </a:cubicBezTo>
                <a:cubicBezTo>
                  <a:pt x="2542" y="13356"/>
                  <a:pt x="2619" y="13326"/>
                  <a:pt x="2654" y="13320"/>
                </a:cubicBezTo>
                <a:cubicBezTo>
                  <a:pt x="2764" y="13301"/>
                  <a:pt x="2877" y="13323"/>
                  <a:pt x="2977" y="13295"/>
                </a:cubicBezTo>
                <a:cubicBezTo>
                  <a:pt x="3047" y="13275"/>
                  <a:pt x="3084" y="13258"/>
                  <a:pt x="3150" y="13221"/>
                </a:cubicBezTo>
                <a:cubicBezTo>
                  <a:pt x="3226" y="13179"/>
                  <a:pt x="3260" y="13156"/>
                  <a:pt x="3324" y="13097"/>
                </a:cubicBezTo>
                <a:cubicBezTo>
                  <a:pt x="3367" y="13057"/>
                  <a:pt x="3433" y="13017"/>
                  <a:pt x="3473" y="12973"/>
                </a:cubicBezTo>
                <a:cubicBezTo>
                  <a:pt x="3524" y="12917"/>
                  <a:pt x="3569" y="12862"/>
                  <a:pt x="3621" y="12799"/>
                </a:cubicBezTo>
                <a:cubicBezTo>
                  <a:pt x="3696" y="12709"/>
                  <a:pt x="3753" y="12617"/>
                  <a:pt x="3820" y="12526"/>
                </a:cubicBezTo>
                <a:cubicBezTo>
                  <a:pt x="3875" y="12452"/>
                  <a:pt x="3901" y="12382"/>
                  <a:pt x="3944" y="12303"/>
                </a:cubicBezTo>
                <a:cubicBezTo>
                  <a:pt x="4002" y="12197"/>
                  <a:pt x="4067" y="12093"/>
                  <a:pt x="4118" y="11981"/>
                </a:cubicBezTo>
                <a:cubicBezTo>
                  <a:pt x="4158" y="11894"/>
                  <a:pt x="4176" y="11795"/>
                  <a:pt x="4217" y="11708"/>
                </a:cubicBezTo>
                <a:cubicBezTo>
                  <a:pt x="4291" y="11553"/>
                  <a:pt x="4357" y="11401"/>
                  <a:pt x="4415" y="11237"/>
                </a:cubicBezTo>
                <a:cubicBezTo>
                  <a:pt x="4440" y="11167"/>
                  <a:pt x="4471" y="11108"/>
                  <a:pt x="4490" y="11038"/>
                </a:cubicBezTo>
                <a:cubicBezTo>
                  <a:pt x="4505" y="10983"/>
                  <a:pt x="4507" y="10918"/>
                  <a:pt x="4514" y="10864"/>
                </a:cubicBezTo>
                <a:cubicBezTo>
                  <a:pt x="4514" y="10848"/>
                  <a:pt x="4514" y="10831"/>
                  <a:pt x="4514" y="10815"/>
                </a:cubicBezTo>
                <a:cubicBezTo>
                  <a:pt x="4442" y="10853"/>
                  <a:pt x="4389" y="10870"/>
                  <a:pt x="4316" y="10914"/>
                </a:cubicBezTo>
                <a:cubicBezTo>
                  <a:pt x="4264" y="10945"/>
                  <a:pt x="4190" y="11069"/>
                  <a:pt x="4167" y="11013"/>
                </a:cubicBezTo>
                <a:cubicBezTo>
                  <a:pt x="4160" y="10995"/>
                  <a:pt x="4283" y="10896"/>
                  <a:pt x="4291" y="10889"/>
                </a:cubicBezTo>
                <a:cubicBezTo>
                  <a:pt x="4392" y="10800"/>
                  <a:pt x="4391" y="10781"/>
                  <a:pt x="4490" y="10840"/>
                </a:cubicBezTo>
                <a:cubicBezTo>
                  <a:pt x="4573" y="10890"/>
                  <a:pt x="4625" y="11017"/>
                  <a:pt x="4688" y="11088"/>
                </a:cubicBezTo>
                <a:cubicBezTo>
                  <a:pt x="4713" y="11113"/>
                  <a:pt x="4737" y="11137"/>
                  <a:pt x="4762" y="11162"/>
                </a:cubicBezTo>
              </a:path>
              <a:path w="5284" h="7443">
                <a:moveTo>
                  <a:pt x="1240" y="14362"/>
                </a:moveTo>
                <a:cubicBezTo>
                  <a:pt x="1199" y="14466"/>
                  <a:pt x="1169" y="14575"/>
                  <a:pt x="1141" y="14684"/>
                </a:cubicBezTo>
                <a:cubicBezTo>
                  <a:pt x="1111" y="14799"/>
                  <a:pt x="1081" y="14939"/>
                  <a:pt x="1067" y="15056"/>
                </a:cubicBezTo>
                <a:cubicBezTo>
                  <a:pt x="1051" y="15196"/>
                  <a:pt x="1051" y="15298"/>
                  <a:pt x="1166" y="15379"/>
                </a:cubicBezTo>
                <a:cubicBezTo>
                  <a:pt x="1285" y="15463"/>
                  <a:pt x="1417" y="15431"/>
                  <a:pt x="1538" y="15379"/>
                </a:cubicBezTo>
                <a:cubicBezTo>
                  <a:pt x="1687" y="15304"/>
                  <a:pt x="1736" y="15279"/>
                  <a:pt x="1836" y="152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Ink 10"/>
          <p:cNvSpPr/>
          <p:nvPr/>
        </p:nvSpPr>
        <p:spPr>
          <a:xfrm>
            <a:off x="1214280" y="4776840"/>
            <a:ext cx="955800" cy="430200"/>
          </a:xfrm>
          <a:custGeom>
            <a:avLst/>
            <a:gdLst/>
            <a:ahLst/>
            <a:rect l="l" t="t" r="r" b="b"/>
            <a:pathLst>
              <a:path w="2656" h="1191">
                <a:moveTo>
                  <a:pt x="3423" y="14213"/>
                </a:moveTo>
                <a:cubicBezTo>
                  <a:pt x="3398" y="14263"/>
                  <a:pt x="3390" y="14279"/>
                  <a:pt x="3373" y="14312"/>
                </a:cubicBezTo>
                <a:cubicBezTo>
                  <a:pt x="3429" y="14212"/>
                  <a:pt x="3450" y="14115"/>
                  <a:pt x="3497" y="14015"/>
                </a:cubicBezTo>
                <a:cubicBezTo>
                  <a:pt x="3532" y="13939"/>
                  <a:pt x="3572" y="13837"/>
                  <a:pt x="3621" y="13767"/>
                </a:cubicBezTo>
                <a:cubicBezTo>
                  <a:pt x="3629" y="13759"/>
                  <a:pt x="3638" y="13750"/>
                  <a:pt x="3646" y="13742"/>
                </a:cubicBezTo>
                <a:cubicBezTo>
                  <a:pt x="3673" y="13841"/>
                  <a:pt x="3675" y="13911"/>
                  <a:pt x="3746" y="13990"/>
                </a:cubicBezTo>
                <a:cubicBezTo>
                  <a:pt x="3807" y="14058"/>
                  <a:pt x="3852" y="14109"/>
                  <a:pt x="3944" y="14114"/>
                </a:cubicBezTo>
                <a:cubicBezTo>
                  <a:pt x="4016" y="14118"/>
                  <a:pt x="4036" y="14074"/>
                  <a:pt x="4068" y="14015"/>
                </a:cubicBezTo>
                <a:cubicBezTo>
                  <a:pt x="4123" y="13912"/>
                  <a:pt x="4071" y="13861"/>
                  <a:pt x="4018" y="13816"/>
                </a:cubicBezTo>
                <a:cubicBezTo>
                  <a:pt x="3963" y="13856"/>
                  <a:pt x="3905" y="13909"/>
                  <a:pt x="3919" y="13990"/>
                </a:cubicBezTo>
                <a:cubicBezTo>
                  <a:pt x="3939" y="14105"/>
                  <a:pt x="3986" y="14153"/>
                  <a:pt x="4093" y="14163"/>
                </a:cubicBezTo>
                <a:cubicBezTo>
                  <a:pt x="4109" y="14163"/>
                  <a:pt x="4126" y="14163"/>
                  <a:pt x="4142" y="14163"/>
                </a:cubicBezTo>
              </a:path>
              <a:path w="2656" h="1191">
                <a:moveTo>
                  <a:pt x="4341" y="13965"/>
                </a:moveTo>
                <a:cubicBezTo>
                  <a:pt x="4388" y="13965"/>
                  <a:pt x="4358" y="14030"/>
                  <a:pt x="4366" y="14089"/>
                </a:cubicBezTo>
                <a:cubicBezTo>
                  <a:pt x="4366" y="14131"/>
                  <a:pt x="4366" y="14156"/>
                  <a:pt x="4366" y="14114"/>
                </a:cubicBezTo>
              </a:path>
              <a:path w="2656" h="1191">
                <a:moveTo>
                  <a:pt x="4440" y="13320"/>
                </a:moveTo>
                <a:cubicBezTo>
                  <a:pt x="4486" y="13275"/>
                  <a:pt x="4498" y="13256"/>
                  <a:pt x="4539" y="13295"/>
                </a:cubicBezTo>
              </a:path>
              <a:path w="2656" h="1191">
                <a:moveTo>
                  <a:pt x="4688" y="13345"/>
                </a:moveTo>
                <a:cubicBezTo>
                  <a:pt x="4659" y="13572"/>
                  <a:pt x="4638" y="13761"/>
                  <a:pt x="4638" y="13990"/>
                </a:cubicBezTo>
                <a:cubicBezTo>
                  <a:pt x="4638" y="14056"/>
                  <a:pt x="4638" y="14073"/>
                  <a:pt x="4638" y="14114"/>
                </a:cubicBezTo>
              </a:path>
              <a:path w="2656" h="1191">
                <a:moveTo>
                  <a:pt x="4490" y="13667"/>
                </a:moveTo>
                <a:cubicBezTo>
                  <a:pt x="4482" y="13642"/>
                  <a:pt x="4473" y="13618"/>
                  <a:pt x="4465" y="13593"/>
                </a:cubicBezTo>
                <a:cubicBezTo>
                  <a:pt x="4548" y="13572"/>
                  <a:pt x="4644" y="13595"/>
                  <a:pt x="4738" y="13568"/>
                </a:cubicBezTo>
                <a:cubicBezTo>
                  <a:pt x="4817" y="13545"/>
                  <a:pt x="4864" y="13501"/>
                  <a:pt x="4911" y="13444"/>
                </a:cubicBezTo>
                <a:cubicBezTo>
                  <a:pt x="4919" y="13436"/>
                  <a:pt x="4928" y="13427"/>
                  <a:pt x="4936" y="13419"/>
                </a:cubicBezTo>
                <a:cubicBezTo>
                  <a:pt x="4927" y="13483"/>
                  <a:pt x="4914" y="13626"/>
                  <a:pt x="4887" y="13717"/>
                </a:cubicBezTo>
                <a:cubicBezTo>
                  <a:pt x="4859" y="13813"/>
                  <a:pt x="4866" y="13858"/>
                  <a:pt x="4887" y="13940"/>
                </a:cubicBezTo>
                <a:cubicBezTo>
                  <a:pt x="4928" y="13876"/>
                  <a:pt x="4973" y="13809"/>
                  <a:pt x="5011" y="13742"/>
                </a:cubicBezTo>
                <a:cubicBezTo>
                  <a:pt x="5032" y="13698"/>
                  <a:pt x="5035" y="13686"/>
                  <a:pt x="5060" y="13667"/>
                </a:cubicBezTo>
                <a:cubicBezTo>
                  <a:pt x="5066" y="13734"/>
                  <a:pt x="5079" y="13839"/>
                  <a:pt x="5135" y="13891"/>
                </a:cubicBezTo>
                <a:cubicBezTo>
                  <a:pt x="5199" y="13950"/>
                  <a:pt x="5230" y="13937"/>
                  <a:pt x="5283" y="13891"/>
                </a:cubicBezTo>
                <a:cubicBezTo>
                  <a:pt x="5343" y="13839"/>
                  <a:pt x="5391" y="13772"/>
                  <a:pt x="5407" y="13692"/>
                </a:cubicBezTo>
                <a:cubicBezTo>
                  <a:pt x="5407" y="13676"/>
                  <a:pt x="5407" y="13659"/>
                  <a:pt x="5407" y="13643"/>
                </a:cubicBezTo>
                <a:cubicBezTo>
                  <a:pt x="5389" y="13719"/>
                  <a:pt x="5395" y="13744"/>
                  <a:pt x="5457" y="13791"/>
                </a:cubicBezTo>
                <a:cubicBezTo>
                  <a:pt x="5512" y="13832"/>
                  <a:pt x="5589" y="13862"/>
                  <a:pt x="5655" y="13866"/>
                </a:cubicBezTo>
                <a:cubicBezTo>
                  <a:pt x="5722" y="13870"/>
                  <a:pt x="5881" y="13831"/>
                  <a:pt x="5928" y="13891"/>
                </a:cubicBezTo>
                <a:cubicBezTo>
                  <a:pt x="5980" y="13958"/>
                  <a:pt x="6018" y="14077"/>
                  <a:pt x="6028" y="14163"/>
                </a:cubicBezTo>
                <a:cubicBezTo>
                  <a:pt x="6039" y="14260"/>
                  <a:pt x="6028" y="14363"/>
                  <a:pt x="6028" y="144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96-9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3-3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7-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Lesson 1.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graph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6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68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f is increasing on an interval if as x increases, f(x) also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f is decreasing on an interval if as x increases, f(x)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constant if f(x) stays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4"/>
          <p:cNvSpPr/>
          <p:nvPr/>
        </p:nvSpPr>
        <p:spPr>
          <a:xfrm>
            <a:off x="6483240" y="866880"/>
            <a:ext cx="2224080" cy="803160"/>
          </a:xfrm>
          <a:custGeom>
            <a:avLst/>
            <a:gdLst/>
            <a:ahLst/>
            <a:rect l="l" t="t" r="r" b="b"/>
            <a:pathLst>
              <a:path w="6178" h="2233">
                <a:moveTo>
                  <a:pt x="18281" y="4465"/>
                </a:moveTo>
                <a:cubicBezTo>
                  <a:pt x="18297" y="4458"/>
                  <a:pt x="18356" y="4445"/>
                  <a:pt x="18405" y="4415"/>
                </a:cubicBezTo>
                <a:cubicBezTo>
                  <a:pt x="18453" y="4385"/>
                  <a:pt x="18507" y="4349"/>
                  <a:pt x="18554" y="4316"/>
                </a:cubicBezTo>
                <a:cubicBezTo>
                  <a:pt x="18636" y="4257"/>
                  <a:pt x="18719" y="4203"/>
                  <a:pt x="18802" y="4142"/>
                </a:cubicBezTo>
                <a:cubicBezTo>
                  <a:pt x="18915" y="4060"/>
                  <a:pt x="19032" y="3968"/>
                  <a:pt x="19149" y="3894"/>
                </a:cubicBezTo>
                <a:cubicBezTo>
                  <a:pt x="19236" y="3839"/>
                  <a:pt x="19332" y="3805"/>
                  <a:pt x="19422" y="3746"/>
                </a:cubicBezTo>
                <a:cubicBezTo>
                  <a:pt x="19520" y="3681"/>
                  <a:pt x="19622" y="3630"/>
                  <a:pt x="19720" y="3572"/>
                </a:cubicBezTo>
                <a:cubicBezTo>
                  <a:pt x="19835" y="3505"/>
                  <a:pt x="19948" y="3434"/>
                  <a:pt x="20067" y="3373"/>
                </a:cubicBezTo>
                <a:cubicBezTo>
                  <a:pt x="20192" y="3309"/>
                  <a:pt x="20313" y="3239"/>
                  <a:pt x="20439" y="3175"/>
                </a:cubicBezTo>
                <a:cubicBezTo>
                  <a:pt x="20554" y="3117"/>
                  <a:pt x="20675" y="3065"/>
                  <a:pt x="20786" y="3001"/>
                </a:cubicBezTo>
                <a:cubicBezTo>
                  <a:pt x="20896" y="2938"/>
                  <a:pt x="20998" y="2862"/>
                  <a:pt x="21109" y="2803"/>
                </a:cubicBezTo>
                <a:cubicBezTo>
                  <a:pt x="21189" y="2761"/>
                  <a:pt x="21280" y="2730"/>
                  <a:pt x="21357" y="2679"/>
                </a:cubicBezTo>
                <a:cubicBezTo>
                  <a:pt x="21398" y="2652"/>
                  <a:pt x="21512" y="2578"/>
                  <a:pt x="21530" y="2530"/>
                </a:cubicBezTo>
                <a:cubicBezTo>
                  <a:pt x="21561" y="2444"/>
                  <a:pt x="21495" y="2516"/>
                  <a:pt x="21481" y="2505"/>
                </a:cubicBezTo>
              </a:path>
              <a:path w="6178" h="2233">
                <a:moveTo>
                  <a:pt x="21233" y="2431"/>
                </a:moveTo>
                <a:cubicBezTo>
                  <a:pt x="21328" y="2431"/>
                  <a:pt x="21413" y="2411"/>
                  <a:pt x="21506" y="2406"/>
                </a:cubicBezTo>
                <a:cubicBezTo>
                  <a:pt x="21558" y="2403"/>
                  <a:pt x="21674" y="2396"/>
                  <a:pt x="21704" y="2456"/>
                </a:cubicBezTo>
                <a:cubicBezTo>
                  <a:pt x="21734" y="2516"/>
                  <a:pt x="21702" y="2676"/>
                  <a:pt x="21679" y="2729"/>
                </a:cubicBezTo>
                <a:cubicBezTo>
                  <a:pt x="21655" y="2785"/>
                  <a:pt x="21628" y="2856"/>
                  <a:pt x="21605" y="2902"/>
                </a:cubicBezTo>
                <a:cubicBezTo>
                  <a:pt x="21572" y="2967"/>
                  <a:pt x="21562" y="2977"/>
                  <a:pt x="21506" y="3001"/>
                </a:cubicBezTo>
              </a:path>
              <a:path w="6178" h="2233">
                <a:moveTo>
                  <a:pt x="18132" y="4093"/>
                </a:moveTo>
                <a:cubicBezTo>
                  <a:pt x="18103" y="4140"/>
                  <a:pt x="18090" y="4231"/>
                  <a:pt x="18083" y="4291"/>
                </a:cubicBezTo>
                <a:cubicBezTo>
                  <a:pt x="18075" y="4367"/>
                  <a:pt x="18057" y="4443"/>
                  <a:pt x="18033" y="4514"/>
                </a:cubicBezTo>
                <a:cubicBezTo>
                  <a:pt x="18010" y="4581"/>
                  <a:pt x="17997" y="4580"/>
                  <a:pt x="18033" y="4638"/>
                </a:cubicBezTo>
                <a:cubicBezTo>
                  <a:pt x="18097" y="4615"/>
                  <a:pt x="18171" y="4613"/>
                  <a:pt x="18231" y="4589"/>
                </a:cubicBezTo>
                <a:cubicBezTo>
                  <a:pt x="18264" y="4572"/>
                  <a:pt x="18298" y="4556"/>
                  <a:pt x="18331" y="4539"/>
                </a:cubicBezTo>
              </a:path>
              <a:path w="6178" h="2233">
                <a:moveTo>
                  <a:pt x="20886" y="4490"/>
                </a:moveTo>
                <a:cubicBezTo>
                  <a:pt x="20890" y="4482"/>
                  <a:pt x="20930" y="4393"/>
                  <a:pt x="20960" y="4341"/>
                </a:cubicBezTo>
                <a:cubicBezTo>
                  <a:pt x="20994" y="4283"/>
                  <a:pt x="21029" y="4225"/>
                  <a:pt x="21059" y="4167"/>
                </a:cubicBezTo>
                <a:cubicBezTo>
                  <a:pt x="21089" y="4108"/>
                  <a:pt x="21127" y="4050"/>
                  <a:pt x="21158" y="3994"/>
                </a:cubicBezTo>
                <a:cubicBezTo>
                  <a:pt x="21225" y="3870"/>
                  <a:pt x="21282" y="3773"/>
                  <a:pt x="21382" y="3671"/>
                </a:cubicBezTo>
                <a:cubicBezTo>
                  <a:pt x="21468" y="3583"/>
                  <a:pt x="21552" y="3516"/>
                  <a:pt x="21654" y="3448"/>
                </a:cubicBezTo>
                <a:cubicBezTo>
                  <a:pt x="21767" y="3373"/>
                  <a:pt x="21880" y="3310"/>
                  <a:pt x="22002" y="3249"/>
                </a:cubicBezTo>
                <a:cubicBezTo>
                  <a:pt x="22129" y="3186"/>
                  <a:pt x="22263" y="3116"/>
                  <a:pt x="22399" y="3076"/>
                </a:cubicBezTo>
                <a:cubicBezTo>
                  <a:pt x="22577" y="3024"/>
                  <a:pt x="22766" y="2987"/>
                  <a:pt x="22944" y="2952"/>
                </a:cubicBezTo>
                <a:cubicBezTo>
                  <a:pt x="23133" y="2915"/>
                  <a:pt x="23326" y="2873"/>
                  <a:pt x="23515" y="2853"/>
                </a:cubicBezTo>
                <a:cubicBezTo>
                  <a:pt x="23595" y="2844"/>
                  <a:pt x="23684" y="2844"/>
                  <a:pt x="23763" y="2828"/>
                </a:cubicBezTo>
                <a:cubicBezTo>
                  <a:pt x="23914" y="2798"/>
                  <a:pt x="23823" y="2798"/>
                  <a:pt x="23862" y="2753"/>
                </a:cubicBezTo>
              </a:path>
              <a:path w="6178" h="2233">
                <a:moveTo>
                  <a:pt x="23738" y="2629"/>
                </a:moveTo>
                <a:cubicBezTo>
                  <a:pt x="23820" y="2629"/>
                  <a:pt x="23893" y="2640"/>
                  <a:pt x="23961" y="2654"/>
                </a:cubicBezTo>
                <a:cubicBezTo>
                  <a:pt x="24039" y="2670"/>
                  <a:pt x="24088" y="2654"/>
                  <a:pt x="24160" y="2704"/>
                </a:cubicBezTo>
                <a:cubicBezTo>
                  <a:pt x="24235" y="2756"/>
                  <a:pt x="24150" y="2896"/>
                  <a:pt x="24110" y="2952"/>
                </a:cubicBezTo>
                <a:cubicBezTo>
                  <a:pt x="24069" y="3009"/>
                  <a:pt x="24022" y="3065"/>
                  <a:pt x="23986" y="3125"/>
                </a:cubicBezTo>
                <a:cubicBezTo>
                  <a:pt x="23978" y="3142"/>
                  <a:pt x="23969" y="3158"/>
                  <a:pt x="23961" y="31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5"/>
          <p:cNvSpPr/>
          <p:nvPr/>
        </p:nvSpPr>
        <p:spPr>
          <a:xfrm>
            <a:off x="5697360" y="687240"/>
            <a:ext cx="1071720" cy="947880"/>
          </a:xfrm>
          <a:custGeom>
            <a:avLst/>
            <a:gdLst/>
            <a:ahLst/>
            <a:rect l="l" t="t" r="r" b="b"/>
            <a:pathLst>
              <a:path w="2978" h="2630">
                <a:moveTo>
                  <a:pt x="15825" y="4490"/>
                </a:moveTo>
                <a:cubicBezTo>
                  <a:pt x="15883" y="4502"/>
                  <a:pt x="15904" y="4519"/>
                  <a:pt x="15949" y="4514"/>
                </a:cubicBezTo>
                <a:cubicBezTo>
                  <a:pt x="16049" y="4502"/>
                  <a:pt x="16099" y="4465"/>
                  <a:pt x="16197" y="4415"/>
                </a:cubicBezTo>
                <a:cubicBezTo>
                  <a:pt x="16319" y="4353"/>
                  <a:pt x="16459" y="4292"/>
                  <a:pt x="16570" y="4217"/>
                </a:cubicBezTo>
                <a:cubicBezTo>
                  <a:pt x="16666" y="4153"/>
                  <a:pt x="16749" y="4064"/>
                  <a:pt x="16842" y="3994"/>
                </a:cubicBezTo>
                <a:cubicBezTo>
                  <a:pt x="16959" y="3906"/>
                  <a:pt x="17056" y="3817"/>
                  <a:pt x="17165" y="3721"/>
                </a:cubicBezTo>
                <a:cubicBezTo>
                  <a:pt x="17300" y="3602"/>
                  <a:pt x="17390" y="3476"/>
                  <a:pt x="17512" y="3349"/>
                </a:cubicBezTo>
                <a:cubicBezTo>
                  <a:pt x="17607" y="3251"/>
                  <a:pt x="17706" y="3163"/>
                  <a:pt x="17785" y="3051"/>
                </a:cubicBezTo>
                <a:cubicBezTo>
                  <a:pt x="17858" y="2949"/>
                  <a:pt x="17938" y="2858"/>
                  <a:pt x="18008" y="2753"/>
                </a:cubicBezTo>
                <a:cubicBezTo>
                  <a:pt x="18102" y="2613"/>
                  <a:pt x="18197" y="2472"/>
                  <a:pt x="18281" y="2332"/>
                </a:cubicBezTo>
                <a:cubicBezTo>
                  <a:pt x="18324" y="2260"/>
                  <a:pt x="18360" y="2183"/>
                  <a:pt x="18405" y="2108"/>
                </a:cubicBezTo>
                <a:cubicBezTo>
                  <a:pt x="18441" y="2048"/>
                  <a:pt x="18479" y="2008"/>
                  <a:pt x="18479" y="1935"/>
                </a:cubicBezTo>
                <a:cubicBezTo>
                  <a:pt x="18471" y="1927"/>
                  <a:pt x="18463" y="1918"/>
                  <a:pt x="18455" y="1910"/>
                </a:cubicBezTo>
                <a:cubicBezTo>
                  <a:pt x="18421" y="1952"/>
                  <a:pt x="18387" y="1991"/>
                  <a:pt x="18355" y="2034"/>
                </a:cubicBezTo>
                <a:cubicBezTo>
                  <a:pt x="18309" y="2095"/>
                  <a:pt x="18261" y="2152"/>
                  <a:pt x="18207" y="2208"/>
                </a:cubicBezTo>
                <a:cubicBezTo>
                  <a:pt x="18183" y="2233"/>
                  <a:pt x="18157" y="2257"/>
                  <a:pt x="18132" y="2282"/>
                </a:cubicBezTo>
                <a:cubicBezTo>
                  <a:pt x="18150" y="2224"/>
                  <a:pt x="18146" y="2165"/>
                  <a:pt x="18182" y="2108"/>
                </a:cubicBezTo>
                <a:cubicBezTo>
                  <a:pt x="18241" y="2014"/>
                  <a:pt x="18364" y="1963"/>
                  <a:pt x="18455" y="1935"/>
                </a:cubicBezTo>
                <a:cubicBezTo>
                  <a:pt x="18529" y="1912"/>
                  <a:pt x="18596" y="1900"/>
                  <a:pt x="18678" y="1910"/>
                </a:cubicBezTo>
                <a:cubicBezTo>
                  <a:pt x="18752" y="1919"/>
                  <a:pt x="18744" y="1944"/>
                  <a:pt x="18802" y="19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6"/>
          <p:cNvSpPr/>
          <p:nvPr/>
        </p:nvSpPr>
        <p:spPr>
          <a:xfrm>
            <a:off x="6330960" y="3160800"/>
            <a:ext cx="1884240" cy="617400"/>
          </a:xfrm>
          <a:custGeom>
            <a:avLst/>
            <a:gdLst/>
            <a:ahLst/>
            <a:rect l="l" t="t" r="r" b="b"/>
            <a:pathLst>
              <a:path w="5234" h="1712">
                <a:moveTo>
                  <a:pt x="17835" y="8880"/>
                </a:moveTo>
                <a:cubicBezTo>
                  <a:pt x="17892" y="8931"/>
                  <a:pt x="17948" y="8959"/>
                  <a:pt x="18008" y="9004"/>
                </a:cubicBezTo>
                <a:cubicBezTo>
                  <a:pt x="18107" y="9078"/>
                  <a:pt x="18203" y="9141"/>
                  <a:pt x="18306" y="9203"/>
                </a:cubicBezTo>
                <a:cubicBezTo>
                  <a:pt x="18524" y="9335"/>
                  <a:pt x="18733" y="9461"/>
                  <a:pt x="18951" y="9599"/>
                </a:cubicBezTo>
                <a:cubicBezTo>
                  <a:pt x="19117" y="9704"/>
                  <a:pt x="19284" y="9812"/>
                  <a:pt x="19447" y="9922"/>
                </a:cubicBezTo>
                <a:cubicBezTo>
                  <a:pt x="19576" y="10009"/>
                  <a:pt x="19697" y="10104"/>
                  <a:pt x="19819" y="10195"/>
                </a:cubicBezTo>
                <a:cubicBezTo>
                  <a:pt x="19861" y="10226"/>
                  <a:pt x="20037" y="10371"/>
                  <a:pt x="20092" y="10368"/>
                </a:cubicBezTo>
                <a:cubicBezTo>
                  <a:pt x="20143" y="10368"/>
                  <a:pt x="20158" y="10366"/>
                  <a:pt x="20117" y="10319"/>
                </a:cubicBezTo>
              </a:path>
              <a:path w="5234" h="1712">
                <a:moveTo>
                  <a:pt x="19893" y="9971"/>
                </a:moveTo>
                <a:cubicBezTo>
                  <a:pt x="19976" y="10042"/>
                  <a:pt x="20040" y="10096"/>
                  <a:pt x="20117" y="10170"/>
                </a:cubicBezTo>
                <a:cubicBezTo>
                  <a:pt x="20183" y="10233"/>
                  <a:pt x="20234" y="10301"/>
                  <a:pt x="20290" y="10368"/>
                </a:cubicBezTo>
                <a:cubicBezTo>
                  <a:pt x="20319" y="10403"/>
                  <a:pt x="20357" y="10435"/>
                  <a:pt x="20389" y="10468"/>
                </a:cubicBezTo>
                <a:cubicBezTo>
                  <a:pt x="20310" y="10507"/>
                  <a:pt x="20254" y="10472"/>
                  <a:pt x="20166" y="10468"/>
                </a:cubicBezTo>
                <a:cubicBezTo>
                  <a:pt x="20036" y="10463"/>
                  <a:pt x="19916" y="10464"/>
                  <a:pt x="19794" y="10443"/>
                </a:cubicBezTo>
                <a:cubicBezTo>
                  <a:pt x="19778" y="10443"/>
                  <a:pt x="19761" y="10443"/>
                  <a:pt x="19745" y="10443"/>
                </a:cubicBezTo>
              </a:path>
              <a:path w="5234" h="1712">
                <a:moveTo>
                  <a:pt x="17587" y="9029"/>
                </a:moveTo>
                <a:cubicBezTo>
                  <a:pt x="17623" y="8967"/>
                  <a:pt x="17610" y="8920"/>
                  <a:pt x="17636" y="8855"/>
                </a:cubicBezTo>
                <a:cubicBezTo>
                  <a:pt x="17656" y="8805"/>
                  <a:pt x="17717" y="8784"/>
                  <a:pt x="17760" y="8781"/>
                </a:cubicBezTo>
                <a:cubicBezTo>
                  <a:pt x="17843" y="8776"/>
                  <a:pt x="17905" y="8844"/>
                  <a:pt x="17983" y="8855"/>
                </a:cubicBezTo>
                <a:cubicBezTo>
                  <a:pt x="18016" y="8855"/>
                  <a:pt x="18050" y="8855"/>
                  <a:pt x="18083" y="8855"/>
                </a:cubicBezTo>
              </a:path>
              <a:path w="5234" h="1712">
                <a:moveTo>
                  <a:pt x="20687" y="8806"/>
                </a:moveTo>
                <a:cubicBezTo>
                  <a:pt x="20772" y="8789"/>
                  <a:pt x="20799" y="8800"/>
                  <a:pt x="20886" y="8806"/>
                </a:cubicBezTo>
                <a:cubicBezTo>
                  <a:pt x="20985" y="8812"/>
                  <a:pt x="21063" y="8851"/>
                  <a:pt x="21158" y="8880"/>
                </a:cubicBezTo>
                <a:cubicBezTo>
                  <a:pt x="21227" y="8901"/>
                  <a:pt x="21314" y="8907"/>
                  <a:pt x="21382" y="8930"/>
                </a:cubicBezTo>
                <a:cubicBezTo>
                  <a:pt x="21480" y="8962"/>
                  <a:pt x="21564" y="9032"/>
                  <a:pt x="21654" y="9079"/>
                </a:cubicBezTo>
                <a:cubicBezTo>
                  <a:pt x="21732" y="9120"/>
                  <a:pt x="21812" y="9172"/>
                  <a:pt x="21878" y="9227"/>
                </a:cubicBezTo>
                <a:cubicBezTo>
                  <a:pt x="21946" y="9284"/>
                  <a:pt x="22013" y="9341"/>
                  <a:pt x="22076" y="9401"/>
                </a:cubicBezTo>
                <a:cubicBezTo>
                  <a:pt x="22135" y="9457"/>
                  <a:pt x="22199" y="9534"/>
                  <a:pt x="22250" y="9599"/>
                </a:cubicBezTo>
                <a:cubicBezTo>
                  <a:pt x="22315" y="9683"/>
                  <a:pt x="22340" y="9789"/>
                  <a:pt x="22399" y="9872"/>
                </a:cubicBezTo>
                <a:cubicBezTo>
                  <a:pt x="22452" y="9946"/>
                  <a:pt x="22504" y="10013"/>
                  <a:pt x="22547" y="10096"/>
                </a:cubicBezTo>
                <a:cubicBezTo>
                  <a:pt x="22556" y="10113"/>
                  <a:pt x="22613" y="10253"/>
                  <a:pt x="22647" y="10244"/>
                </a:cubicBezTo>
                <a:cubicBezTo>
                  <a:pt x="22647" y="10228"/>
                  <a:pt x="22647" y="10211"/>
                  <a:pt x="22647" y="10195"/>
                </a:cubicBezTo>
              </a:path>
              <a:path w="5234" h="1712">
                <a:moveTo>
                  <a:pt x="22671" y="9971"/>
                </a:moveTo>
                <a:cubicBezTo>
                  <a:pt x="22707" y="10016"/>
                  <a:pt x="22758" y="10086"/>
                  <a:pt x="22771" y="10145"/>
                </a:cubicBezTo>
                <a:cubicBezTo>
                  <a:pt x="22785" y="10207"/>
                  <a:pt x="22816" y="10258"/>
                  <a:pt x="22820" y="10319"/>
                </a:cubicBezTo>
                <a:cubicBezTo>
                  <a:pt x="22825" y="10405"/>
                  <a:pt x="22745" y="10420"/>
                  <a:pt x="22671" y="10393"/>
                </a:cubicBezTo>
                <a:cubicBezTo>
                  <a:pt x="22611" y="10371"/>
                  <a:pt x="22540" y="10349"/>
                  <a:pt x="22473" y="10344"/>
                </a:cubicBezTo>
                <a:cubicBezTo>
                  <a:pt x="22465" y="10344"/>
                  <a:pt x="22456" y="10344"/>
                  <a:pt x="22448" y="103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7"/>
          <p:cNvSpPr/>
          <p:nvPr/>
        </p:nvSpPr>
        <p:spPr>
          <a:xfrm>
            <a:off x="2259000" y="4670280"/>
            <a:ext cx="1778040" cy="347760"/>
          </a:xfrm>
          <a:custGeom>
            <a:avLst/>
            <a:gdLst/>
            <a:ahLst/>
            <a:rect l="l" t="t" r="r" b="b"/>
            <a:pathLst>
              <a:path w="4937" h="968">
                <a:moveTo>
                  <a:pt x="6623" y="13419"/>
                </a:moveTo>
                <a:cubicBezTo>
                  <a:pt x="6732" y="13419"/>
                  <a:pt x="6853" y="13436"/>
                  <a:pt x="6945" y="13444"/>
                </a:cubicBezTo>
                <a:cubicBezTo>
                  <a:pt x="7035" y="13452"/>
                  <a:pt x="7131" y="13462"/>
                  <a:pt x="7218" y="13469"/>
                </a:cubicBezTo>
                <a:cubicBezTo>
                  <a:pt x="7309" y="13476"/>
                  <a:pt x="7404" y="13487"/>
                  <a:pt x="7491" y="13494"/>
                </a:cubicBezTo>
                <a:cubicBezTo>
                  <a:pt x="7702" y="13510"/>
                  <a:pt x="7925" y="13515"/>
                  <a:pt x="8136" y="13519"/>
                </a:cubicBezTo>
                <a:cubicBezTo>
                  <a:pt x="8297" y="13522"/>
                  <a:pt x="8450" y="13507"/>
                  <a:pt x="8607" y="13494"/>
                </a:cubicBezTo>
                <a:cubicBezTo>
                  <a:pt x="8739" y="13483"/>
                  <a:pt x="8874" y="13480"/>
                  <a:pt x="9004" y="13469"/>
                </a:cubicBezTo>
                <a:cubicBezTo>
                  <a:pt x="9330" y="13442"/>
                  <a:pt x="9675" y="13468"/>
                  <a:pt x="9996" y="13494"/>
                </a:cubicBezTo>
                <a:cubicBezTo>
                  <a:pt x="10137" y="13506"/>
                  <a:pt x="10278" y="13496"/>
                  <a:pt x="10418" y="13519"/>
                </a:cubicBezTo>
                <a:cubicBezTo>
                  <a:pt x="10558" y="13542"/>
                  <a:pt x="10700" y="13559"/>
                  <a:pt x="10840" y="13568"/>
                </a:cubicBezTo>
                <a:cubicBezTo>
                  <a:pt x="10940" y="13574"/>
                  <a:pt x="11045" y="13577"/>
                  <a:pt x="11137" y="13543"/>
                </a:cubicBezTo>
                <a:cubicBezTo>
                  <a:pt x="11167" y="13514"/>
                  <a:pt x="11182" y="13503"/>
                  <a:pt x="11212" y="13494"/>
                </a:cubicBezTo>
                <a:cubicBezTo>
                  <a:pt x="11155" y="13472"/>
                  <a:pt x="11105" y="13438"/>
                  <a:pt x="11038" y="13419"/>
                </a:cubicBezTo>
                <a:cubicBezTo>
                  <a:pt x="10968" y="13400"/>
                  <a:pt x="10910" y="13372"/>
                  <a:pt x="10840" y="13345"/>
                </a:cubicBezTo>
                <a:cubicBezTo>
                  <a:pt x="10759" y="13314"/>
                  <a:pt x="10675" y="13297"/>
                  <a:pt x="10592" y="13271"/>
                </a:cubicBezTo>
                <a:cubicBezTo>
                  <a:pt x="10537" y="13254"/>
                  <a:pt x="10469" y="13237"/>
                  <a:pt x="10418" y="13221"/>
                </a:cubicBezTo>
                <a:cubicBezTo>
                  <a:pt x="10491" y="13226"/>
                  <a:pt x="10547" y="13228"/>
                  <a:pt x="10616" y="13246"/>
                </a:cubicBezTo>
                <a:cubicBezTo>
                  <a:pt x="10692" y="13266"/>
                  <a:pt x="10779" y="13319"/>
                  <a:pt x="10864" y="13345"/>
                </a:cubicBezTo>
                <a:cubicBezTo>
                  <a:pt x="10932" y="13366"/>
                  <a:pt x="10993" y="13392"/>
                  <a:pt x="11063" y="13419"/>
                </a:cubicBezTo>
                <a:cubicBezTo>
                  <a:pt x="11125" y="13443"/>
                  <a:pt x="11157" y="13451"/>
                  <a:pt x="11212" y="13469"/>
                </a:cubicBezTo>
                <a:cubicBezTo>
                  <a:pt x="11180" y="13517"/>
                  <a:pt x="11140" y="13569"/>
                  <a:pt x="11112" y="13618"/>
                </a:cubicBezTo>
                <a:cubicBezTo>
                  <a:pt x="11076" y="13682"/>
                  <a:pt x="11046" y="13750"/>
                  <a:pt x="11013" y="13816"/>
                </a:cubicBezTo>
              </a:path>
              <a:path w="4937" h="968">
                <a:moveTo>
                  <a:pt x="6846" y="12973"/>
                </a:moveTo>
                <a:cubicBezTo>
                  <a:pt x="6812" y="13007"/>
                  <a:pt x="6749" y="13040"/>
                  <a:pt x="6722" y="13072"/>
                </a:cubicBezTo>
                <a:cubicBezTo>
                  <a:pt x="6659" y="13145"/>
                  <a:pt x="6637" y="13141"/>
                  <a:pt x="6548" y="13171"/>
                </a:cubicBezTo>
                <a:cubicBezTo>
                  <a:pt x="6464" y="13199"/>
                  <a:pt x="6371" y="13242"/>
                  <a:pt x="6300" y="13295"/>
                </a:cubicBezTo>
                <a:cubicBezTo>
                  <a:pt x="6222" y="13354"/>
                  <a:pt x="6315" y="13445"/>
                  <a:pt x="6350" y="13494"/>
                </a:cubicBezTo>
                <a:cubicBezTo>
                  <a:pt x="6423" y="13596"/>
                  <a:pt x="6498" y="13691"/>
                  <a:pt x="6573" y="13791"/>
                </a:cubicBezTo>
                <a:cubicBezTo>
                  <a:pt x="6641" y="13881"/>
                  <a:pt x="6656" y="13908"/>
                  <a:pt x="6722" y="139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8"/>
          <p:cNvSpPr/>
          <p:nvPr/>
        </p:nvSpPr>
        <p:spPr>
          <a:xfrm>
            <a:off x="303120" y="428760"/>
            <a:ext cx="3608640" cy="1090440"/>
          </a:xfrm>
          <a:custGeom>
            <a:avLst/>
            <a:gdLst/>
            <a:ahLst/>
            <a:rect l="l" t="t" r="r" b="b"/>
            <a:pathLst>
              <a:path w="10022" h="3027">
                <a:moveTo>
                  <a:pt x="1042" y="4093"/>
                </a:moveTo>
                <a:cubicBezTo>
                  <a:pt x="1076" y="4020"/>
                  <a:pt x="1116" y="3946"/>
                  <a:pt x="1141" y="3870"/>
                </a:cubicBezTo>
                <a:cubicBezTo>
                  <a:pt x="1167" y="3793"/>
                  <a:pt x="1192" y="3703"/>
                  <a:pt x="1215" y="3621"/>
                </a:cubicBezTo>
                <a:cubicBezTo>
                  <a:pt x="1232" y="3562"/>
                  <a:pt x="1245" y="3501"/>
                  <a:pt x="1265" y="3448"/>
                </a:cubicBezTo>
                <a:cubicBezTo>
                  <a:pt x="1291" y="3378"/>
                  <a:pt x="1322" y="3320"/>
                  <a:pt x="1339" y="3249"/>
                </a:cubicBezTo>
                <a:cubicBezTo>
                  <a:pt x="1357" y="3177"/>
                  <a:pt x="1366" y="3094"/>
                  <a:pt x="1389" y="3026"/>
                </a:cubicBezTo>
                <a:cubicBezTo>
                  <a:pt x="1411" y="2960"/>
                  <a:pt x="1444" y="2903"/>
                  <a:pt x="1463" y="2828"/>
                </a:cubicBezTo>
                <a:cubicBezTo>
                  <a:pt x="1484" y="2743"/>
                  <a:pt x="1509" y="2683"/>
                  <a:pt x="1538" y="2604"/>
                </a:cubicBezTo>
                <a:cubicBezTo>
                  <a:pt x="1565" y="2528"/>
                  <a:pt x="1601" y="2454"/>
                  <a:pt x="1637" y="2381"/>
                </a:cubicBezTo>
                <a:cubicBezTo>
                  <a:pt x="1695" y="2262"/>
                  <a:pt x="1769" y="2169"/>
                  <a:pt x="1836" y="2059"/>
                </a:cubicBezTo>
                <a:cubicBezTo>
                  <a:pt x="1879" y="1989"/>
                  <a:pt x="1912" y="1946"/>
                  <a:pt x="1960" y="1885"/>
                </a:cubicBezTo>
                <a:cubicBezTo>
                  <a:pt x="2016" y="1814"/>
                  <a:pt x="2067" y="1773"/>
                  <a:pt x="2133" y="1712"/>
                </a:cubicBezTo>
                <a:cubicBezTo>
                  <a:pt x="2203" y="1647"/>
                  <a:pt x="2293" y="1565"/>
                  <a:pt x="2381" y="1513"/>
                </a:cubicBezTo>
                <a:cubicBezTo>
                  <a:pt x="2447" y="1474"/>
                  <a:pt x="2534" y="1419"/>
                  <a:pt x="2604" y="1389"/>
                </a:cubicBezTo>
                <a:cubicBezTo>
                  <a:pt x="2656" y="1366"/>
                  <a:pt x="2727" y="1330"/>
                  <a:pt x="2778" y="1315"/>
                </a:cubicBezTo>
                <a:cubicBezTo>
                  <a:pt x="2839" y="1297"/>
                  <a:pt x="2938" y="1272"/>
                  <a:pt x="3001" y="1265"/>
                </a:cubicBezTo>
                <a:cubicBezTo>
                  <a:pt x="3079" y="1256"/>
                  <a:pt x="3147" y="1245"/>
                  <a:pt x="3225" y="1240"/>
                </a:cubicBezTo>
                <a:cubicBezTo>
                  <a:pt x="3349" y="1232"/>
                  <a:pt x="3426" y="1265"/>
                  <a:pt x="3547" y="1290"/>
                </a:cubicBezTo>
                <a:cubicBezTo>
                  <a:pt x="3605" y="1302"/>
                  <a:pt x="3642" y="1318"/>
                  <a:pt x="3696" y="1339"/>
                </a:cubicBezTo>
                <a:cubicBezTo>
                  <a:pt x="3766" y="1366"/>
                  <a:pt x="3811" y="1401"/>
                  <a:pt x="3870" y="1439"/>
                </a:cubicBezTo>
                <a:cubicBezTo>
                  <a:pt x="3914" y="1468"/>
                  <a:pt x="3957" y="1498"/>
                  <a:pt x="3994" y="1538"/>
                </a:cubicBezTo>
                <a:cubicBezTo>
                  <a:pt x="4032" y="1578"/>
                  <a:pt x="4060" y="1619"/>
                  <a:pt x="4093" y="1662"/>
                </a:cubicBezTo>
                <a:cubicBezTo>
                  <a:pt x="4126" y="1704"/>
                  <a:pt x="4163" y="1741"/>
                  <a:pt x="4192" y="1786"/>
                </a:cubicBezTo>
                <a:cubicBezTo>
                  <a:pt x="4225" y="1837"/>
                  <a:pt x="4262" y="1881"/>
                  <a:pt x="4291" y="1935"/>
                </a:cubicBezTo>
                <a:cubicBezTo>
                  <a:pt x="4322" y="1992"/>
                  <a:pt x="4359" y="2048"/>
                  <a:pt x="4390" y="2108"/>
                </a:cubicBezTo>
                <a:cubicBezTo>
                  <a:pt x="4418" y="2162"/>
                  <a:pt x="4464" y="2207"/>
                  <a:pt x="4490" y="2257"/>
                </a:cubicBezTo>
                <a:cubicBezTo>
                  <a:pt x="4512" y="2299"/>
                  <a:pt x="4539" y="2358"/>
                  <a:pt x="4564" y="2406"/>
                </a:cubicBezTo>
                <a:cubicBezTo>
                  <a:pt x="4612" y="2500"/>
                  <a:pt x="4652" y="2625"/>
                  <a:pt x="4663" y="2729"/>
                </a:cubicBezTo>
                <a:cubicBezTo>
                  <a:pt x="4671" y="2798"/>
                  <a:pt x="4677" y="2870"/>
                  <a:pt x="4688" y="2927"/>
                </a:cubicBezTo>
                <a:cubicBezTo>
                  <a:pt x="4702" y="3001"/>
                  <a:pt x="4722" y="3085"/>
                  <a:pt x="4738" y="3150"/>
                </a:cubicBezTo>
                <a:cubicBezTo>
                  <a:pt x="4752" y="3208"/>
                  <a:pt x="4774" y="3273"/>
                  <a:pt x="4787" y="3324"/>
                </a:cubicBezTo>
                <a:cubicBezTo>
                  <a:pt x="4801" y="3376"/>
                  <a:pt x="4799" y="3419"/>
                  <a:pt x="4812" y="3473"/>
                </a:cubicBezTo>
              </a:path>
              <a:path w="10022" h="3027">
                <a:moveTo>
                  <a:pt x="4539" y="3349"/>
                </a:moveTo>
                <a:cubicBezTo>
                  <a:pt x="4593" y="3402"/>
                  <a:pt x="4607" y="3439"/>
                  <a:pt x="4638" y="3497"/>
                </a:cubicBezTo>
                <a:cubicBezTo>
                  <a:pt x="4664" y="3546"/>
                  <a:pt x="4696" y="3634"/>
                  <a:pt x="4738" y="3671"/>
                </a:cubicBezTo>
                <a:cubicBezTo>
                  <a:pt x="4807" y="3731"/>
                  <a:pt x="4894" y="3678"/>
                  <a:pt x="4961" y="3646"/>
                </a:cubicBezTo>
                <a:cubicBezTo>
                  <a:pt x="5021" y="3617"/>
                  <a:pt x="5086" y="3592"/>
                  <a:pt x="5135" y="3547"/>
                </a:cubicBezTo>
                <a:cubicBezTo>
                  <a:pt x="5143" y="3539"/>
                  <a:pt x="5151" y="3530"/>
                  <a:pt x="5159" y="3522"/>
                </a:cubicBezTo>
              </a:path>
              <a:path w="10022" h="3027">
                <a:moveTo>
                  <a:pt x="868" y="3944"/>
                </a:moveTo>
                <a:cubicBezTo>
                  <a:pt x="849" y="4020"/>
                  <a:pt x="859" y="4054"/>
                  <a:pt x="918" y="4118"/>
                </a:cubicBezTo>
                <a:cubicBezTo>
                  <a:pt x="931" y="4132"/>
                  <a:pt x="1001" y="4218"/>
                  <a:pt x="1017" y="4217"/>
                </a:cubicBezTo>
                <a:cubicBezTo>
                  <a:pt x="1087" y="4213"/>
                  <a:pt x="1161" y="4156"/>
                  <a:pt x="1215" y="4118"/>
                </a:cubicBezTo>
                <a:cubicBezTo>
                  <a:pt x="1280" y="4074"/>
                  <a:pt x="1295" y="4063"/>
                  <a:pt x="1339" y="4043"/>
                </a:cubicBezTo>
              </a:path>
              <a:path w="10022" h="3027">
                <a:moveTo>
                  <a:pt x="3051" y="1339"/>
                </a:moveTo>
                <a:cubicBezTo>
                  <a:pt x="3134" y="1339"/>
                  <a:pt x="3193" y="1349"/>
                  <a:pt x="3274" y="1364"/>
                </a:cubicBezTo>
                <a:cubicBezTo>
                  <a:pt x="3282" y="1364"/>
                  <a:pt x="3291" y="1364"/>
                  <a:pt x="3299" y="1364"/>
                </a:cubicBezTo>
              </a:path>
              <a:path w="10022" h="3027">
                <a:moveTo>
                  <a:pt x="3076" y="1339"/>
                </a:moveTo>
                <a:cubicBezTo>
                  <a:pt x="3146" y="1314"/>
                  <a:pt x="3199" y="1315"/>
                  <a:pt x="3274" y="1315"/>
                </a:cubicBezTo>
                <a:cubicBezTo>
                  <a:pt x="3332" y="1315"/>
                  <a:pt x="3357" y="1315"/>
                  <a:pt x="3398" y="1315"/>
                </a:cubicBezTo>
                <a:cubicBezTo>
                  <a:pt x="3338" y="1279"/>
                  <a:pt x="3275" y="1290"/>
                  <a:pt x="3200" y="1290"/>
                </a:cubicBezTo>
                <a:cubicBezTo>
                  <a:pt x="3051" y="1290"/>
                  <a:pt x="2902" y="1290"/>
                  <a:pt x="2753" y="1290"/>
                </a:cubicBezTo>
                <a:cubicBezTo>
                  <a:pt x="2823" y="1264"/>
                  <a:pt x="2876" y="1265"/>
                  <a:pt x="2952" y="1265"/>
                </a:cubicBezTo>
                <a:cubicBezTo>
                  <a:pt x="3018" y="1265"/>
                  <a:pt x="3084" y="1265"/>
                  <a:pt x="3150" y="1265"/>
                </a:cubicBezTo>
              </a:path>
              <a:path w="10022" h="3027">
                <a:moveTo>
                  <a:pt x="3101" y="1191"/>
                </a:moveTo>
                <a:cubicBezTo>
                  <a:pt x="3098" y="1215"/>
                  <a:pt x="3076" y="1389"/>
                  <a:pt x="3076" y="1265"/>
                </a:cubicBezTo>
                <a:cubicBezTo>
                  <a:pt x="3076" y="1159"/>
                  <a:pt x="3082" y="1294"/>
                  <a:pt x="3051" y="1315"/>
                </a:cubicBezTo>
              </a:path>
              <a:path w="10022" h="3027">
                <a:moveTo>
                  <a:pt x="5358" y="4217"/>
                </a:moveTo>
                <a:cubicBezTo>
                  <a:pt x="5381" y="4152"/>
                  <a:pt x="5394" y="4106"/>
                  <a:pt x="5407" y="4043"/>
                </a:cubicBezTo>
                <a:cubicBezTo>
                  <a:pt x="5420" y="3982"/>
                  <a:pt x="5421" y="3936"/>
                  <a:pt x="5432" y="3870"/>
                </a:cubicBezTo>
                <a:cubicBezTo>
                  <a:pt x="5448" y="3771"/>
                  <a:pt x="5435" y="3670"/>
                  <a:pt x="5457" y="3572"/>
                </a:cubicBezTo>
                <a:cubicBezTo>
                  <a:pt x="5472" y="3506"/>
                  <a:pt x="5492" y="3439"/>
                  <a:pt x="5507" y="3373"/>
                </a:cubicBezTo>
                <a:cubicBezTo>
                  <a:pt x="5528" y="3285"/>
                  <a:pt x="5555" y="3212"/>
                  <a:pt x="5581" y="3125"/>
                </a:cubicBezTo>
                <a:cubicBezTo>
                  <a:pt x="5603" y="3052"/>
                  <a:pt x="5626" y="2977"/>
                  <a:pt x="5655" y="2902"/>
                </a:cubicBezTo>
                <a:cubicBezTo>
                  <a:pt x="5690" y="2812"/>
                  <a:pt x="5741" y="2735"/>
                  <a:pt x="5779" y="2654"/>
                </a:cubicBezTo>
                <a:cubicBezTo>
                  <a:pt x="5818" y="2571"/>
                  <a:pt x="5868" y="2483"/>
                  <a:pt x="5904" y="2406"/>
                </a:cubicBezTo>
                <a:cubicBezTo>
                  <a:pt x="5949" y="2310"/>
                  <a:pt x="5992" y="2246"/>
                  <a:pt x="6052" y="2158"/>
                </a:cubicBezTo>
                <a:cubicBezTo>
                  <a:pt x="6099" y="2088"/>
                  <a:pt x="6149" y="2026"/>
                  <a:pt x="6201" y="1960"/>
                </a:cubicBezTo>
                <a:cubicBezTo>
                  <a:pt x="6271" y="1872"/>
                  <a:pt x="6350" y="1787"/>
                  <a:pt x="6424" y="1712"/>
                </a:cubicBezTo>
                <a:cubicBezTo>
                  <a:pt x="6481" y="1653"/>
                  <a:pt x="6539" y="1612"/>
                  <a:pt x="6598" y="1563"/>
                </a:cubicBezTo>
                <a:cubicBezTo>
                  <a:pt x="6639" y="1529"/>
                  <a:pt x="6680" y="1497"/>
                  <a:pt x="6722" y="1463"/>
                </a:cubicBezTo>
                <a:cubicBezTo>
                  <a:pt x="6812" y="1391"/>
                  <a:pt x="6834" y="1390"/>
                  <a:pt x="6945" y="1364"/>
                </a:cubicBezTo>
                <a:cubicBezTo>
                  <a:pt x="7013" y="1348"/>
                  <a:pt x="7102" y="1342"/>
                  <a:pt x="7169" y="1339"/>
                </a:cubicBezTo>
                <a:cubicBezTo>
                  <a:pt x="7287" y="1333"/>
                  <a:pt x="7400" y="1321"/>
                  <a:pt x="7516" y="1315"/>
                </a:cubicBezTo>
                <a:cubicBezTo>
                  <a:pt x="7651" y="1308"/>
                  <a:pt x="7779" y="1300"/>
                  <a:pt x="7913" y="1290"/>
                </a:cubicBezTo>
                <a:cubicBezTo>
                  <a:pt x="8135" y="1274"/>
                  <a:pt x="8359" y="1257"/>
                  <a:pt x="8582" y="1240"/>
                </a:cubicBezTo>
                <a:cubicBezTo>
                  <a:pt x="8821" y="1222"/>
                  <a:pt x="9061" y="1194"/>
                  <a:pt x="9302" y="1191"/>
                </a:cubicBezTo>
                <a:cubicBezTo>
                  <a:pt x="9503" y="1188"/>
                  <a:pt x="9698" y="1207"/>
                  <a:pt x="9897" y="1215"/>
                </a:cubicBezTo>
                <a:cubicBezTo>
                  <a:pt x="10025" y="1220"/>
                  <a:pt x="10149" y="1224"/>
                  <a:pt x="10269" y="1240"/>
                </a:cubicBezTo>
                <a:cubicBezTo>
                  <a:pt x="10346" y="1250"/>
                  <a:pt x="10380" y="1234"/>
                  <a:pt x="10443" y="1290"/>
                </a:cubicBezTo>
                <a:cubicBezTo>
                  <a:pt x="10478" y="1321"/>
                  <a:pt x="10516" y="1400"/>
                  <a:pt x="10542" y="1439"/>
                </a:cubicBezTo>
                <a:cubicBezTo>
                  <a:pt x="10592" y="1513"/>
                  <a:pt x="10649" y="1586"/>
                  <a:pt x="10691" y="1662"/>
                </a:cubicBezTo>
                <a:cubicBezTo>
                  <a:pt x="10747" y="1762"/>
                  <a:pt x="10789" y="1871"/>
                  <a:pt x="10815" y="1984"/>
                </a:cubicBezTo>
                <a:cubicBezTo>
                  <a:pt x="10843" y="2105"/>
                  <a:pt x="10829" y="2232"/>
                  <a:pt x="10840" y="2356"/>
                </a:cubicBezTo>
                <a:cubicBezTo>
                  <a:pt x="10854" y="2513"/>
                  <a:pt x="10875" y="2668"/>
                  <a:pt x="10864" y="2828"/>
                </a:cubicBezTo>
                <a:cubicBezTo>
                  <a:pt x="10852" y="3000"/>
                  <a:pt x="10840" y="3180"/>
                  <a:pt x="10815" y="3349"/>
                </a:cubicBezTo>
                <a:cubicBezTo>
                  <a:pt x="10806" y="3412"/>
                  <a:pt x="10788" y="3486"/>
                  <a:pt x="10790" y="3547"/>
                </a:cubicBezTo>
                <a:cubicBezTo>
                  <a:pt x="10790" y="3592"/>
                  <a:pt x="10786" y="3605"/>
                  <a:pt x="10815" y="36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open intervals on which each function is increasing, decreasing, or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4b78cc50e8554c24"/>
          <p:cNvPicPr/>
          <p:nvPr/>
        </p:nvPicPr>
        <p:blipFill>
          <a:blip r:embed="rId1"/>
          <a:stretch/>
        </p:blipFill>
        <p:spPr>
          <a:xfrm>
            <a:off x="1905120" y="1981080"/>
            <a:ext cx="4724280" cy="4578480"/>
          </a:xfrm>
          <a:prstGeom prst="rect">
            <a:avLst/>
          </a:prstGeom>
          <a:ln w="0">
            <a:noFill/>
          </a:ln>
        </p:spPr>
      </p:pic>
      <p:sp>
        <p:nvSpPr>
          <p:cNvPr id="58" name="Ink 6"/>
          <p:cNvSpPr/>
          <p:nvPr/>
        </p:nvSpPr>
        <p:spPr>
          <a:xfrm>
            <a:off x="3348000" y="1990800"/>
            <a:ext cx="1795680" cy="4527360"/>
          </a:xfrm>
          <a:custGeom>
            <a:avLst/>
            <a:gdLst/>
            <a:ahLst/>
            <a:rect l="l" t="t" r="r" b="b"/>
            <a:pathLst>
              <a:path w="4987" h="12577">
                <a:moveTo>
                  <a:pt x="9401" y="17983"/>
                </a:moveTo>
                <a:lnTo>
                  <a:pt x="9401" y="17983"/>
                </a:lnTo>
              </a:path>
              <a:path w="4987" h="12577">
                <a:moveTo>
                  <a:pt x="9401" y="17983"/>
                </a:moveTo>
                <a:cubicBezTo>
                  <a:pt x="9393" y="17991"/>
                  <a:pt x="9384" y="18000"/>
                  <a:pt x="9376" y="18008"/>
                </a:cubicBezTo>
              </a:path>
              <a:path w="4987" h="12577">
                <a:moveTo>
                  <a:pt x="9376" y="18008"/>
                </a:moveTo>
                <a:cubicBezTo>
                  <a:pt x="9354" y="18045"/>
                  <a:pt x="9349" y="18070"/>
                  <a:pt x="9327" y="18107"/>
                </a:cubicBezTo>
                <a:cubicBezTo>
                  <a:pt x="9304" y="18085"/>
                  <a:pt x="9296" y="18080"/>
                  <a:pt x="9302" y="18058"/>
                </a:cubicBezTo>
              </a:path>
              <a:path w="4987" h="12577">
                <a:moveTo>
                  <a:pt x="9327" y="17884"/>
                </a:moveTo>
                <a:cubicBezTo>
                  <a:pt x="9333" y="17817"/>
                  <a:pt x="9345" y="17773"/>
                  <a:pt x="9351" y="17711"/>
                </a:cubicBezTo>
                <a:cubicBezTo>
                  <a:pt x="9358" y="17641"/>
                  <a:pt x="9372" y="17580"/>
                  <a:pt x="9376" y="17512"/>
                </a:cubicBezTo>
                <a:cubicBezTo>
                  <a:pt x="9385" y="17357"/>
                  <a:pt x="9388" y="17211"/>
                  <a:pt x="9401" y="17066"/>
                </a:cubicBezTo>
                <a:cubicBezTo>
                  <a:pt x="9407" y="17004"/>
                  <a:pt x="9420" y="16960"/>
                  <a:pt x="9426" y="16892"/>
                </a:cubicBezTo>
                <a:cubicBezTo>
                  <a:pt x="9435" y="16792"/>
                  <a:pt x="9442" y="16716"/>
                  <a:pt x="9451" y="16619"/>
                </a:cubicBezTo>
                <a:cubicBezTo>
                  <a:pt x="9460" y="16521"/>
                  <a:pt x="9456" y="16440"/>
                  <a:pt x="9475" y="16346"/>
                </a:cubicBezTo>
                <a:cubicBezTo>
                  <a:pt x="9485" y="16295"/>
                  <a:pt x="9514" y="16232"/>
                  <a:pt x="9525" y="16173"/>
                </a:cubicBezTo>
                <a:cubicBezTo>
                  <a:pt x="9535" y="16115"/>
                  <a:pt x="9535" y="16059"/>
                  <a:pt x="9550" y="15999"/>
                </a:cubicBezTo>
                <a:cubicBezTo>
                  <a:pt x="9562" y="15952"/>
                  <a:pt x="9586" y="15901"/>
                  <a:pt x="9599" y="15850"/>
                </a:cubicBezTo>
                <a:cubicBezTo>
                  <a:pt x="9615" y="15787"/>
                  <a:pt x="9633" y="15736"/>
                  <a:pt x="9649" y="15677"/>
                </a:cubicBezTo>
                <a:cubicBezTo>
                  <a:pt x="9664" y="15623"/>
                  <a:pt x="9682" y="15560"/>
                  <a:pt x="9699" y="15503"/>
                </a:cubicBezTo>
                <a:cubicBezTo>
                  <a:pt x="9718" y="15439"/>
                  <a:pt x="9731" y="15389"/>
                  <a:pt x="9748" y="15329"/>
                </a:cubicBezTo>
                <a:cubicBezTo>
                  <a:pt x="9762" y="15278"/>
                  <a:pt x="9782" y="15213"/>
                  <a:pt x="9798" y="15156"/>
                </a:cubicBezTo>
                <a:cubicBezTo>
                  <a:pt x="9816" y="15088"/>
                  <a:pt x="9831" y="15025"/>
                  <a:pt x="9847" y="14957"/>
                </a:cubicBezTo>
                <a:cubicBezTo>
                  <a:pt x="9860" y="14899"/>
                  <a:pt x="9857" y="14845"/>
                  <a:pt x="9872" y="14784"/>
                </a:cubicBezTo>
                <a:cubicBezTo>
                  <a:pt x="9888" y="14719"/>
                  <a:pt x="9901" y="14630"/>
                  <a:pt x="9922" y="14560"/>
                </a:cubicBezTo>
                <a:cubicBezTo>
                  <a:pt x="9944" y="14486"/>
                  <a:pt x="9975" y="14412"/>
                  <a:pt x="9996" y="14337"/>
                </a:cubicBezTo>
                <a:cubicBezTo>
                  <a:pt x="10009" y="14289"/>
                  <a:pt x="10028" y="14214"/>
                  <a:pt x="10046" y="14163"/>
                </a:cubicBezTo>
                <a:cubicBezTo>
                  <a:pt x="10064" y="14113"/>
                  <a:pt x="10081" y="14069"/>
                  <a:pt x="10096" y="14015"/>
                </a:cubicBezTo>
                <a:cubicBezTo>
                  <a:pt x="10110" y="13965"/>
                  <a:pt x="10132" y="13920"/>
                  <a:pt x="10145" y="13866"/>
                </a:cubicBezTo>
                <a:cubicBezTo>
                  <a:pt x="10159" y="13809"/>
                  <a:pt x="10173" y="13724"/>
                  <a:pt x="10195" y="13667"/>
                </a:cubicBezTo>
                <a:cubicBezTo>
                  <a:pt x="10217" y="13611"/>
                  <a:pt x="10241" y="13556"/>
                  <a:pt x="10269" y="13494"/>
                </a:cubicBezTo>
                <a:cubicBezTo>
                  <a:pt x="10293" y="13441"/>
                  <a:pt x="10346" y="13402"/>
                  <a:pt x="10368" y="13345"/>
                </a:cubicBezTo>
                <a:cubicBezTo>
                  <a:pt x="10387" y="13295"/>
                  <a:pt x="10395" y="13221"/>
                  <a:pt x="10418" y="13171"/>
                </a:cubicBezTo>
                <a:cubicBezTo>
                  <a:pt x="10442" y="13120"/>
                  <a:pt x="10465" y="13078"/>
                  <a:pt x="10492" y="13022"/>
                </a:cubicBezTo>
                <a:cubicBezTo>
                  <a:pt x="10518" y="12966"/>
                  <a:pt x="10540" y="12906"/>
                  <a:pt x="10567" y="12849"/>
                </a:cubicBezTo>
                <a:cubicBezTo>
                  <a:pt x="10591" y="12799"/>
                  <a:pt x="10614" y="12744"/>
                  <a:pt x="10641" y="12700"/>
                </a:cubicBezTo>
                <a:cubicBezTo>
                  <a:pt x="10669" y="12654"/>
                  <a:pt x="10688" y="12617"/>
                  <a:pt x="10716" y="12576"/>
                </a:cubicBezTo>
                <a:cubicBezTo>
                  <a:pt x="10767" y="12501"/>
                  <a:pt x="10827" y="12447"/>
                  <a:pt x="10889" y="12378"/>
                </a:cubicBezTo>
                <a:cubicBezTo>
                  <a:pt x="11060" y="12186"/>
                  <a:pt x="11243" y="12016"/>
                  <a:pt x="11460" y="11906"/>
                </a:cubicBezTo>
                <a:cubicBezTo>
                  <a:pt x="11509" y="11881"/>
                  <a:pt x="11582" y="11850"/>
                  <a:pt x="11633" y="11832"/>
                </a:cubicBezTo>
                <a:cubicBezTo>
                  <a:pt x="11692" y="11811"/>
                  <a:pt x="11742" y="11818"/>
                  <a:pt x="11807" y="11807"/>
                </a:cubicBezTo>
                <a:cubicBezTo>
                  <a:pt x="11871" y="11796"/>
                  <a:pt x="11954" y="11791"/>
                  <a:pt x="12030" y="11782"/>
                </a:cubicBezTo>
                <a:cubicBezTo>
                  <a:pt x="12171" y="11765"/>
                  <a:pt x="12273" y="11745"/>
                  <a:pt x="12402" y="11708"/>
                </a:cubicBezTo>
                <a:cubicBezTo>
                  <a:pt x="12464" y="11690"/>
                  <a:pt x="12521" y="11684"/>
                  <a:pt x="12576" y="11658"/>
                </a:cubicBezTo>
                <a:cubicBezTo>
                  <a:pt x="12665" y="11616"/>
                  <a:pt x="12748" y="11568"/>
                  <a:pt x="12824" y="11509"/>
                </a:cubicBezTo>
                <a:cubicBezTo>
                  <a:pt x="12991" y="11379"/>
                  <a:pt x="13085" y="11222"/>
                  <a:pt x="13171" y="11063"/>
                </a:cubicBezTo>
                <a:cubicBezTo>
                  <a:pt x="13198" y="11012"/>
                  <a:pt x="13228" y="10964"/>
                  <a:pt x="13246" y="10914"/>
                </a:cubicBezTo>
                <a:cubicBezTo>
                  <a:pt x="13264" y="10866"/>
                  <a:pt x="13279" y="10813"/>
                  <a:pt x="13295" y="10765"/>
                </a:cubicBezTo>
                <a:cubicBezTo>
                  <a:pt x="13314" y="10706"/>
                  <a:pt x="13322" y="10655"/>
                  <a:pt x="13345" y="10592"/>
                </a:cubicBezTo>
                <a:cubicBezTo>
                  <a:pt x="13367" y="10532"/>
                  <a:pt x="13403" y="10478"/>
                  <a:pt x="13419" y="10418"/>
                </a:cubicBezTo>
                <a:cubicBezTo>
                  <a:pt x="13435" y="10358"/>
                  <a:pt x="13452" y="10308"/>
                  <a:pt x="13469" y="10244"/>
                </a:cubicBezTo>
                <a:cubicBezTo>
                  <a:pt x="13485" y="10184"/>
                  <a:pt x="13479" y="10129"/>
                  <a:pt x="13494" y="10071"/>
                </a:cubicBezTo>
                <a:cubicBezTo>
                  <a:pt x="13511" y="10005"/>
                  <a:pt x="13525" y="9939"/>
                  <a:pt x="13543" y="9872"/>
                </a:cubicBezTo>
                <a:cubicBezTo>
                  <a:pt x="13557" y="9819"/>
                  <a:pt x="13579" y="9772"/>
                  <a:pt x="13593" y="9723"/>
                </a:cubicBezTo>
                <a:cubicBezTo>
                  <a:pt x="13608" y="9671"/>
                  <a:pt x="13629" y="9623"/>
                  <a:pt x="13643" y="9575"/>
                </a:cubicBezTo>
                <a:cubicBezTo>
                  <a:pt x="13663" y="9507"/>
                  <a:pt x="13676" y="9444"/>
                  <a:pt x="13692" y="9376"/>
                </a:cubicBezTo>
                <a:cubicBezTo>
                  <a:pt x="13708" y="9309"/>
                  <a:pt x="13704" y="9247"/>
                  <a:pt x="13717" y="9178"/>
                </a:cubicBezTo>
                <a:cubicBezTo>
                  <a:pt x="13729" y="9116"/>
                  <a:pt x="13732" y="9070"/>
                  <a:pt x="13742" y="9004"/>
                </a:cubicBezTo>
                <a:cubicBezTo>
                  <a:pt x="13754" y="8925"/>
                  <a:pt x="13777" y="8861"/>
                  <a:pt x="13791" y="8781"/>
                </a:cubicBezTo>
                <a:cubicBezTo>
                  <a:pt x="13803" y="8713"/>
                  <a:pt x="13804" y="8649"/>
                  <a:pt x="13816" y="8582"/>
                </a:cubicBezTo>
                <a:cubicBezTo>
                  <a:pt x="13828" y="8514"/>
                  <a:pt x="13851" y="8443"/>
                  <a:pt x="13866" y="8384"/>
                </a:cubicBezTo>
                <a:cubicBezTo>
                  <a:pt x="13881" y="8326"/>
                  <a:pt x="13900" y="8263"/>
                  <a:pt x="13915" y="8210"/>
                </a:cubicBezTo>
                <a:cubicBezTo>
                  <a:pt x="13930" y="8158"/>
                  <a:pt x="13950" y="8111"/>
                  <a:pt x="13965" y="8062"/>
                </a:cubicBezTo>
                <a:cubicBezTo>
                  <a:pt x="13986" y="7994"/>
                  <a:pt x="14000" y="7932"/>
                  <a:pt x="14015" y="7863"/>
                </a:cubicBezTo>
                <a:cubicBezTo>
                  <a:pt x="14036" y="7771"/>
                  <a:pt x="14055" y="7685"/>
                  <a:pt x="14064" y="7590"/>
                </a:cubicBezTo>
                <a:cubicBezTo>
                  <a:pt x="14081" y="7407"/>
                  <a:pt x="14075" y="7228"/>
                  <a:pt x="14089" y="7045"/>
                </a:cubicBezTo>
                <a:cubicBezTo>
                  <a:pt x="14096" y="6951"/>
                  <a:pt x="14106" y="6888"/>
                  <a:pt x="14114" y="6796"/>
                </a:cubicBezTo>
                <a:cubicBezTo>
                  <a:pt x="14121" y="6714"/>
                  <a:pt x="14133" y="6647"/>
                  <a:pt x="14139" y="6573"/>
                </a:cubicBezTo>
                <a:cubicBezTo>
                  <a:pt x="14146" y="6480"/>
                  <a:pt x="14151" y="6412"/>
                  <a:pt x="14163" y="6325"/>
                </a:cubicBezTo>
                <a:cubicBezTo>
                  <a:pt x="14173" y="6252"/>
                  <a:pt x="14176" y="6218"/>
                  <a:pt x="14188" y="6152"/>
                </a:cubicBezTo>
                <a:cubicBezTo>
                  <a:pt x="14200" y="6085"/>
                  <a:pt x="14201" y="6021"/>
                  <a:pt x="14213" y="5953"/>
                </a:cubicBezTo>
                <a:cubicBezTo>
                  <a:pt x="14228" y="5864"/>
                  <a:pt x="14246" y="5770"/>
                  <a:pt x="14263" y="5680"/>
                </a:cubicBezTo>
                <a:cubicBezTo>
                  <a:pt x="14273" y="5628"/>
                  <a:pt x="14278" y="5609"/>
                  <a:pt x="14288" y="5556"/>
                </a:cubicBezTo>
                <a:cubicBezTo>
                  <a:pt x="14236" y="5556"/>
                  <a:pt x="14218" y="5555"/>
                  <a:pt x="14188" y="55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7"/>
          <p:cNvSpPr/>
          <p:nvPr/>
        </p:nvSpPr>
        <p:spPr>
          <a:xfrm>
            <a:off x="258840" y="2911320"/>
            <a:ext cx="1305000" cy="366840"/>
          </a:xfrm>
          <a:custGeom>
            <a:avLst/>
            <a:gdLst/>
            <a:ahLst/>
            <a:rect l="l" t="t" r="r" b="b"/>
            <a:pathLst>
              <a:path w="3623" h="1018">
                <a:moveTo>
                  <a:pt x="719" y="8434"/>
                </a:moveTo>
                <a:cubicBezTo>
                  <a:pt x="719" y="8519"/>
                  <a:pt x="688" y="8744"/>
                  <a:pt x="744" y="8781"/>
                </a:cubicBezTo>
              </a:path>
              <a:path w="3623" h="1018">
                <a:moveTo>
                  <a:pt x="769" y="8210"/>
                </a:moveTo>
                <a:cubicBezTo>
                  <a:pt x="777" y="8202"/>
                  <a:pt x="786" y="8194"/>
                  <a:pt x="794" y="8186"/>
                </a:cubicBezTo>
              </a:path>
              <a:path w="3623" h="1018">
                <a:moveTo>
                  <a:pt x="943" y="8682"/>
                </a:moveTo>
                <a:cubicBezTo>
                  <a:pt x="943" y="8731"/>
                  <a:pt x="943" y="8748"/>
                  <a:pt x="943" y="8781"/>
                </a:cubicBezTo>
                <a:cubicBezTo>
                  <a:pt x="950" y="8698"/>
                  <a:pt x="948" y="8589"/>
                  <a:pt x="967" y="8508"/>
                </a:cubicBezTo>
                <a:cubicBezTo>
                  <a:pt x="984" y="8435"/>
                  <a:pt x="1036" y="8378"/>
                  <a:pt x="1116" y="8409"/>
                </a:cubicBezTo>
                <a:cubicBezTo>
                  <a:pt x="1174" y="8432"/>
                  <a:pt x="1176" y="8490"/>
                  <a:pt x="1191" y="8533"/>
                </a:cubicBezTo>
                <a:cubicBezTo>
                  <a:pt x="1213" y="8597"/>
                  <a:pt x="1253" y="8637"/>
                  <a:pt x="1265" y="8706"/>
                </a:cubicBezTo>
                <a:cubicBezTo>
                  <a:pt x="1276" y="8770"/>
                  <a:pt x="1258" y="8784"/>
                  <a:pt x="1315" y="8756"/>
                </a:cubicBezTo>
              </a:path>
              <a:path w="3623" h="1018">
                <a:moveTo>
                  <a:pt x="1513" y="8384"/>
                </a:moveTo>
                <a:cubicBezTo>
                  <a:pt x="1590" y="8410"/>
                  <a:pt x="1520" y="8315"/>
                  <a:pt x="1463" y="8334"/>
                </a:cubicBezTo>
                <a:cubicBezTo>
                  <a:pt x="1393" y="8358"/>
                  <a:pt x="1414" y="8481"/>
                  <a:pt x="1414" y="8533"/>
                </a:cubicBezTo>
                <a:cubicBezTo>
                  <a:pt x="1414" y="8616"/>
                  <a:pt x="1422" y="8619"/>
                  <a:pt x="1463" y="8682"/>
                </a:cubicBezTo>
                <a:cubicBezTo>
                  <a:pt x="1517" y="8765"/>
                  <a:pt x="1555" y="8723"/>
                  <a:pt x="1637" y="8706"/>
                </a:cubicBezTo>
              </a:path>
              <a:path w="3623" h="1018">
                <a:moveTo>
                  <a:pt x="1712" y="8458"/>
                </a:moveTo>
                <a:cubicBezTo>
                  <a:pt x="1734" y="8528"/>
                  <a:pt x="1738" y="8593"/>
                  <a:pt x="1761" y="8657"/>
                </a:cubicBezTo>
                <a:cubicBezTo>
                  <a:pt x="1778" y="8706"/>
                  <a:pt x="1787" y="8741"/>
                  <a:pt x="1811" y="8781"/>
                </a:cubicBezTo>
                <a:cubicBezTo>
                  <a:pt x="1847" y="8710"/>
                  <a:pt x="1810" y="8633"/>
                  <a:pt x="1836" y="8558"/>
                </a:cubicBezTo>
                <a:cubicBezTo>
                  <a:pt x="1853" y="8509"/>
                  <a:pt x="1869" y="8474"/>
                  <a:pt x="1910" y="8434"/>
                </a:cubicBezTo>
                <a:cubicBezTo>
                  <a:pt x="1946" y="8398"/>
                  <a:pt x="1989" y="8382"/>
                  <a:pt x="2034" y="8359"/>
                </a:cubicBezTo>
              </a:path>
              <a:path w="3623" h="1018">
                <a:moveTo>
                  <a:pt x="2034" y="8558"/>
                </a:moveTo>
                <a:cubicBezTo>
                  <a:pt x="2103" y="8549"/>
                  <a:pt x="2154" y="8532"/>
                  <a:pt x="2208" y="8483"/>
                </a:cubicBezTo>
                <a:cubicBezTo>
                  <a:pt x="2234" y="8460"/>
                  <a:pt x="2257" y="8433"/>
                  <a:pt x="2282" y="8409"/>
                </a:cubicBezTo>
                <a:cubicBezTo>
                  <a:pt x="2228" y="8355"/>
                  <a:pt x="2218" y="8354"/>
                  <a:pt x="2158" y="8409"/>
                </a:cubicBezTo>
                <a:cubicBezTo>
                  <a:pt x="2087" y="8475"/>
                  <a:pt x="2084" y="8488"/>
                  <a:pt x="2084" y="8582"/>
                </a:cubicBezTo>
                <a:cubicBezTo>
                  <a:pt x="2084" y="8653"/>
                  <a:pt x="2113" y="8700"/>
                  <a:pt x="2183" y="8706"/>
                </a:cubicBezTo>
                <a:cubicBezTo>
                  <a:pt x="2241" y="8706"/>
                  <a:pt x="2249" y="8706"/>
                  <a:pt x="2282" y="8706"/>
                </a:cubicBezTo>
              </a:path>
              <a:path w="3623" h="1018">
                <a:moveTo>
                  <a:pt x="2580" y="8359"/>
                </a:moveTo>
                <a:cubicBezTo>
                  <a:pt x="2502" y="8328"/>
                  <a:pt x="2502" y="8372"/>
                  <a:pt x="2456" y="8434"/>
                </a:cubicBezTo>
                <a:cubicBezTo>
                  <a:pt x="2398" y="8511"/>
                  <a:pt x="2417" y="8536"/>
                  <a:pt x="2431" y="8607"/>
                </a:cubicBezTo>
                <a:cubicBezTo>
                  <a:pt x="2445" y="8679"/>
                  <a:pt x="2487" y="8711"/>
                  <a:pt x="2555" y="8657"/>
                </a:cubicBezTo>
                <a:cubicBezTo>
                  <a:pt x="2604" y="8617"/>
                  <a:pt x="2604" y="8420"/>
                  <a:pt x="2604" y="8483"/>
                </a:cubicBezTo>
                <a:cubicBezTo>
                  <a:pt x="2604" y="8547"/>
                  <a:pt x="2637" y="8633"/>
                  <a:pt x="2704" y="8657"/>
                </a:cubicBezTo>
                <a:cubicBezTo>
                  <a:pt x="2745" y="8657"/>
                  <a:pt x="2753" y="8657"/>
                  <a:pt x="2778" y="8657"/>
                </a:cubicBezTo>
              </a:path>
              <a:path w="3623" h="1018">
                <a:moveTo>
                  <a:pt x="2977" y="8310"/>
                </a:moveTo>
                <a:cubicBezTo>
                  <a:pt x="2914" y="8286"/>
                  <a:pt x="2863" y="8281"/>
                  <a:pt x="2803" y="8310"/>
                </a:cubicBezTo>
                <a:cubicBezTo>
                  <a:pt x="2795" y="8318"/>
                  <a:pt x="2786" y="8326"/>
                  <a:pt x="2778" y="8334"/>
                </a:cubicBezTo>
                <a:cubicBezTo>
                  <a:pt x="2807" y="8385"/>
                  <a:pt x="2835" y="8416"/>
                  <a:pt x="2877" y="8458"/>
                </a:cubicBezTo>
                <a:cubicBezTo>
                  <a:pt x="2929" y="8510"/>
                  <a:pt x="3014" y="8533"/>
                  <a:pt x="3076" y="8582"/>
                </a:cubicBezTo>
                <a:cubicBezTo>
                  <a:pt x="3084" y="8590"/>
                  <a:pt x="3093" y="8599"/>
                  <a:pt x="3101" y="8607"/>
                </a:cubicBezTo>
                <a:cubicBezTo>
                  <a:pt x="3044" y="8649"/>
                  <a:pt x="3033" y="8618"/>
                  <a:pt x="2977" y="8607"/>
                </a:cubicBezTo>
                <a:cubicBezTo>
                  <a:pt x="2913" y="8594"/>
                  <a:pt x="2872" y="8633"/>
                  <a:pt x="2853" y="8558"/>
                </a:cubicBezTo>
              </a:path>
              <a:path w="3623" h="1018">
                <a:moveTo>
                  <a:pt x="3200" y="8359"/>
                </a:moveTo>
                <a:cubicBezTo>
                  <a:pt x="3200" y="8449"/>
                  <a:pt x="3196" y="8481"/>
                  <a:pt x="3225" y="8558"/>
                </a:cubicBezTo>
              </a:path>
              <a:path w="3623" h="1018">
                <a:moveTo>
                  <a:pt x="3150" y="8136"/>
                </a:moveTo>
                <a:cubicBezTo>
                  <a:pt x="3175" y="8111"/>
                  <a:pt x="3183" y="8103"/>
                  <a:pt x="3200" y="8086"/>
                </a:cubicBezTo>
              </a:path>
              <a:path w="3623" h="1018">
                <a:moveTo>
                  <a:pt x="3349" y="8409"/>
                </a:moveTo>
                <a:cubicBezTo>
                  <a:pt x="3386" y="8503"/>
                  <a:pt x="3379" y="8521"/>
                  <a:pt x="3423" y="8558"/>
                </a:cubicBezTo>
                <a:cubicBezTo>
                  <a:pt x="3423" y="8478"/>
                  <a:pt x="3439" y="8408"/>
                  <a:pt x="3448" y="8334"/>
                </a:cubicBezTo>
                <a:cubicBezTo>
                  <a:pt x="3454" y="8287"/>
                  <a:pt x="3481" y="8165"/>
                  <a:pt x="3572" y="8235"/>
                </a:cubicBezTo>
                <a:cubicBezTo>
                  <a:pt x="3615" y="8268"/>
                  <a:pt x="3634" y="8341"/>
                  <a:pt x="3646" y="8384"/>
                </a:cubicBezTo>
                <a:cubicBezTo>
                  <a:pt x="3665" y="8454"/>
                  <a:pt x="3660" y="8578"/>
                  <a:pt x="3721" y="8632"/>
                </a:cubicBezTo>
                <a:cubicBezTo>
                  <a:pt x="3729" y="8632"/>
                  <a:pt x="3738" y="8632"/>
                  <a:pt x="3746" y="8632"/>
                </a:cubicBezTo>
              </a:path>
              <a:path w="3623" h="1018">
                <a:moveTo>
                  <a:pt x="3944" y="8359"/>
                </a:moveTo>
                <a:cubicBezTo>
                  <a:pt x="3923" y="8297"/>
                  <a:pt x="3873" y="8285"/>
                  <a:pt x="3820" y="8359"/>
                </a:cubicBezTo>
                <a:cubicBezTo>
                  <a:pt x="3778" y="8417"/>
                  <a:pt x="3764" y="8466"/>
                  <a:pt x="3795" y="8533"/>
                </a:cubicBezTo>
                <a:cubicBezTo>
                  <a:pt x="3803" y="8541"/>
                  <a:pt x="3812" y="8550"/>
                  <a:pt x="3820" y="8558"/>
                </a:cubicBezTo>
                <a:cubicBezTo>
                  <a:pt x="3881" y="8550"/>
                  <a:pt x="3932" y="8540"/>
                  <a:pt x="3969" y="8483"/>
                </a:cubicBezTo>
                <a:cubicBezTo>
                  <a:pt x="3993" y="8435"/>
                  <a:pt x="4002" y="8421"/>
                  <a:pt x="3994" y="8384"/>
                </a:cubicBezTo>
                <a:cubicBezTo>
                  <a:pt x="4035" y="8455"/>
                  <a:pt x="3999" y="8526"/>
                  <a:pt x="4018" y="8607"/>
                </a:cubicBezTo>
                <a:cubicBezTo>
                  <a:pt x="4037" y="8690"/>
                  <a:pt x="4077" y="8770"/>
                  <a:pt x="4093" y="8855"/>
                </a:cubicBezTo>
                <a:cubicBezTo>
                  <a:pt x="4108" y="8934"/>
                  <a:pt x="4096" y="9040"/>
                  <a:pt x="4068" y="9103"/>
                </a:cubicBezTo>
                <a:cubicBezTo>
                  <a:pt x="4021" y="9057"/>
                  <a:pt x="3999" y="9013"/>
                  <a:pt x="3969" y="8954"/>
                </a:cubicBezTo>
                <a:cubicBezTo>
                  <a:pt x="3945" y="8906"/>
                  <a:pt x="3936" y="8892"/>
                  <a:pt x="3944" y="8855"/>
                </a:cubicBezTo>
              </a:path>
              <a:path w="3623" h="1018">
                <a:moveTo>
                  <a:pt x="4242" y="8235"/>
                </a:moveTo>
                <a:cubicBezTo>
                  <a:pt x="4250" y="8243"/>
                  <a:pt x="4258" y="8252"/>
                  <a:pt x="4266" y="8260"/>
                </a:cubicBezTo>
              </a:path>
              <a:path w="3623" h="1018">
                <a:moveTo>
                  <a:pt x="4341" y="8458"/>
                </a:moveTo>
                <a:cubicBezTo>
                  <a:pt x="4341" y="8500"/>
                  <a:pt x="4349" y="8516"/>
                  <a:pt x="4316" y="85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8"/>
          <p:cNvSpPr/>
          <p:nvPr/>
        </p:nvSpPr>
        <p:spPr>
          <a:xfrm>
            <a:off x="490680" y="3348000"/>
            <a:ext cx="1063440" cy="250920"/>
          </a:xfrm>
          <a:custGeom>
            <a:avLst/>
            <a:gdLst/>
            <a:ahLst/>
            <a:rect l="l" t="t" r="r" b="b"/>
            <a:pathLst>
              <a:path w="2953" h="695">
                <a:moveTo>
                  <a:pt x="1439" y="9302"/>
                </a:moveTo>
                <a:cubicBezTo>
                  <a:pt x="1392" y="9409"/>
                  <a:pt x="1364" y="9483"/>
                  <a:pt x="1364" y="9599"/>
                </a:cubicBezTo>
                <a:cubicBezTo>
                  <a:pt x="1364" y="9679"/>
                  <a:pt x="1345" y="9777"/>
                  <a:pt x="1389" y="9847"/>
                </a:cubicBezTo>
                <a:cubicBezTo>
                  <a:pt x="1406" y="9874"/>
                  <a:pt x="1441" y="9899"/>
                  <a:pt x="1463" y="9922"/>
                </a:cubicBezTo>
              </a:path>
              <a:path w="2953" h="695">
                <a:moveTo>
                  <a:pt x="1563" y="9748"/>
                </a:moveTo>
                <a:cubicBezTo>
                  <a:pt x="1658" y="9731"/>
                  <a:pt x="1745" y="9710"/>
                  <a:pt x="1836" y="9699"/>
                </a:cubicBezTo>
              </a:path>
              <a:path w="2953" h="695">
                <a:moveTo>
                  <a:pt x="2604" y="9550"/>
                </a:moveTo>
                <a:cubicBezTo>
                  <a:pt x="2633" y="9599"/>
                  <a:pt x="2633" y="9654"/>
                  <a:pt x="2580" y="9699"/>
                </a:cubicBezTo>
                <a:cubicBezTo>
                  <a:pt x="2524" y="9746"/>
                  <a:pt x="2453" y="9770"/>
                  <a:pt x="2381" y="9773"/>
                </a:cubicBezTo>
                <a:cubicBezTo>
                  <a:pt x="2310" y="9776"/>
                  <a:pt x="2264" y="9778"/>
                  <a:pt x="2208" y="9748"/>
                </a:cubicBezTo>
                <a:cubicBezTo>
                  <a:pt x="2134" y="9708"/>
                  <a:pt x="2129" y="9723"/>
                  <a:pt x="2108" y="9649"/>
                </a:cubicBezTo>
                <a:cubicBezTo>
                  <a:pt x="2171" y="9611"/>
                  <a:pt x="2218" y="9629"/>
                  <a:pt x="2282" y="9674"/>
                </a:cubicBezTo>
                <a:cubicBezTo>
                  <a:pt x="2320" y="9701"/>
                  <a:pt x="2405" y="9737"/>
                  <a:pt x="2456" y="9748"/>
                </a:cubicBezTo>
                <a:cubicBezTo>
                  <a:pt x="2528" y="9764"/>
                  <a:pt x="2607" y="9787"/>
                  <a:pt x="2679" y="9798"/>
                </a:cubicBezTo>
                <a:cubicBezTo>
                  <a:pt x="2741" y="9808"/>
                  <a:pt x="2824" y="9806"/>
                  <a:pt x="2877" y="9773"/>
                </a:cubicBezTo>
                <a:cubicBezTo>
                  <a:pt x="2954" y="9725"/>
                  <a:pt x="2968" y="9705"/>
                  <a:pt x="2927" y="9624"/>
                </a:cubicBezTo>
                <a:cubicBezTo>
                  <a:pt x="2900" y="9570"/>
                  <a:pt x="2858" y="9525"/>
                  <a:pt x="2803" y="9500"/>
                </a:cubicBezTo>
                <a:cubicBezTo>
                  <a:pt x="2738" y="9471"/>
                  <a:pt x="2636" y="9452"/>
                  <a:pt x="2604" y="9500"/>
                </a:cubicBezTo>
              </a:path>
              <a:path w="2953" h="695">
                <a:moveTo>
                  <a:pt x="3225" y="9872"/>
                </a:moveTo>
                <a:cubicBezTo>
                  <a:pt x="3204" y="9888"/>
                  <a:pt x="3044" y="10039"/>
                  <a:pt x="3076" y="9947"/>
                </a:cubicBezTo>
              </a:path>
              <a:path w="2953" h="695">
                <a:moveTo>
                  <a:pt x="3770" y="9550"/>
                </a:moveTo>
                <a:cubicBezTo>
                  <a:pt x="3765" y="9592"/>
                  <a:pt x="3752" y="9709"/>
                  <a:pt x="3696" y="9723"/>
                </a:cubicBezTo>
                <a:cubicBezTo>
                  <a:pt x="3621" y="9742"/>
                  <a:pt x="3513" y="9711"/>
                  <a:pt x="3448" y="9674"/>
                </a:cubicBezTo>
                <a:cubicBezTo>
                  <a:pt x="3403" y="9649"/>
                  <a:pt x="3372" y="9591"/>
                  <a:pt x="3349" y="9550"/>
                </a:cubicBezTo>
                <a:cubicBezTo>
                  <a:pt x="3429" y="9501"/>
                  <a:pt x="3440" y="9557"/>
                  <a:pt x="3522" y="9575"/>
                </a:cubicBezTo>
                <a:cubicBezTo>
                  <a:pt x="3593" y="9591"/>
                  <a:pt x="3653" y="9654"/>
                  <a:pt x="3721" y="9674"/>
                </a:cubicBezTo>
                <a:cubicBezTo>
                  <a:pt x="3782" y="9692"/>
                  <a:pt x="3856" y="9734"/>
                  <a:pt x="3919" y="9748"/>
                </a:cubicBezTo>
                <a:cubicBezTo>
                  <a:pt x="3982" y="9762"/>
                  <a:pt x="4096" y="9759"/>
                  <a:pt x="4142" y="9723"/>
                </a:cubicBezTo>
                <a:cubicBezTo>
                  <a:pt x="4221" y="9661"/>
                  <a:pt x="4167" y="9599"/>
                  <a:pt x="4118" y="9525"/>
                </a:cubicBezTo>
                <a:cubicBezTo>
                  <a:pt x="4091" y="9484"/>
                  <a:pt x="4034" y="9450"/>
                  <a:pt x="3994" y="9426"/>
                </a:cubicBezTo>
                <a:cubicBezTo>
                  <a:pt x="3944" y="9396"/>
                  <a:pt x="3894" y="9366"/>
                  <a:pt x="3845" y="9351"/>
                </a:cubicBezTo>
                <a:cubicBezTo>
                  <a:pt x="3837" y="9351"/>
                  <a:pt x="3828" y="9351"/>
                  <a:pt x="3820" y="9351"/>
                </a:cubicBezTo>
              </a:path>
              <a:path w="2953" h="695">
                <a:moveTo>
                  <a:pt x="4167" y="9426"/>
                </a:moveTo>
                <a:cubicBezTo>
                  <a:pt x="4240" y="9544"/>
                  <a:pt x="4347" y="9650"/>
                  <a:pt x="4316" y="9798"/>
                </a:cubicBezTo>
                <a:cubicBezTo>
                  <a:pt x="4297" y="9887"/>
                  <a:pt x="4242" y="9929"/>
                  <a:pt x="4167" y="9971"/>
                </a:cubicBezTo>
                <a:cubicBezTo>
                  <a:pt x="4151" y="9979"/>
                  <a:pt x="4134" y="9988"/>
                  <a:pt x="4118" y="99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open intervals on which each function is increasing, decreasing, or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y=x3-3x-2"/>
          <p:cNvPicPr/>
          <p:nvPr/>
        </p:nvPicPr>
        <p:blipFill>
          <a:blip r:embed="rId1"/>
          <a:stretch/>
        </p:blipFill>
        <p:spPr>
          <a:xfrm>
            <a:off x="685800" y="1517760"/>
            <a:ext cx="7086600" cy="4616280"/>
          </a:xfrm>
          <a:prstGeom prst="rect">
            <a:avLst/>
          </a:prstGeom>
          <a:ln w="0">
            <a:noFill/>
          </a:ln>
        </p:spPr>
      </p:pic>
      <p:sp>
        <p:nvSpPr>
          <p:cNvPr id="63" name="Ink 6"/>
          <p:cNvSpPr/>
          <p:nvPr/>
        </p:nvSpPr>
        <p:spPr>
          <a:xfrm>
            <a:off x="196920" y="1820880"/>
            <a:ext cx="482400" cy="787320"/>
          </a:xfrm>
          <a:custGeom>
            <a:avLst/>
            <a:gdLst/>
            <a:ahLst/>
            <a:rect l="l" t="t" r="r" b="b"/>
            <a:pathLst>
              <a:path w="1340" h="2184">
                <a:moveTo>
                  <a:pt x="868" y="5259"/>
                </a:moveTo>
                <a:cubicBezTo>
                  <a:pt x="850" y="5303"/>
                  <a:pt x="847" y="5367"/>
                  <a:pt x="843" y="5432"/>
                </a:cubicBezTo>
                <a:cubicBezTo>
                  <a:pt x="837" y="5544"/>
                  <a:pt x="835" y="5648"/>
                  <a:pt x="819" y="5755"/>
                </a:cubicBezTo>
                <a:cubicBezTo>
                  <a:pt x="819" y="5804"/>
                  <a:pt x="819" y="5820"/>
                  <a:pt x="819" y="5755"/>
                </a:cubicBezTo>
              </a:path>
              <a:path w="1340" h="2184">
                <a:moveTo>
                  <a:pt x="843" y="5110"/>
                </a:moveTo>
                <a:cubicBezTo>
                  <a:pt x="843" y="5093"/>
                  <a:pt x="843" y="5077"/>
                  <a:pt x="843" y="5060"/>
                </a:cubicBezTo>
              </a:path>
              <a:path w="1340" h="2184">
                <a:moveTo>
                  <a:pt x="943" y="5606"/>
                </a:moveTo>
                <a:cubicBezTo>
                  <a:pt x="935" y="5639"/>
                  <a:pt x="926" y="5672"/>
                  <a:pt x="918" y="5705"/>
                </a:cubicBezTo>
                <a:cubicBezTo>
                  <a:pt x="925" y="5651"/>
                  <a:pt x="924" y="5558"/>
                  <a:pt x="943" y="5507"/>
                </a:cubicBezTo>
                <a:cubicBezTo>
                  <a:pt x="959" y="5464"/>
                  <a:pt x="1005" y="5402"/>
                  <a:pt x="1017" y="5358"/>
                </a:cubicBezTo>
                <a:cubicBezTo>
                  <a:pt x="1028" y="5315"/>
                  <a:pt x="1030" y="5227"/>
                  <a:pt x="1091" y="5209"/>
                </a:cubicBezTo>
                <a:cubicBezTo>
                  <a:pt x="1172" y="5186"/>
                  <a:pt x="1225" y="5272"/>
                  <a:pt x="1240" y="5333"/>
                </a:cubicBezTo>
                <a:cubicBezTo>
                  <a:pt x="1259" y="5411"/>
                  <a:pt x="1279" y="5499"/>
                  <a:pt x="1290" y="5581"/>
                </a:cubicBezTo>
                <a:cubicBezTo>
                  <a:pt x="1296" y="5623"/>
                  <a:pt x="1290" y="5805"/>
                  <a:pt x="1265" y="5680"/>
                </a:cubicBezTo>
              </a:path>
              <a:path w="1340" h="2184">
                <a:moveTo>
                  <a:pt x="1488" y="5308"/>
                </a:moveTo>
                <a:cubicBezTo>
                  <a:pt x="1505" y="5308"/>
                  <a:pt x="1521" y="5308"/>
                  <a:pt x="1538" y="5308"/>
                </a:cubicBezTo>
                <a:cubicBezTo>
                  <a:pt x="1490" y="5284"/>
                  <a:pt x="1492" y="5219"/>
                  <a:pt x="1439" y="5259"/>
                </a:cubicBezTo>
                <a:cubicBezTo>
                  <a:pt x="1395" y="5293"/>
                  <a:pt x="1371" y="5381"/>
                  <a:pt x="1364" y="5432"/>
                </a:cubicBezTo>
                <a:cubicBezTo>
                  <a:pt x="1354" y="5511"/>
                  <a:pt x="1355" y="5616"/>
                  <a:pt x="1389" y="5680"/>
                </a:cubicBezTo>
                <a:cubicBezTo>
                  <a:pt x="1435" y="5767"/>
                  <a:pt x="1463" y="5788"/>
                  <a:pt x="1563" y="5755"/>
                </a:cubicBezTo>
                <a:cubicBezTo>
                  <a:pt x="1579" y="5747"/>
                  <a:pt x="1596" y="5738"/>
                  <a:pt x="1612" y="5730"/>
                </a:cubicBezTo>
              </a:path>
              <a:path w="1340" h="2184">
                <a:moveTo>
                  <a:pt x="1811" y="5135"/>
                </a:moveTo>
                <a:cubicBezTo>
                  <a:pt x="1836" y="5259"/>
                  <a:pt x="1767" y="5075"/>
                  <a:pt x="1811" y="5184"/>
                </a:cubicBezTo>
                <a:cubicBezTo>
                  <a:pt x="1819" y="5192"/>
                  <a:pt x="1828" y="5201"/>
                  <a:pt x="1836" y="5209"/>
                </a:cubicBezTo>
              </a:path>
              <a:path w="1340" h="2184">
                <a:moveTo>
                  <a:pt x="1860" y="5531"/>
                </a:moveTo>
                <a:cubicBezTo>
                  <a:pt x="1836" y="5556"/>
                  <a:pt x="1828" y="5564"/>
                  <a:pt x="1860" y="5581"/>
                </a:cubicBezTo>
                <a:cubicBezTo>
                  <a:pt x="1888" y="5511"/>
                  <a:pt x="1874" y="5516"/>
                  <a:pt x="1811" y="5531"/>
                </a:cubicBezTo>
              </a:path>
              <a:path w="1340" h="2184">
                <a:moveTo>
                  <a:pt x="943" y="6548"/>
                </a:moveTo>
                <a:cubicBezTo>
                  <a:pt x="943" y="6722"/>
                  <a:pt x="943" y="6895"/>
                  <a:pt x="943" y="7069"/>
                </a:cubicBezTo>
                <a:cubicBezTo>
                  <a:pt x="912" y="7000"/>
                  <a:pt x="894" y="6928"/>
                  <a:pt x="843" y="6871"/>
                </a:cubicBezTo>
                <a:cubicBezTo>
                  <a:pt x="799" y="6822"/>
                  <a:pt x="745" y="6847"/>
                  <a:pt x="695" y="6871"/>
                </a:cubicBezTo>
                <a:cubicBezTo>
                  <a:pt x="661" y="6887"/>
                  <a:pt x="582" y="6954"/>
                  <a:pt x="571" y="6995"/>
                </a:cubicBezTo>
                <a:cubicBezTo>
                  <a:pt x="550" y="7072"/>
                  <a:pt x="546" y="7122"/>
                  <a:pt x="595" y="7193"/>
                </a:cubicBezTo>
                <a:cubicBezTo>
                  <a:pt x="637" y="7254"/>
                  <a:pt x="706" y="7243"/>
                  <a:pt x="769" y="7243"/>
                </a:cubicBezTo>
                <a:cubicBezTo>
                  <a:pt x="777" y="7243"/>
                  <a:pt x="786" y="7243"/>
                  <a:pt x="794" y="7243"/>
                </a:cubicBezTo>
              </a:path>
              <a:path w="1340" h="2184">
                <a:moveTo>
                  <a:pt x="1042" y="7020"/>
                </a:moveTo>
                <a:cubicBezTo>
                  <a:pt x="1119" y="6981"/>
                  <a:pt x="1193" y="6939"/>
                  <a:pt x="1265" y="6896"/>
                </a:cubicBezTo>
                <a:cubicBezTo>
                  <a:pt x="1334" y="6855"/>
                  <a:pt x="1353" y="6850"/>
                  <a:pt x="1364" y="6772"/>
                </a:cubicBezTo>
                <a:cubicBezTo>
                  <a:pt x="1303" y="6735"/>
                  <a:pt x="1271" y="6745"/>
                  <a:pt x="1215" y="6796"/>
                </a:cubicBezTo>
                <a:cubicBezTo>
                  <a:pt x="1183" y="6825"/>
                  <a:pt x="1126" y="6883"/>
                  <a:pt x="1116" y="6921"/>
                </a:cubicBezTo>
                <a:cubicBezTo>
                  <a:pt x="1096" y="6995"/>
                  <a:pt x="1093" y="7045"/>
                  <a:pt x="1141" y="7119"/>
                </a:cubicBezTo>
                <a:cubicBezTo>
                  <a:pt x="1179" y="7178"/>
                  <a:pt x="1268" y="7137"/>
                  <a:pt x="1315" y="7119"/>
                </a:cubicBezTo>
              </a:path>
              <a:path w="1340" h="2184">
                <a:moveTo>
                  <a:pt x="1538" y="6821"/>
                </a:moveTo>
                <a:cubicBezTo>
                  <a:pt x="1562" y="6774"/>
                  <a:pt x="1556" y="6789"/>
                  <a:pt x="1513" y="6747"/>
                </a:cubicBezTo>
                <a:cubicBezTo>
                  <a:pt x="1477" y="6792"/>
                  <a:pt x="1436" y="6842"/>
                  <a:pt x="1414" y="6896"/>
                </a:cubicBezTo>
                <a:cubicBezTo>
                  <a:pt x="1393" y="6947"/>
                  <a:pt x="1367" y="7062"/>
                  <a:pt x="1389" y="7119"/>
                </a:cubicBezTo>
                <a:cubicBezTo>
                  <a:pt x="1412" y="7178"/>
                  <a:pt x="1532" y="7142"/>
                  <a:pt x="1563" y="7119"/>
                </a:cubicBezTo>
                <a:cubicBezTo>
                  <a:pt x="1571" y="7111"/>
                  <a:pt x="1580" y="7102"/>
                  <a:pt x="1588" y="7094"/>
                </a:cubicBezTo>
              </a:path>
              <a:path w="1340" h="2184">
                <a:moveTo>
                  <a:pt x="1761" y="6747"/>
                </a:moveTo>
                <a:cubicBezTo>
                  <a:pt x="1753" y="6755"/>
                  <a:pt x="1744" y="6764"/>
                  <a:pt x="1736" y="6772"/>
                </a:cubicBezTo>
                <a:cubicBezTo>
                  <a:pt x="1777" y="6691"/>
                  <a:pt x="1725" y="6748"/>
                  <a:pt x="1687" y="6772"/>
                </a:cubicBezTo>
                <a:cubicBezTo>
                  <a:pt x="1670" y="6780"/>
                  <a:pt x="1654" y="6788"/>
                  <a:pt x="1637" y="67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7"/>
          <p:cNvSpPr/>
          <p:nvPr/>
        </p:nvSpPr>
        <p:spPr>
          <a:xfrm>
            <a:off x="2320920" y="3456000"/>
            <a:ext cx="563400" cy="812880"/>
          </a:xfrm>
          <a:custGeom>
            <a:avLst/>
            <a:gdLst/>
            <a:ahLst/>
            <a:rect l="l" t="t" r="r" b="b"/>
            <a:pathLst>
              <a:path w="1564" h="2259">
                <a:moveTo>
                  <a:pt x="6449" y="9599"/>
                </a:moveTo>
                <a:cubicBezTo>
                  <a:pt x="6511" y="9661"/>
                  <a:pt x="6535" y="9694"/>
                  <a:pt x="6573" y="9773"/>
                </a:cubicBezTo>
                <a:cubicBezTo>
                  <a:pt x="6612" y="9855"/>
                  <a:pt x="6665" y="9913"/>
                  <a:pt x="6697" y="9996"/>
                </a:cubicBezTo>
                <a:cubicBezTo>
                  <a:pt x="6741" y="10109"/>
                  <a:pt x="6794" y="10236"/>
                  <a:pt x="6846" y="10344"/>
                </a:cubicBezTo>
                <a:cubicBezTo>
                  <a:pt x="6923" y="10503"/>
                  <a:pt x="7021" y="10668"/>
                  <a:pt x="7119" y="10815"/>
                </a:cubicBezTo>
                <a:cubicBezTo>
                  <a:pt x="7227" y="10978"/>
                  <a:pt x="7319" y="11143"/>
                  <a:pt x="7417" y="11311"/>
                </a:cubicBezTo>
                <a:cubicBezTo>
                  <a:pt x="7471" y="11405"/>
                  <a:pt x="7539" y="11488"/>
                  <a:pt x="7590" y="11584"/>
                </a:cubicBezTo>
                <a:cubicBezTo>
                  <a:pt x="7599" y="11601"/>
                  <a:pt x="7681" y="11766"/>
                  <a:pt x="7615" y="11633"/>
                </a:cubicBezTo>
              </a:path>
              <a:path w="1564" h="2259">
                <a:moveTo>
                  <a:pt x="7045" y="11063"/>
                </a:moveTo>
                <a:cubicBezTo>
                  <a:pt x="7067" y="11163"/>
                  <a:pt x="7114" y="11183"/>
                  <a:pt x="7169" y="11261"/>
                </a:cubicBezTo>
                <a:cubicBezTo>
                  <a:pt x="7222" y="11337"/>
                  <a:pt x="7281" y="11414"/>
                  <a:pt x="7342" y="11485"/>
                </a:cubicBezTo>
                <a:cubicBezTo>
                  <a:pt x="7409" y="11562"/>
                  <a:pt x="7463" y="11616"/>
                  <a:pt x="7541" y="11683"/>
                </a:cubicBezTo>
                <a:cubicBezTo>
                  <a:pt x="7600" y="11734"/>
                  <a:pt x="7648" y="11792"/>
                  <a:pt x="7714" y="11832"/>
                </a:cubicBezTo>
                <a:cubicBezTo>
                  <a:pt x="7758" y="11858"/>
                  <a:pt x="7843" y="11878"/>
                  <a:pt x="7863" y="11807"/>
                </a:cubicBezTo>
                <a:cubicBezTo>
                  <a:pt x="7879" y="11750"/>
                  <a:pt x="7864" y="11677"/>
                  <a:pt x="7838" y="11633"/>
                </a:cubicBezTo>
              </a:path>
              <a:path w="1564" h="2259">
                <a:moveTo>
                  <a:pt x="7938" y="11832"/>
                </a:moveTo>
                <a:cubicBezTo>
                  <a:pt x="7966" y="11803"/>
                  <a:pt x="7979" y="11795"/>
                  <a:pt x="8012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8"/>
          <p:cNvSpPr/>
          <p:nvPr/>
        </p:nvSpPr>
        <p:spPr>
          <a:xfrm>
            <a:off x="750960" y="1535040"/>
            <a:ext cx="2330280" cy="492120"/>
          </a:xfrm>
          <a:custGeom>
            <a:avLst/>
            <a:gdLst/>
            <a:ahLst/>
            <a:rect l="l" t="t" r="r" b="b"/>
            <a:pathLst>
              <a:path w="6475" h="1366">
                <a:moveTo>
                  <a:pt x="2208" y="4589"/>
                </a:moveTo>
                <a:cubicBezTo>
                  <a:pt x="2200" y="4643"/>
                  <a:pt x="2198" y="4707"/>
                  <a:pt x="2183" y="4762"/>
                </a:cubicBezTo>
                <a:cubicBezTo>
                  <a:pt x="2165" y="4826"/>
                  <a:pt x="2154" y="4899"/>
                  <a:pt x="2133" y="4961"/>
                </a:cubicBezTo>
                <a:cubicBezTo>
                  <a:pt x="2108" y="5037"/>
                  <a:pt x="2128" y="5110"/>
                  <a:pt x="2108" y="5184"/>
                </a:cubicBezTo>
                <a:cubicBezTo>
                  <a:pt x="2085" y="5269"/>
                  <a:pt x="2103" y="5297"/>
                  <a:pt x="2108" y="5383"/>
                </a:cubicBezTo>
                <a:cubicBezTo>
                  <a:pt x="2111" y="5444"/>
                  <a:pt x="2140" y="5484"/>
                  <a:pt x="2183" y="5531"/>
                </a:cubicBezTo>
                <a:cubicBezTo>
                  <a:pt x="2219" y="5571"/>
                  <a:pt x="2257" y="5556"/>
                  <a:pt x="2307" y="5556"/>
                </a:cubicBezTo>
              </a:path>
              <a:path w="6475" h="1366">
                <a:moveTo>
                  <a:pt x="2456" y="5209"/>
                </a:moveTo>
                <a:cubicBezTo>
                  <a:pt x="2621" y="5209"/>
                  <a:pt x="2787" y="5209"/>
                  <a:pt x="2952" y="5209"/>
                </a:cubicBezTo>
              </a:path>
              <a:path w="6475" h="1366">
                <a:moveTo>
                  <a:pt x="3547" y="5259"/>
                </a:moveTo>
                <a:cubicBezTo>
                  <a:pt x="3538" y="5378"/>
                  <a:pt x="3527" y="5405"/>
                  <a:pt x="3398" y="5432"/>
                </a:cubicBezTo>
                <a:cubicBezTo>
                  <a:pt x="3330" y="5446"/>
                  <a:pt x="3255" y="5427"/>
                  <a:pt x="3200" y="5407"/>
                </a:cubicBezTo>
                <a:cubicBezTo>
                  <a:pt x="3140" y="5385"/>
                  <a:pt x="3029" y="5373"/>
                  <a:pt x="3051" y="5283"/>
                </a:cubicBezTo>
                <a:cubicBezTo>
                  <a:pt x="3077" y="5172"/>
                  <a:pt x="3178" y="5230"/>
                  <a:pt x="3249" y="5234"/>
                </a:cubicBezTo>
                <a:cubicBezTo>
                  <a:pt x="3325" y="5238"/>
                  <a:pt x="3402" y="5277"/>
                  <a:pt x="3473" y="5308"/>
                </a:cubicBezTo>
                <a:cubicBezTo>
                  <a:pt x="3536" y="5335"/>
                  <a:pt x="3603" y="5354"/>
                  <a:pt x="3671" y="5358"/>
                </a:cubicBezTo>
                <a:cubicBezTo>
                  <a:pt x="3753" y="5363"/>
                  <a:pt x="3826" y="5347"/>
                  <a:pt x="3894" y="5333"/>
                </a:cubicBezTo>
                <a:cubicBezTo>
                  <a:pt x="3932" y="5325"/>
                  <a:pt x="4003" y="5313"/>
                  <a:pt x="4018" y="5259"/>
                </a:cubicBezTo>
                <a:cubicBezTo>
                  <a:pt x="4038" y="5187"/>
                  <a:pt x="3990" y="5131"/>
                  <a:pt x="3944" y="5085"/>
                </a:cubicBezTo>
                <a:cubicBezTo>
                  <a:pt x="3918" y="5059"/>
                  <a:pt x="3811" y="5018"/>
                  <a:pt x="3770" y="5011"/>
                </a:cubicBezTo>
                <a:cubicBezTo>
                  <a:pt x="3706" y="5000"/>
                  <a:pt x="3603" y="5001"/>
                  <a:pt x="3547" y="5035"/>
                </a:cubicBezTo>
                <a:cubicBezTo>
                  <a:pt x="3539" y="5043"/>
                  <a:pt x="3530" y="5052"/>
                  <a:pt x="3522" y="5060"/>
                </a:cubicBezTo>
              </a:path>
              <a:path w="6475" h="1366">
                <a:moveTo>
                  <a:pt x="4167" y="5358"/>
                </a:moveTo>
                <a:cubicBezTo>
                  <a:pt x="4140" y="5456"/>
                  <a:pt x="4139" y="5505"/>
                  <a:pt x="4068" y="5581"/>
                </a:cubicBezTo>
                <a:cubicBezTo>
                  <a:pt x="4038" y="5611"/>
                  <a:pt x="4024" y="5622"/>
                  <a:pt x="3994" y="5631"/>
                </a:cubicBezTo>
              </a:path>
              <a:path w="6475" h="1366">
                <a:moveTo>
                  <a:pt x="4440" y="4961"/>
                </a:moveTo>
                <a:cubicBezTo>
                  <a:pt x="4514" y="4961"/>
                  <a:pt x="4589" y="4961"/>
                  <a:pt x="4663" y="4961"/>
                </a:cubicBezTo>
              </a:path>
              <a:path w="6475" h="1366">
                <a:moveTo>
                  <a:pt x="4787" y="4539"/>
                </a:moveTo>
                <a:cubicBezTo>
                  <a:pt x="4787" y="4621"/>
                  <a:pt x="4783" y="4710"/>
                  <a:pt x="4762" y="4787"/>
                </a:cubicBezTo>
                <a:cubicBezTo>
                  <a:pt x="4745" y="4847"/>
                  <a:pt x="4720" y="4919"/>
                  <a:pt x="4738" y="4986"/>
                </a:cubicBezTo>
                <a:cubicBezTo>
                  <a:pt x="4752" y="5038"/>
                  <a:pt x="4765" y="5115"/>
                  <a:pt x="4787" y="5159"/>
                </a:cubicBezTo>
                <a:cubicBezTo>
                  <a:pt x="4795" y="5167"/>
                  <a:pt x="4804" y="5176"/>
                  <a:pt x="4812" y="5184"/>
                </a:cubicBezTo>
              </a:path>
              <a:path w="6475" h="1366">
                <a:moveTo>
                  <a:pt x="5085" y="4490"/>
                </a:moveTo>
                <a:cubicBezTo>
                  <a:pt x="5150" y="4680"/>
                  <a:pt x="5236" y="4836"/>
                  <a:pt x="5159" y="5035"/>
                </a:cubicBezTo>
                <a:cubicBezTo>
                  <a:pt x="5120" y="5134"/>
                  <a:pt x="5092" y="5212"/>
                  <a:pt x="5060" y="5308"/>
                </a:cubicBezTo>
              </a:path>
              <a:path w="6475" h="1366">
                <a:moveTo>
                  <a:pt x="5482" y="4564"/>
                </a:moveTo>
                <a:cubicBezTo>
                  <a:pt x="5490" y="4556"/>
                  <a:pt x="5499" y="4547"/>
                  <a:pt x="5507" y="4539"/>
                </a:cubicBezTo>
                <a:cubicBezTo>
                  <a:pt x="5539" y="4594"/>
                  <a:pt x="5531" y="4646"/>
                  <a:pt x="5531" y="4713"/>
                </a:cubicBezTo>
                <a:cubicBezTo>
                  <a:pt x="5531" y="4835"/>
                  <a:pt x="5537" y="4946"/>
                  <a:pt x="5556" y="5060"/>
                </a:cubicBezTo>
                <a:cubicBezTo>
                  <a:pt x="5565" y="5116"/>
                  <a:pt x="5578" y="5149"/>
                  <a:pt x="5631" y="5184"/>
                </a:cubicBezTo>
                <a:cubicBezTo>
                  <a:pt x="5718" y="5240"/>
                  <a:pt x="5741" y="5224"/>
                  <a:pt x="5829" y="5209"/>
                </a:cubicBezTo>
                <a:cubicBezTo>
                  <a:pt x="5889" y="5199"/>
                  <a:pt x="5926" y="5174"/>
                  <a:pt x="5978" y="5135"/>
                </a:cubicBezTo>
                <a:cubicBezTo>
                  <a:pt x="6025" y="5100"/>
                  <a:pt x="6043" y="5031"/>
                  <a:pt x="6077" y="4986"/>
                </a:cubicBezTo>
                <a:cubicBezTo>
                  <a:pt x="6100" y="4956"/>
                  <a:pt x="6142" y="4879"/>
                  <a:pt x="6152" y="4837"/>
                </a:cubicBezTo>
                <a:cubicBezTo>
                  <a:pt x="6166" y="4780"/>
                  <a:pt x="6176" y="4724"/>
                  <a:pt x="6176" y="4663"/>
                </a:cubicBezTo>
                <a:cubicBezTo>
                  <a:pt x="6176" y="4636"/>
                  <a:pt x="6155" y="4491"/>
                  <a:pt x="6201" y="4490"/>
                </a:cubicBezTo>
                <a:cubicBezTo>
                  <a:pt x="6201" y="4498"/>
                  <a:pt x="6201" y="4506"/>
                  <a:pt x="6201" y="4514"/>
                </a:cubicBezTo>
              </a:path>
              <a:path w="6475" h="1366">
                <a:moveTo>
                  <a:pt x="6598" y="4291"/>
                </a:moveTo>
                <a:cubicBezTo>
                  <a:pt x="6551" y="4385"/>
                  <a:pt x="6520" y="4463"/>
                  <a:pt x="6499" y="4564"/>
                </a:cubicBezTo>
                <a:cubicBezTo>
                  <a:pt x="6479" y="4662"/>
                  <a:pt x="6474" y="4738"/>
                  <a:pt x="6474" y="4837"/>
                </a:cubicBezTo>
                <a:cubicBezTo>
                  <a:pt x="6474" y="4918"/>
                  <a:pt x="6506" y="4945"/>
                  <a:pt x="6524" y="5011"/>
                </a:cubicBezTo>
                <a:cubicBezTo>
                  <a:pt x="6545" y="5089"/>
                  <a:pt x="6559" y="5079"/>
                  <a:pt x="6623" y="5135"/>
                </a:cubicBezTo>
                <a:cubicBezTo>
                  <a:pt x="6659" y="5167"/>
                  <a:pt x="6724" y="5223"/>
                  <a:pt x="6772" y="5234"/>
                </a:cubicBezTo>
                <a:cubicBezTo>
                  <a:pt x="6788" y="5234"/>
                  <a:pt x="6805" y="5234"/>
                  <a:pt x="6821" y="5234"/>
                </a:cubicBezTo>
              </a:path>
              <a:path w="6475" h="1366">
                <a:moveTo>
                  <a:pt x="7069" y="4415"/>
                </a:moveTo>
                <a:cubicBezTo>
                  <a:pt x="7060" y="4497"/>
                  <a:pt x="7050" y="4585"/>
                  <a:pt x="7020" y="4663"/>
                </a:cubicBezTo>
                <a:cubicBezTo>
                  <a:pt x="6996" y="4727"/>
                  <a:pt x="6941" y="4814"/>
                  <a:pt x="6970" y="4887"/>
                </a:cubicBezTo>
                <a:cubicBezTo>
                  <a:pt x="6986" y="4928"/>
                  <a:pt x="7009" y="4967"/>
                  <a:pt x="7020" y="5011"/>
                </a:cubicBezTo>
              </a:path>
              <a:path w="6475" h="1366">
                <a:moveTo>
                  <a:pt x="7317" y="5035"/>
                </a:moveTo>
                <a:cubicBezTo>
                  <a:pt x="7311" y="5116"/>
                  <a:pt x="7293" y="5180"/>
                  <a:pt x="7293" y="5259"/>
                </a:cubicBezTo>
              </a:path>
              <a:path w="6475" h="1366">
                <a:moveTo>
                  <a:pt x="7987" y="4614"/>
                </a:moveTo>
                <a:cubicBezTo>
                  <a:pt x="7930" y="4670"/>
                  <a:pt x="7873" y="4711"/>
                  <a:pt x="7813" y="4762"/>
                </a:cubicBezTo>
                <a:cubicBezTo>
                  <a:pt x="7741" y="4824"/>
                  <a:pt x="7673" y="4890"/>
                  <a:pt x="7590" y="4936"/>
                </a:cubicBezTo>
                <a:cubicBezTo>
                  <a:pt x="7557" y="4954"/>
                  <a:pt x="7469" y="5033"/>
                  <a:pt x="7441" y="4961"/>
                </a:cubicBezTo>
                <a:cubicBezTo>
                  <a:pt x="7412" y="4885"/>
                  <a:pt x="7502" y="4883"/>
                  <a:pt x="7541" y="4862"/>
                </a:cubicBezTo>
                <a:cubicBezTo>
                  <a:pt x="7557" y="4854"/>
                  <a:pt x="7574" y="4845"/>
                  <a:pt x="7590" y="4837"/>
                </a:cubicBezTo>
              </a:path>
              <a:path w="6475" h="1366">
                <a:moveTo>
                  <a:pt x="7739" y="4837"/>
                </a:moveTo>
                <a:cubicBezTo>
                  <a:pt x="7820" y="4844"/>
                  <a:pt x="7909" y="4863"/>
                  <a:pt x="7987" y="4887"/>
                </a:cubicBezTo>
                <a:cubicBezTo>
                  <a:pt x="8050" y="4906"/>
                  <a:pt x="8172" y="4943"/>
                  <a:pt x="8235" y="4936"/>
                </a:cubicBezTo>
                <a:cubicBezTo>
                  <a:pt x="8283" y="4930"/>
                  <a:pt x="8368" y="4863"/>
                  <a:pt x="8359" y="4812"/>
                </a:cubicBezTo>
                <a:cubicBezTo>
                  <a:pt x="8345" y="4732"/>
                  <a:pt x="8291" y="4705"/>
                  <a:pt x="8235" y="4663"/>
                </a:cubicBezTo>
                <a:cubicBezTo>
                  <a:pt x="8177" y="4620"/>
                  <a:pt x="8111" y="4578"/>
                  <a:pt x="8037" y="4564"/>
                </a:cubicBezTo>
                <a:cubicBezTo>
                  <a:pt x="8020" y="4564"/>
                  <a:pt x="8004" y="4564"/>
                  <a:pt x="7987" y="4564"/>
                </a:cubicBezTo>
              </a:path>
              <a:path w="6475" h="1366">
                <a:moveTo>
                  <a:pt x="8235" y="4266"/>
                </a:moveTo>
                <a:cubicBezTo>
                  <a:pt x="8373" y="4388"/>
                  <a:pt x="8425" y="4463"/>
                  <a:pt x="8483" y="4638"/>
                </a:cubicBezTo>
                <a:cubicBezTo>
                  <a:pt x="8521" y="4752"/>
                  <a:pt x="8571" y="4914"/>
                  <a:pt x="8558" y="5035"/>
                </a:cubicBezTo>
                <a:cubicBezTo>
                  <a:pt x="8536" y="5143"/>
                  <a:pt x="8533" y="5170"/>
                  <a:pt x="8508" y="52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Ink 9"/>
          <p:cNvSpPr/>
          <p:nvPr/>
        </p:nvSpPr>
        <p:spPr>
          <a:xfrm>
            <a:off x="795240" y="2259000"/>
            <a:ext cx="204840" cy="322200"/>
          </a:xfrm>
          <a:custGeom>
            <a:avLst/>
            <a:gdLst/>
            <a:ahLst/>
            <a:rect l="l" t="t" r="r" b="b"/>
            <a:pathLst>
              <a:path w="571" h="894">
                <a:moveTo>
                  <a:pt x="2406" y="6276"/>
                </a:moveTo>
                <a:cubicBezTo>
                  <a:pt x="2377" y="6323"/>
                  <a:pt x="2361" y="6369"/>
                  <a:pt x="2332" y="6424"/>
                </a:cubicBezTo>
                <a:cubicBezTo>
                  <a:pt x="2296" y="6493"/>
                  <a:pt x="2247" y="6571"/>
                  <a:pt x="2232" y="6648"/>
                </a:cubicBezTo>
                <a:cubicBezTo>
                  <a:pt x="2217" y="6723"/>
                  <a:pt x="2208" y="6791"/>
                  <a:pt x="2208" y="6871"/>
                </a:cubicBezTo>
                <a:cubicBezTo>
                  <a:pt x="2208" y="6931"/>
                  <a:pt x="2225" y="7018"/>
                  <a:pt x="2257" y="7069"/>
                </a:cubicBezTo>
                <a:cubicBezTo>
                  <a:pt x="2283" y="7110"/>
                  <a:pt x="2339" y="7158"/>
                  <a:pt x="2381" y="7169"/>
                </a:cubicBezTo>
              </a:path>
              <a:path w="571" h="894">
                <a:moveTo>
                  <a:pt x="2505" y="6846"/>
                </a:moveTo>
                <a:cubicBezTo>
                  <a:pt x="2577" y="6846"/>
                  <a:pt x="2614" y="6867"/>
                  <a:pt x="2679" y="6871"/>
                </a:cubicBezTo>
                <a:cubicBezTo>
                  <a:pt x="2729" y="6871"/>
                  <a:pt x="2745" y="6871"/>
                  <a:pt x="2778" y="68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Ink 10"/>
          <p:cNvSpPr/>
          <p:nvPr/>
        </p:nvSpPr>
        <p:spPr>
          <a:xfrm>
            <a:off x="1170000" y="2320920"/>
            <a:ext cx="98280" cy="268200"/>
          </a:xfrm>
          <a:custGeom>
            <a:avLst/>
            <a:gdLst/>
            <a:ahLst/>
            <a:rect l="l" t="t" r="r" b="b"/>
            <a:pathLst>
              <a:path w="274" h="745">
                <a:moveTo>
                  <a:pt x="3274" y="6449"/>
                </a:moveTo>
                <a:cubicBezTo>
                  <a:pt x="3263" y="6526"/>
                  <a:pt x="3249" y="6585"/>
                  <a:pt x="3249" y="6672"/>
                </a:cubicBezTo>
                <a:cubicBezTo>
                  <a:pt x="3249" y="6813"/>
                  <a:pt x="3249" y="6953"/>
                  <a:pt x="3249" y="7094"/>
                </a:cubicBezTo>
              </a:path>
              <a:path w="274" h="745">
                <a:moveTo>
                  <a:pt x="3497" y="6995"/>
                </a:moveTo>
                <a:cubicBezTo>
                  <a:pt x="3527" y="7073"/>
                  <a:pt x="3525" y="7100"/>
                  <a:pt x="3473" y="7169"/>
                </a:cubicBezTo>
                <a:cubicBezTo>
                  <a:pt x="3465" y="7177"/>
                  <a:pt x="3456" y="7185"/>
                  <a:pt x="3448" y="71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11"/>
          <p:cNvSpPr/>
          <p:nvPr/>
        </p:nvSpPr>
        <p:spPr>
          <a:xfrm>
            <a:off x="1455840" y="2251080"/>
            <a:ext cx="187200" cy="347760"/>
          </a:xfrm>
          <a:custGeom>
            <a:avLst/>
            <a:gdLst/>
            <a:ahLst/>
            <a:rect l="l" t="t" r="r" b="b"/>
            <a:pathLst>
              <a:path w="522" h="968">
                <a:moveTo>
                  <a:pt x="4118" y="6524"/>
                </a:moveTo>
                <a:cubicBezTo>
                  <a:pt x="4084" y="6613"/>
                  <a:pt x="4094" y="6706"/>
                  <a:pt x="4068" y="6796"/>
                </a:cubicBezTo>
                <a:cubicBezTo>
                  <a:pt x="4047" y="6867"/>
                  <a:pt x="4043" y="6918"/>
                  <a:pt x="4043" y="6995"/>
                </a:cubicBezTo>
                <a:cubicBezTo>
                  <a:pt x="4043" y="7061"/>
                  <a:pt x="4015" y="7087"/>
                  <a:pt x="4068" y="7069"/>
                </a:cubicBezTo>
              </a:path>
              <a:path w="522" h="968">
                <a:moveTo>
                  <a:pt x="4390" y="6251"/>
                </a:moveTo>
                <a:cubicBezTo>
                  <a:pt x="4486" y="6361"/>
                  <a:pt x="4546" y="6446"/>
                  <a:pt x="4564" y="6598"/>
                </a:cubicBezTo>
                <a:cubicBezTo>
                  <a:pt x="4575" y="6692"/>
                  <a:pt x="4538" y="6831"/>
                  <a:pt x="4514" y="6921"/>
                </a:cubicBezTo>
                <a:cubicBezTo>
                  <a:pt x="4487" y="7023"/>
                  <a:pt x="4425" y="7127"/>
                  <a:pt x="4341" y="7193"/>
                </a:cubicBezTo>
                <a:cubicBezTo>
                  <a:pt x="4324" y="7201"/>
                  <a:pt x="4308" y="7210"/>
                  <a:pt x="4291" y="72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12"/>
          <p:cNvSpPr/>
          <p:nvPr/>
        </p:nvSpPr>
        <p:spPr>
          <a:xfrm>
            <a:off x="1419120" y="2938320"/>
            <a:ext cx="1233720" cy="857520"/>
          </a:xfrm>
          <a:custGeom>
            <a:avLst/>
            <a:gdLst/>
            <a:ahLst/>
            <a:rect l="l" t="t" r="r" b="b"/>
            <a:pathLst>
              <a:path w="3424" h="2382">
                <a:moveTo>
                  <a:pt x="5035" y="8930"/>
                </a:moveTo>
                <a:cubicBezTo>
                  <a:pt x="5003" y="8984"/>
                  <a:pt x="5011" y="9036"/>
                  <a:pt x="5011" y="9103"/>
                </a:cubicBezTo>
                <a:cubicBezTo>
                  <a:pt x="5011" y="9176"/>
                  <a:pt x="5027" y="9232"/>
                  <a:pt x="5035" y="9302"/>
                </a:cubicBezTo>
                <a:cubicBezTo>
                  <a:pt x="5006" y="9241"/>
                  <a:pt x="5008" y="9169"/>
                  <a:pt x="4986" y="9103"/>
                </a:cubicBezTo>
                <a:cubicBezTo>
                  <a:pt x="4962" y="9032"/>
                  <a:pt x="4927" y="8932"/>
                  <a:pt x="4936" y="8855"/>
                </a:cubicBezTo>
                <a:cubicBezTo>
                  <a:pt x="4947" y="8764"/>
                  <a:pt x="4958" y="8660"/>
                  <a:pt x="5011" y="8582"/>
                </a:cubicBezTo>
                <a:cubicBezTo>
                  <a:pt x="5052" y="8522"/>
                  <a:pt x="5098" y="8521"/>
                  <a:pt x="5159" y="8558"/>
                </a:cubicBezTo>
                <a:cubicBezTo>
                  <a:pt x="5240" y="8607"/>
                  <a:pt x="5195" y="8668"/>
                  <a:pt x="5184" y="8731"/>
                </a:cubicBezTo>
                <a:cubicBezTo>
                  <a:pt x="5172" y="8805"/>
                  <a:pt x="5148" y="8841"/>
                  <a:pt x="5110" y="8905"/>
                </a:cubicBezTo>
                <a:cubicBezTo>
                  <a:pt x="5080" y="8955"/>
                  <a:pt x="5052" y="8987"/>
                  <a:pt x="5011" y="9029"/>
                </a:cubicBezTo>
                <a:cubicBezTo>
                  <a:pt x="5044" y="9076"/>
                  <a:pt x="5095" y="9138"/>
                  <a:pt x="5159" y="9153"/>
                </a:cubicBezTo>
                <a:cubicBezTo>
                  <a:pt x="5223" y="9168"/>
                  <a:pt x="5294" y="9192"/>
                  <a:pt x="5358" y="9203"/>
                </a:cubicBezTo>
                <a:cubicBezTo>
                  <a:pt x="5407" y="9203"/>
                  <a:pt x="5424" y="9203"/>
                  <a:pt x="5457" y="9203"/>
                </a:cubicBezTo>
              </a:path>
              <a:path w="3424" h="2382">
                <a:moveTo>
                  <a:pt x="5457" y="9103"/>
                </a:moveTo>
                <a:cubicBezTo>
                  <a:pt x="5433" y="9043"/>
                  <a:pt x="5459" y="9028"/>
                  <a:pt x="5507" y="8979"/>
                </a:cubicBezTo>
                <a:cubicBezTo>
                  <a:pt x="5540" y="8946"/>
                  <a:pt x="5573" y="8913"/>
                  <a:pt x="5606" y="8880"/>
                </a:cubicBezTo>
                <a:cubicBezTo>
                  <a:pt x="5560" y="8834"/>
                  <a:pt x="5539" y="8809"/>
                  <a:pt x="5482" y="8855"/>
                </a:cubicBezTo>
                <a:cubicBezTo>
                  <a:pt x="5434" y="8893"/>
                  <a:pt x="5410" y="8919"/>
                  <a:pt x="5407" y="8979"/>
                </a:cubicBezTo>
                <a:cubicBezTo>
                  <a:pt x="5404" y="9047"/>
                  <a:pt x="5400" y="9129"/>
                  <a:pt x="5457" y="9178"/>
                </a:cubicBezTo>
                <a:cubicBezTo>
                  <a:pt x="5529" y="9239"/>
                  <a:pt x="5568" y="9226"/>
                  <a:pt x="5655" y="9203"/>
                </a:cubicBezTo>
              </a:path>
              <a:path w="3424" h="2382">
                <a:moveTo>
                  <a:pt x="5705" y="8359"/>
                </a:moveTo>
                <a:cubicBezTo>
                  <a:pt x="5705" y="8465"/>
                  <a:pt x="5716" y="8555"/>
                  <a:pt x="5730" y="8657"/>
                </a:cubicBezTo>
                <a:cubicBezTo>
                  <a:pt x="5741" y="8733"/>
                  <a:pt x="5767" y="8807"/>
                  <a:pt x="5779" y="8880"/>
                </a:cubicBezTo>
                <a:cubicBezTo>
                  <a:pt x="5789" y="8945"/>
                  <a:pt x="5800" y="9000"/>
                  <a:pt x="5829" y="9054"/>
                </a:cubicBezTo>
                <a:cubicBezTo>
                  <a:pt x="5837" y="9070"/>
                  <a:pt x="5846" y="9087"/>
                  <a:pt x="5854" y="9103"/>
                </a:cubicBezTo>
              </a:path>
              <a:path w="3424" h="2382">
                <a:moveTo>
                  <a:pt x="6102" y="8508"/>
                </a:moveTo>
                <a:cubicBezTo>
                  <a:pt x="6130" y="8648"/>
                  <a:pt x="6133" y="8794"/>
                  <a:pt x="6176" y="8930"/>
                </a:cubicBezTo>
                <a:cubicBezTo>
                  <a:pt x="6184" y="8946"/>
                  <a:pt x="6193" y="8963"/>
                  <a:pt x="6201" y="8979"/>
                </a:cubicBezTo>
                <a:cubicBezTo>
                  <a:pt x="6208" y="8900"/>
                  <a:pt x="6226" y="8837"/>
                  <a:pt x="6226" y="8756"/>
                </a:cubicBezTo>
                <a:cubicBezTo>
                  <a:pt x="6226" y="8591"/>
                  <a:pt x="6226" y="8425"/>
                  <a:pt x="6226" y="8260"/>
                </a:cubicBezTo>
                <a:cubicBezTo>
                  <a:pt x="6226" y="8128"/>
                  <a:pt x="6271" y="8422"/>
                  <a:pt x="6276" y="8458"/>
                </a:cubicBezTo>
                <a:cubicBezTo>
                  <a:pt x="6291" y="8558"/>
                  <a:pt x="6305" y="8637"/>
                  <a:pt x="6350" y="8731"/>
                </a:cubicBezTo>
                <a:cubicBezTo>
                  <a:pt x="6375" y="8783"/>
                  <a:pt x="6394" y="8833"/>
                  <a:pt x="6424" y="8880"/>
                </a:cubicBezTo>
                <a:cubicBezTo>
                  <a:pt x="6440" y="8815"/>
                  <a:pt x="6441" y="8709"/>
                  <a:pt x="6424" y="8632"/>
                </a:cubicBezTo>
                <a:cubicBezTo>
                  <a:pt x="6408" y="8560"/>
                  <a:pt x="6416" y="8482"/>
                  <a:pt x="6400" y="8409"/>
                </a:cubicBezTo>
                <a:cubicBezTo>
                  <a:pt x="6387" y="8349"/>
                  <a:pt x="6350" y="8250"/>
                  <a:pt x="6375" y="8186"/>
                </a:cubicBezTo>
                <a:cubicBezTo>
                  <a:pt x="6383" y="8178"/>
                  <a:pt x="6392" y="8169"/>
                  <a:pt x="6400" y="8161"/>
                </a:cubicBezTo>
                <a:cubicBezTo>
                  <a:pt x="6409" y="8237"/>
                  <a:pt x="6426" y="8309"/>
                  <a:pt x="6449" y="8384"/>
                </a:cubicBezTo>
                <a:cubicBezTo>
                  <a:pt x="6478" y="8476"/>
                  <a:pt x="6506" y="8570"/>
                  <a:pt x="6548" y="8657"/>
                </a:cubicBezTo>
                <a:cubicBezTo>
                  <a:pt x="6579" y="8722"/>
                  <a:pt x="6604" y="8777"/>
                  <a:pt x="6648" y="8830"/>
                </a:cubicBezTo>
              </a:path>
              <a:path w="3424" h="2382">
                <a:moveTo>
                  <a:pt x="6821" y="8558"/>
                </a:moveTo>
                <a:cubicBezTo>
                  <a:pt x="6760" y="8576"/>
                  <a:pt x="6649" y="8587"/>
                  <a:pt x="6672" y="8682"/>
                </a:cubicBezTo>
                <a:cubicBezTo>
                  <a:pt x="6680" y="8698"/>
                  <a:pt x="6689" y="8715"/>
                  <a:pt x="6697" y="8731"/>
                </a:cubicBezTo>
                <a:cubicBezTo>
                  <a:pt x="6786" y="8718"/>
                  <a:pt x="6792" y="8702"/>
                  <a:pt x="6796" y="8607"/>
                </a:cubicBezTo>
                <a:cubicBezTo>
                  <a:pt x="6796" y="8546"/>
                  <a:pt x="6805" y="8531"/>
                  <a:pt x="6772" y="8508"/>
                </a:cubicBezTo>
                <a:cubicBezTo>
                  <a:pt x="6750" y="8575"/>
                  <a:pt x="6785" y="8634"/>
                  <a:pt x="6846" y="8682"/>
                </a:cubicBezTo>
                <a:cubicBezTo>
                  <a:pt x="6876" y="8706"/>
                  <a:pt x="7011" y="8764"/>
                  <a:pt x="7045" y="8756"/>
                </a:cubicBezTo>
                <a:cubicBezTo>
                  <a:pt x="7045" y="8748"/>
                  <a:pt x="7045" y="8739"/>
                  <a:pt x="7045" y="8731"/>
                </a:cubicBezTo>
              </a:path>
              <a:path w="3424" h="2382">
                <a:moveTo>
                  <a:pt x="6995" y="8434"/>
                </a:moveTo>
                <a:cubicBezTo>
                  <a:pt x="7057" y="8494"/>
                  <a:pt x="7123" y="8558"/>
                  <a:pt x="7193" y="8607"/>
                </a:cubicBezTo>
                <a:cubicBezTo>
                  <a:pt x="7246" y="8644"/>
                  <a:pt x="7306" y="8632"/>
                  <a:pt x="7367" y="8632"/>
                </a:cubicBezTo>
              </a:path>
              <a:path w="3424" h="2382">
                <a:moveTo>
                  <a:pt x="7342" y="8384"/>
                </a:moveTo>
                <a:cubicBezTo>
                  <a:pt x="7205" y="8457"/>
                  <a:pt x="7082" y="8524"/>
                  <a:pt x="6970" y="8632"/>
                </a:cubicBezTo>
                <a:cubicBezTo>
                  <a:pt x="6945" y="8657"/>
                  <a:pt x="6921" y="8681"/>
                  <a:pt x="6896" y="8706"/>
                </a:cubicBezTo>
              </a:path>
              <a:path w="3424" h="2382">
                <a:moveTo>
                  <a:pt x="4142" y="9872"/>
                </a:moveTo>
                <a:cubicBezTo>
                  <a:pt x="4111" y="9927"/>
                  <a:pt x="4073" y="9965"/>
                  <a:pt x="4043" y="10021"/>
                </a:cubicBezTo>
                <a:cubicBezTo>
                  <a:pt x="4007" y="10089"/>
                  <a:pt x="3992" y="10152"/>
                  <a:pt x="3969" y="10220"/>
                </a:cubicBezTo>
                <a:cubicBezTo>
                  <a:pt x="3939" y="10309"/>
                  <a:pt x="3938" y="10361"/>
                  <a:pt x="3994" y="10443"/>
                </a:cubicBezTo>
                <a:cubicBezTo>
                  <a:pt x="4024" y="10487"/>
                  <a:pt x="4120" y="10487"/>
                  <a:pt x="4167" y="10492"/>
                </a:cubicBezTo>
              </a:path>
              <a:path w="3424" h="2382">
                <a:moveTo>
                  <a:pt x="4093" y="10195"/>
                </a:moveTo>
                <a:cubicBezTo>
                  <a:pt x="4176" y="10153"/>
                  <a:pt x="4246" y="10190"/>
                  <a:pt x="4341" y="10195"/>
                </a:cubicBezTo>
                <a:cubicBezTo>
                  <a:pt x="4357" y="10195"/>
                  <a:pt x="4374" y="10195"/>
                  <a:pt x="4390" y="10195"/>
                </a:cubicBezTo>
              </a:path>
              <a:path w="3424" h="2382">
                <a:moveTo>
                  <a:pt x="4614" y="9971"/>
                </a:moveTo>
                <a:cubicBezTo>
                  <a:pt x="4595" y="10067"/>
                  <a:pt x="4589" y="10147"/>
                  <a:pt x="4589" y="10244"/>
                </a:cubicBezTo>
                <a:cubicBezTo>
                  <a:pt x="4589" y="10331"/>
                  <a:pt x="4603" y="10388"/>
                  <a:pt x="4638" y="10468"/>
                </a:cubicBezTo>
              </a:path>
              <a:path w="3424" h="2382">
                <a:moveTo>
                  <a:pt x="4787" y="10294"/>
                </a:moveTo>
                <a:cubicBezTo>
                  <a:pt x="4787" y="10362"/>
                  <a:pt x="4765" y="10510"/>
                  <a:pt x="4812" y="10542"/>
                </a:cubicBezTo>
              </a:path>
              <a:path w="3424" h="2382">
                <a:moveTo>
                  <a:pt x="4986" y="9996"/>
                </a:moveTo>
                <a:cubicBezTo>
                  <a:pt x="4961" y="10063"/>
                  <a:pt x="4917" y="10172"/>
                  <a:pt x="4936" y="10244"/>
                </a:cubicBezTo>
                <a:cubicBezTo>
                  <a:pt x="4955" y="10314"/>
                  <a:pt x="4975" y="10351"/>
                  <a:pt x="5060" y="10368"/>
                </a:cubicBezTo>
                <a:cubicBezTo>
                  <a:pt x="5123" y="10380"/>
                  <a:pt x="5197" y="10335"/>
                  <a:pt x="5209" y="10269"/>
                </a:cubicBezTo>
                <a:cubicBezTo>
                  <a:pt x="5222" y="10196"/>
                  <a:pt x="5176" y="10105"/>
                  <a:pt x="5135" y="10046"/>
                </a:cubicBezTo>
                <a:cubicBezTo>
                  <a:pt x="5116" y="10019"/>
                  <a:pt x="5083" y="9994"/>
                  <a:pt x="5060" y="9971"/>
                </a:cubicBezTo>
              </a:path>
              <a:path w="3424" h="2382">
                <a:moveTo>
                  <a:pt x="5085" y="9723"/>
                </a:moveTo>
                <a:cubicBezTo>
                  <a:pt x="5137" y="9797"/>
                  <a:pt x="5189" y="9868"/>
                  <a:pt x="5234" y="9947"/>
                </a:cubicBezTo>
                <a:cubicBezTo>
                  <a:pt x="5293" y="10048"/>
                  <a:pt x="5327" y="10123"/>
                  <a:pt x="5333" y="10244"/>
                </a:cubicBezTo>
                <a:cubicBezTo>
                  <a:pt x="5337" y="10334"/>
                  <a:pt x="5325" y="10369"/>
                  <a:pt x="5283" y="104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13"/>
          <p:cNvSpPr/>
          <p:nvPr/>
        </p:nvSpPr>
        <p:spPr>
          <a:xfrm>
            <a:off x="374760" y="4375080"/>
            <a:ext cx="384120" cy="117720"/>
          </a:xfrm>
          <a:custGeom>
            <a:avLst/>
            <a:gdLst/>
            <a:ahLst/>
            <a:rect l="l" t="t" r="r" b="b"/>
            <a:pathLst>
              <a:path w="1067" h="324">
                <a:moveTo>
                  <a:pt x="1042" y="12154"/>
                </a:moveTo>
                <a:cubicBezTo>
                  <a:pt x="1116" y="12179"/>
                  <a:pt x="1188" y="12194"/>
                  <a:pt x="1265" y="12204"/>
                </a:cubicBezTo>
              </a:path>
              <a:path w="1067" h="324">
                <a:moveTo>
                  <a:pt x="1811" y="12378"/>
                </a:moveTo>
                <a:cubicBezTo>
                  <a:pt x="1704" y="12420"/>
                  <a:pt x="1650" y="12427"/>
                  <a:pt x="1538" y="12427"/>
                </a:cubicBezTo>
                <a:cubicBezTo>
                  <a:pt x="1470" y="12427"/>
                  <a:pt x="1481" y="12341"/>
                  <a:pt x="1463" y="12303"/>
                </a:cubicBezTo>
                <a:cubicBezTo>
                  <a:pt x="1442" y="12259"/>
                  <a:pt x="1454" y="12267"/>
                  <a:pt x="1463" y="12204"/>
                </a:cubicBezTo>
                <a:cubicBezTo>
                  <a:pt x="1522" y="12233"/>
                  <a:pt x="1566" y="12257"/>
                  <a:pt x="1612" y="12303"/>
                </a:cubicBezTo>
                <a:cubicBezTo>
                  <a:pt x="1653" y="12344"/>
                  <a:pt x="1710" y="12375"/>
                  <a:pt x="1761" y="12402"/>
                </a:cubicBezTo>
                <a:cubicBezTo>
                  <a:pt x="1828" y="12437"/>
                  <a:pt x="1932" y="12483"/>
                  <a:pt x="2009" y="12477"/>
                </a:cubicBezTo>
                <a:cubicBezTo>
                  <a:pt x="2102" y="12469"/>
                  <a:pt x="2105" y="12388"/>
                  <a:pt x="2084" y="12328"/>
                </a:cubicBezTo>
                <a:cubicBezTo>
                  <a:pt x="2062" y="12266"/>
                  <a:pt x="1999" y="12218"/>
                  <a:pt x="1935" y="12204"/>
                </a:cubicBezTo>
                <a:cubicBezTo>
                  <a:pt x="1885" y="12204"/>
                  <a:pt x="1869" y="12204"/>
                  <a:pt x="1836" y="122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14"/>
          <p:cNvSpPr/>
          <p:nvPr/>
        </p:nvSpPr>
        <p:spPr>
          <a:xfrm>
            <a:off x="7215120" y="4491000"/>
            <a:ext cx="268200" cy="108000"/>
          </a:xfrm>
          <a:custGeom>
            <a:avLst/>
            <a:gdLst/>
            <a:ahLst/>
            <a:rect l="l" t="t" r="r" b="b"/>
            <a:pathLst>
              <a:path w="745" h="298">
                <a:moveTo>
                  <a:pt x="20439" y="12626"/>
                </a:moveTo>
                <a:cubicBezTo>
                  <a:pt x="20377" y="12674"/>
                  <a:pt x="20342" y="12675"/>
                  <a:pt x="20265" y="12675"/>
                </a:cubicBezTo>
                <a:cubicBezTo>
                  <a:pt x="20199" y="12675"/>
                  <a:pt x="20123" y="12639"/>
                  <a:pt x="20067" y="12601"/>
                </a:cubicBezTo>
                <a:cubicBezTo>
                  <a:pt x="20021" y="12569"/>
                  <a:pt x="20039" y="12492"/>
                  <a:pt x="20092" y="12477"/>
                </a:cubicBezTo>
                <a:cubicBezTo>
                  <a:pt x="20143" y="12462"/>
                  <a:pt x="20206" y="12519"/>
                  <a:pt x="20241" y="12551"/>
                </a:cubicBezTo>
                <a:cubicBezTo>
                  <a:pt x="20266" y="12574"/>
                  <a:pt x="20319" y="12665"/>
                  <a:pt x="20340" y="12675"/>
                </a:cubicBezTo>
                <a:cubicBezTo>
                  <a:pt x="20395" y="12702"/>
                  <a:pt x="20501" y="12758"/>
                  <a:pt x="20563" y="12774"/>
                </a:cubicBezTo>
                <a:cubicBezTo>
                  <a:pt x="20611" y="12786"/>
                  <a:pt x="20730" y="12792"/>
                  <a:pt x="20762" y="12750"/>
                </a:cubicBezTo>
                <a:cubicBezTo>
                  <a:pt x="20811" y="12686"/>
                  <a:pt x="20784" y="12628"/>
                  <a:pt x="20737" y="12576"/>
                </a:cubicBezTo>
                <a:cubicBezTo>
                  <a:pt x="20706" y="12542"/>
                  <a:pt x="20660" y="12486"/>
                  <a:pt x="20613" y="12477"/>
                </a:cubicBezTo>
                <a:cubicBezTo>
                  <a:pt x="20545" y="12477"/>
                  <a:pt x="20526" y="12474"/>
                  <a:pt x="20489" y="125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15"/>
          <p:cNvSpPr/>
          <p:nvPr/>
        </p:nvSpPr>
        <p:spPr>
          <a:xfrm>
            <a:off x="768240" y="4313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33" y="11981"/>
                </a:moveTo>
                <a:lnTo>
                  <a:pt x="2133" y="11981"/>
                </a:lnTo>
              </a:path>
              <a:path w="1" h="1">
                <a:moveTo>
                  <a:pt x="2133" y="11981"/>
                </a:moveTo>
                <a:lnTo>
                  <a:pt x="2133" y="11981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16"/>
          <p:cNvSpPr/>
          <p:nvPr/>
        </p:nvSpPr>
        <p:spPr>
          <a:xfrm>
            <a:off x="866880" y="4232160"/>
            <a:ext cx="2830320" cy="117720"/>
          </a:xfrm>
          <a:custGeom>
            <a:avLst/>
            <a:gdLst/>
            <a:ahLst/>
            <a:rect l="l" t="t" r="r" b="b"/>
            <a:pathLst>
              <a:path w="7864" h="324">
                <a:moveTo>
                  <a:pt x="2406" y="11981"/>
                </a:moveTo>
                <a:cubicBezTo>
                  <a:pt x="2406" y="11973"/>
                  <a:pt x="2406" y="11964"/>
                  <a:pt x="2406" y="11956"/>
                </a:cubicBezTo>
              </a:path>
              <a:path w="7864" h="324">
                <a:moveTo>
                  <a:pt x="2406" y="11981"/>
                </a:moveTo>
                <a:cubicBezTo>
                  <a:pt x="2439" y="11981"/>
                  <a:pt x="2472" y="11981"/>
                  <a:pt x="2505" y="11981"/>
                </a:cubicBezTo>
              </a:path>
              <a:path w="7864" h="324">
                <a:moveTo>
                  <a:pt x="2654" y="12005"/>
                </a:moveTo>
                <a:lnTo>
                  <a:pt x="2654" y="12005"/>
                </a:lnTo>
              </a:path>
              <a:path w="7864" h="324">
                <a:moveTo>
                  <a:pt x="2778" y="12005"/>
                </a:moveTo>
                <a:cubicBezTo>
                  <a:pt x="2786" y="12005"/>
                  <a:pt x="2795" y="12005"/>
                  <a:pt x="2803" y="12005"/>
                </a:cubicBezTo>
              </a:path>
              <a:path w="7864" h="324">
                <a:moveTo>
                  <a:pt x="2927" y="12005"/>
                </a:moveTo>
                <a:cubicBezTo>
                  <a:pt x="2935" y="12005"/>
                  <a:pt x="2944" y="12005"/>
                  <a:pt x="2952" y="12005"/>
                </a:cubicBezTo>
              </a:path>
              <a:path w="7864" h="324">
                <a:moveTo>
                  <a:pt x="3051" y="11981"/>
                </a:moveTo>
                <a:cubicBezTo>
                  <a:pt x="3059" y="11981"/>
                  <a:pt x="3068" y="11981"/>
                  <a:pt x="3076" y="11981"/>
                </a:cubicBezTo>
              </a:path>
              <a:path w="7864" h="324">
                <a:moveTo>
                  <a:pt x="3249" y="12005"/>
                </a:moveTo>
                <a:cubicBezTo>
                  <a:pt x="3257" y="12005"/>
                  <a:pt x="3266" y="12005"/>
                  <a:pt x="3274" y="12005"/>
                </a:cubicBezTo>
              </a:path>
              <a:path w="7864" h="324">
                <a:moveTo>
                  <a:pt x="3398" y="12005"/>
                </a:moveTo>
                <a:lnTo>
                  <a:pt x="3398" y="12005"/>
                </a:lnTo>
              </a:path>
              <a:path w="7864" h="324">
                <a:moveTo>
                  <a:pt x="3547" y="12005"/>
                </a:moveTo>
                <a:cubicBezTo>
                  <a:pt x="3555" y="12005"/>
                  <a:pt x="3564" y="12005"/>
                  <a:pt x="3572" y="12005"/>
                </a:cubicBezTo>
              </a:path>
              <a:path w="7864" h="324">
                <a:moveTo>
                  <a:pt x="3696" y="11981"/>
                </a:moveTo>
                <a:lnTo>
                  <a:pt x="3696" y="11981"/>
                </a:lnTo>
              </a:path>
              <a:path w="7864" h="324">
                <a:moveTo>
                  <a:pt x="3820" y="11981"/>
                </a:moveTo>
                <a:cubicBezTo>
                  <a:pt x="3828" y="11973"/>
                  <a:pt x="3837" y="11964"/>
                  <a:pt x="3845" y="11956"/>
                </a:cubicBezTo>
              </a:path>
              <a:path w="7864" h="324">
                <a:moveTo>
                  <a:pt x="3994" y="11956"/>
                </a:moveTo>
                <a:cubicBezTo>
                  <a:pt x="4002" y="11956"/>
                  <a:pt x="4010" y="11956"/>
                  <a:pt x="4018" y="11956"/>
                </a:cubicBezTo>
              </a:path>
              <a:path w="7864" h="324">
                <a:moveTo>
                  <a:pt x="4192" y="12005"/>
                </a:moveTo>
                <a:cubicBezTo>
                  <a:pt x="4200" y="12005"/>
                  <a:pt x="4209" y="12005"/>
                  <a:pt x="4217" y="12005"/>
                </a:cubicBezTo>
              </a:path>
              <a:path w="7864" h="324">
                <a:moveTo>
                  <a:pt x="4341" y="11981"/>
                </a:moveTo>
                <a:cubicBezTo>
                  <a:pt x="4349" y="11981"/>
                  <a:pt x="4358" y="11981"/>
                  <a:pt x="4366" y="11981"/>
                </a:cubicBezTo>
              </a:path>
              <a:path w="7864" h="324">
                <a:moveTo>
                  <a:pt x="4514" y="11956"/>
                </a:moveTo>
                <a:cubicBezTo>
                  <a:pt x="4522" y="11948"/>
                  <a:pt x="4531" y="11939"/>
                  <a:pt x="4539" y="11931"/>
                </a:cubicBezTo>
              </a:path>
              <a:path w="7864" h="324">
                <a:moveTo>
                  <a:pt x="4663" y="11931"/>
                </a:moveTo>
                <a:cubicBezTo>
                  <a:pt x="4671" y="11931"/>
                  <a:pt x="4680" y="11931"/>
                  <a:pt x="4688" y="11931"/>
                </a:cubicBezTo>
              </a:path>
              <a:path w="7864" h="324">
                <a:moveTo>
                  <a:pt x="4837" y="11931"/>
                </a:moveTo>
                <a:cubicBezTo>
                  <a:pt x="4845" y="11931"/>
                  <a:pt x="4854" y="11931"/>
                  <a:pt x="4862" y="11931"/>
                </a:cubicBezTo>
              </a:path>
              <a:path w="7864" h="324">
                <a:moveTo>
                  <a:pt x="5011" y="11931"/>
                </a:moveTo>
                <a:lnTo>
                  <a:pt x="5011" y="11931"/>
                </a:lnTo>
              </a:path>
              <a:path w="7864" h="324">
                <a:moveTo>
                  <a:pt x="5135" y="11906"/>
                </a:moveTo>
                <a:cubicBezTo>
                  <a:pt x="5143" y="11906"/>
                  <a:pt x="5151" y="11906"/>
                  <a:pt x="5159" y="11906"/>
                </a:cubicBezTo>
              </a:path>
              <a:path w="7864" h="324">
                <a:moveTo>
                  <a:pt x="5283" y="11931"/>
                </a:moveTo>
                <a:cubicBezTo>
                  <a:pt x="5291" y="11923"/>
                  <a:pt x="5300" y="11914"/>
                  <a:pt x="5308" y="11906"/>
                </a:cubicBezTo>
              </a:path>
              <a:path w="7864" h="324">
                <a:moveTo>
                  <a:pt x="5407" y="11931"/>
                </a:moveTo>
                <a:lnTo>
                  <a:pt x="5407" y="11931"/>
                </a:lnTo>
              </a:path>
              <a:path w="7864" h="324">
                <a:moveTo>
                  <a:pt x="5531" y="11906"/>
                </a:moveTo>
                <a:cubicBezTo>
                  <a:pt x="5539" y="11906"/>
                  <a:pt x="5548" y="11906"/>
                  <a:pt x="5556" y="11906"/>
                </a:cubicBezTo>
              </a:path>
              <a:path w="7864" h="324">
                <a:moveTo>
                  <a:pt x="5755" y="11956"/>
                </a:moveTo>
                <a:cubicBezTo>
                  <a:pt x="5763" y="11956"/>
                  <a:pt x="5771" y="11956"/>
                  <a:pt x="5779" y="11956"/>
                </a:cubicBezTo>
              </a:path>
              <a:path w="7864" h="324">
                <a:moveTo>
                  <a:pt x="5928" y="11956"/>
                </a:moveTo>
                <a:cubicBezTo>
                  <a:pt x="5936" y="11948"/>
                  <a:pt x="5945" y="11939"/>
                  <a:pt x="5953" y="11931"/>
                </a:cubicBezTo>
              </a:path>
              <a:path w="7864" h="324">
                <a:moveTo>
                  <a:pt x="6077" y="11881"/>
                </a:moveTo>
                <a:cubicBezTo>
                  <a:pt x="6077" y="11889"/>
                  <a:pt x="6077" y="11898"/>
                  <a:pt x="6077" y="11906"/>
                </a:cubicBezTo>
              </a:path>
              <a:path w="7864" h="324">
                <a:moveTo>
                  <a:pt x="6226" y="11906"/>
                </a:moveTo>
                <a:cubicBezTo>
                  <a:pt x="6234" y="11906"/>
                  <a:pt x="6243" y="11906"/>
                  <a:pt x="6251" y="11906"/>
                </a:cubicBezTo>
              </a:path>
              <a:path w="7864" h="324">
                <a:moveTo>
                  <a:pt x="6400" y="11906"/>
                </a:moveTo>
                <a:cubicBezTo>
                  <a:pt x="6408" y="11906"/>
                  <a:pt x="6416" y="11906"/>
                  <a:pt x="6424" y="11906"/>
                </a:cubicBezTo>
              </a:path>
              <a:path w="7864" h="324">
                <a:moveTo>
                  <a:pt x="6573" y="11906"/>
                </a:moveTo>
                <a:cubicBezTo>
                  <a:pt x="6581" y="11906"/>
                  <a:pt x="6590" y="11906"/>
                  <a:pt x="6598" y="11906"/>
                </a:cubicBezTo>
              </a:path>
              <a:path w="7864" h="324">
                <a:moveTo>
                  <a:pt x="6747" y="11956"/>
                </a:moveTo>
                <a:lnTo>
                  <a:pt x="6747" y="11956"/>
                </a:lnTo>
              </a:path>
              <a:path w="7864" h="324">
                <a:moveTo>
                  <a:pt x="6896" y="11931"/>
                </a:moveTo>
                <a:lnTo>
                  <a:pt x="6896" y="11931"/>
                </a:lnTo>
              </a:path>
              <a:path w="7864" h="324">
                <a:moveTo>
                  <a:pt x="7045" y="11906"/>
                </a:moveTo>
                <a:cubicBezTo>
                  <a:pt x="7053" y="11906"/>
                  <a:pt x="7061" y="11906"/>
                  <a:pt x="7069" y="11906"/>
                </a:cubicBezTo>
              </a:path>
              <a:path w="7864" h="324">
                <a:moveTo>
                  <a:pt x="7193" y="11906"/>
                </a:moveTo>
                <a:cubicBezTo>
                  <a:pt x="7201" y="11906"/>
                  <a:pt x="7210" y="11906"/>
                  <a:pt x="7218" y="11906"/>
                </a:cubicBezTo>
              </a:path>
              <a:path w="7864" h="324">
                <a:moveTo>
                  <a:pt x="7317" y="11881"/>
                </a:moveTo>
                <a:cubicBezTo>
                  <a:pt x="7325" y="11881"/>
                  <a:pt x="7334" y="11881"/>
                  <a:pt x="7342" y="11881"/>
                </a:cubicBezTo>
              </a:path>
              <a:path w="7864" h="324">
                <a:moveTo>
                  <a:pt x="7441" y="11906"/>
                </a:moveTo>
                <a:lnTo>
                  <a:pt x="7441" y="11906"/>
                </a:lnTo>
              </a:path>
              <a:path w="7864" h="324">
                <a:moveTo>
                  <a:pt x="7565" y="11881"/>
                </a:moveTo>
                <a:cubicBezTo>
                  <a:pt x="7573" y="11881"/>
                  <a:pt x="7582" y="11881"/>
                  <a:pt x="7590" y="11881"/>
                </a:cubicBezTo>
              </a:path>
              <a:path w="7864" h="324">
                <a:moveTo>
                  <a:pt x="7764" y="11906"/>
                </a:moveTo>
                <a:lnTo>
                  <a:pt x="7764" y="11906"/>
                </a:lnTo>
              </a:path>
              <a:path w="7864" h="324">
                <a:moveTo>
                  <a:pt x="7938" y="11906"/>
                </a:moveTo>
                <a:lnTo>
                  <a:pt x="7938" y="11906"/>
                </a:lnTo>
              </a:path>
              <a:path w="7864" h="324">
                <a:moveTo>
                  <a:pt x="7938" y="11906"/>
                </a:moveTo>
                <a:cubicBezTo>
                  <a:pt x="7963" y="11906"/>
                  <a:pt x="7987" y="11906"/>
                  <a:pt x="8012" y="11906"/>
                </a:cubicBezTo>
              </a:path>
              <a:path w="7864" h="324">
                <a:moveTo>
                  <a:pt x="8062" y="11881"/>
                </a:moveTo>
                <a:lnTo>
                  <a:pt x="8062" y="11881"/>
                </a:lnTo>
              </a:path>
              <a:path w="7864" h="324">
                <a:moveTo>
                  <a:pt x="8086" y="11757"/>
                </a:moveTo>
                <a:cubicBezTo>
                  <a:pt x="8109" y="11780"/>
                  <a:pt x="8120" y="11788"/>
                  <a:pt x="8086" y="11782"/>
                </a:cubicBezTo>
              </a:path>
              <a:path w="7864" h="324">
                <a:moveTo>
                  <a:pt x="2580" y="11956"/>
                </a:moveTo>
                <a:cubicBezTo>
                  <a:pt x="2605" y="11956"/>
                  <a:pt x="2629" y="11956"/>
                  <a:pt x="2654" y="11956"/>
                </a:cubicBezTo>
              </a:path>
              <a:path w="7864" h="324">
                <a:moveTo>
                  <a:pt x="2927" y="12030"/>
                </a:moveTo>
                <a:cubicBezTo>
                  <a:pt x="2955" y="12058"/>
                  <a:pt x="2968" y="12067"/>
                  <a:pt x="3001" y="12055"/>
                </a:cubicBezTo>
              </a:path>
              <a:path w="7864" h="324">
                <a:moveTo>
                  <a:pt x="3274" y="12055"/>
                </a:moveTo>
                <a:cubicBezTo>
                  <a:pt x="3299" y="12055"/>
                  <a:pt x="3324" y="12055"/>
                  <a:pt x="3349" y="12055"/>
                </a:cubicBezTo>
              </a:path>
              <a:path w="7864" h="324">
                <a:moveTo>
                  <a:pt x="3646" y="12080"/>
                </a:moveTo>
                <a:cubicBezTo>
                  <a:pt x="3696" y="12080"/>
                  <a:pt x="3713" y="12080"/>
                  <a:pt x="3746" y="12080"/>
                </a:cubicBezTo>
              </a:path>
              <a:path w="7864" h="324">
                <a:moveTo>
                  <a:pt x="4068" y="12055"/>
                </a:moveTo>
                <a:cubicBezTo>
                  <a:pt x="4118" y="12055"/>
                  <a:pt x="4134" y="12055"/>
                  <a:pt x="4167" y="12055"/>
                </a:cubicBezTo>
              </a:path>
              <a:path w="7864" h="324">
                <a:moveTo>
                  <a:pt x="4465" y="12030"/>
                </a:moveTo>
                <a:cubicBezTo>
                  <a:pt x="4506" y="12030"/>
                  <a:pt x="4514" y="12030"/>
                  <a:pt x="4539" y="12030"/>
                </a:cubicBezTo>
              </a:path>
              <a:path w="7864" h="324">
                <a:moveTo>
                  <a:pt x="4762" y="12030"/>
                </a:moveTo>
                <a:cubicBezTo>
                  <a:pt x="4820" y="12030"/>
                  <a:pt x="4845" y="12030"/>
                  <a:pt x="4887" y="12030"/>
                </a:cubicBezTo>
              </a:path>
              <a:path w="7864" h="324">
                <a:moveTo>
                  <a:pt x="5110" y="12055"/>
                </a:moveTo>
                <a:cubicBezTo>
                  <a:pt x="5159" y="12055"/>
                  <a:pt x="5176" y="12055"/>
                  <a:pt x="5209" y="12055"/>
                </a:cubicBezTo>
              </a:path>
              <a:path w="7864" h="324">
                <a:moveTo>
                  <a:pt x="5507" y="12030"/>
                </a:moveTo>
                <a:cubicBezTo>
                  <a:pt x="5548" y="12030"/>
                  <a:pt x="5556" y="12030"/>
                  <a:pt x="5581" y="12030"/>
                </a:cubicBezTo>
              </a:path>
              <a:path w="7864" h="324">
                <a:moveTo>
                  <a:pt x="5854" y="12030"/>
                </a:moveTo>
                <a:cubicBezTo>
                  <a:pt x="5903" y="12037"/>
                  <a:pt x="5911" y="12044"/>
                  <a:pt x="5953" y="12055"/>
                </a:cubicBezTo>
              </a:path>
              <a:path w="7864" h="324">
                <a:moveTo>
                  <a:pt x="6226" y="12055"/>
                </a:moveTo>
                <a:cubicBezTo>
                  <a:pt x="6259" y="12055"/>
                  <a:pt x="6292" y="12055"/>
                  <a:pt x="6325" y="12055"/>
                </a:cubicBezTo>
              </a:path>
              <a:path w="7864" h="324">
                <a:moveTo>
                  <a:pt x="6623" y="11981"/>
                </a:moveTo>
                <a:cubicBezTo>
                  <a:pt x="6639" y="11973"/>
                  <a:pt x="6656" y="11964"/>
                  <a:pt x="6672" y="11956"/>
                </a:cubicBezTo>
              </a:path>
              <a:path w="7864" h="324">
                <a:moveTo>
                  <a:pt x="6995" y="11956"/>
                </a:moveTo>
                <a:cubicBezTo>
                  <a:pt x="7020" y="11956"/>
                  <a:pt x="7044" y="11956"/>
                  <a:pt x="7069" y="11956"/>
                </a:cubicBezTo>
              </a:path>
              <a:path w="7864" h="324">
                <a:moveTo>
                  <a:pt x="7342" y="11931"/>
                </a:moveTo>
                <a:cubicBezTo>
                  <a:pt x="7384" y="11931"/>
                  <a:pt x="7400" y="11939"/>
                  <a:pt x="7392" y="11906"/>
                </a:cubicBezTo>
              </a:path>
              <a:path w="7864" h="324">
                <a:moveTo>
                  <a:pt x="7590" y="11881"/>
                </a:moveTo>
                <a:cubicBezTo>
                  <a:pt x="7607" y="11881"/>
                  <a:pt x="7623" y="11881"/>
                  <a:pt x="7640" y="11881"/>
                </a:cubicBezTo>
              </a:path>
              <a:path w="7864" h="324">
                <a:moveTo>
                  <a:pt x="7813" y="11832"/>
                </a:moveTo>
                <a:cubicBezTo>
                  <a:pt x="7830" y="11832"/>
                  <a:pt x="7846" y="11832"/>
                  <a:pt x="7863" y="11832"/>
                </a:cubicBezTo>
              </a:path>
              <a:path w="7864" h="324">
                <a:moveTo>
                  <a:pt x="8037" y="11881"/>
                </a:moveTo>
                <a:cubicBezTo>
                  <a:pt x="8060" y="11859"/>
                  <a:pt x="8068" y="11854"/>
                  <a:pt x="8062" y="11832"/>
                </a:cubicBezTo>
              </a:path>
              <a:path w="7864" h="324">
                <a:moveTo>
                  <a:pt x="8136" y="11857"/>
                </a:moveTo>
                <a:lnTo>
                  <a:pt x="8136" y="11857"/>
                </a:lnTo>
              </a:path>
              <a:path w="7864" h="324">
                <a:moveTo>
                  <a:pt x="8235" y="11906"/>
                </a:moveTo>
                <a:cubicBezTo>
                  <a:pt x="8243" y="11914"/>
                  <a:pt x="8252" y="11923"/>
                  <a:pt x="8260" y="11931"/>
                </a:cubicBezTo>
              </a:path>
              <a:path w="7864" h="324">
                <a:moveTo>
                  <a:pt x="8334" y="11956"/>
                </a:moveTo>
                <a:lnTo>
                  <a:pt x="8334" y="11956"/>
                </a:lnTo>
              </a:path>
              <a:path w="7864" h="324">
                <a:moveTo>
                  <a:pt x="8409" y="11956"/>
                </a:moveTo>
                <a:cubicBezTo>
                  <a:pt x="8425" y="11956"/>
                  <a:pt x="8442" y="11956"/>
                  <a:pt x="8458" y="11956"/>
                </a:cubicBezTo>
              </a:path>
              <a:path w="7864" h="324">
                <a:moveTo>
                  <a:pt x="8607" y="11956"/>
                </a:moveTo>
                <a:cubicBezTo>
                  <a:pt x="8615" y="11956"/>
                  <a:pt x="8624" y="11956"/>
                  <a:pt x="8632" y="11956"/>
                </a:cubicBezTo>
              </a:path>
              <a:path w="7864" h="324">
                <a:moveTo>
                  <a:pt x="8731" y="11906"/>
                </a:moveTo>
                <a:cubicBezTo>
                  <a:pt x="8739" y="11906"/>
                  <a:pt x="8748" y="11906"/>
                  <a:pt x="8756" y="11906"/>
                </a:cubicBezTo>
              </a:path>
              <a:path w="7864" h="324">
                <a:moveTo>
                  <a:pt x="8830" y="11906"/>
                </a:moveTo>
                <a:cubicBezTo>
                  <a:pt x="8838" y="11914"/>
                  <a:pt x="8847" y="11923"/>
                  <a:pt x="8855" y="11931"/>
                </a:cubicBezTo>
              </a:path>
              <a:path w="7864" h="324">
                <a:moveTo>
                  <a:pt x="8954" y="11956"/>
                </a:moveTo>
                <a:lnTo>
                  <a:pt x="8954" y="11956"/>
                </a:lnTo>
              </a:path>
              <a:path w="7864" h="324">
                <a:moveTo>
                  <a:pt x="8954" y="11956"/>
                </a:moveTo>
                <a:lnTo>
                  <a:pt x="8954" y="11956"/>
                </a:lnTo>
              </a:path>
              <a:path w="7864" h="324">
                <a:moveTo>
                  <a:pt x="9178" y="11956"/>
                </a:moveTo>
                <a:lnTo>
                  <a:pt x="9178" y="11956"/>
                </a:lnTo>
              </a:path>
              <a:path w="7864" h="324">
                <a:moveTo>
                  <a:pt x="9178" y="11956"/>
                </a:moveTo>
                <a:cubicBezTo>
                  <a:pt x="9211" y="11956"/>
                  <a:pt x="9244" y="11956"/>
                  <a:pt x="9277" y="11956"/>
                </a:cubicBezTo>
              </a:path>
              <a:path w="7864" h="324">
                <a:moveTo>
                  <a:pt x="9376" y="11981"/>
                </a:moveTo>
                <a:lnTo>
                  <a:pt x="9376" y="11981"/>
                </a:lnTo>
              </a:path>
              <a:path w="7864" h="324">
                <a:moveTo>
                  <a:pt x="9376" y="11981"/>
                </a:moveTo>
                <a:cubicBezTo>
                  <a:pt x="9409" y="11981"/>
                  <a:pt x="9442" y="11981"/>
                  <a:pt x="9475" y="11981"/>
                </a:cubicBezTo>
              </a:path>
              <a:path w="7864" h="324">
                <a:moveTo>
                  <a:pt x="9575" y="12005"/>
                </a:moveTo>
                <a:cubicBezTo>
                  <a:pt x="9583" y="12005"/>
                  <a:pt x="9591" y="12005"/>
                  <a:pt x="9599" y="12005"/>
                </a:cubicBezTo>
              </a:path>
              <a:path w="7864" h="324">
                <a:moveTo>
                  <a:pt x="9575" y="12005"/>
                </a:moveTo>
                <a:cubicBezTo>
                  <a:pt x="9608" y="12013"/>
                  <a:pt x="9641" y="12022"/>
                  <a:pt x="9674" y="12030"/>
                </a:cubicBezTo>
              </a:path>
              <a:path w="7864" h="324">
                <a:moveTo>
                  <a:pt x="9674" y="12030"/>
                </a:moveTo>
                <a:lnTo>
                  <a:pt x="9674" y="12030"/>
                </a:lnTo>
              </a:path>
              <a:path w="7864" h="324">
                <a:moveTo>
                  <a:pt x="9699" y="12030"/>
                </a:moveTo>
                <a:cubicBezTo>
                  <a:pt x="9699" y="12038"/>
                  <a:pt x="9699" y="12047"/>
                  <a:pt x="9699" y="12055"/>
                </a:cubicBezTo>
              </a:path>
              <a:path w="7864" h="324">
                <a:moveTo>
                  <a:pt x="9748" y="11881"/>
                </a:moveTo>
                <a:cubicBezTo>
                  <a:pt x="9748" y="11873"/>
                  <a:pt x="9748" y="11865"/>
                  <a:pt x="9748" y="11857"/>
                </a:cubicBezTo>
              </a:path>
              <a:path w="7864" h="324">
                <a:moveTo>
                  <a:pt x="9922" y="11981"/>
                </a:moveTo>
                <a:lnTo>
                  <a:pt x="9922" y="11981"/>
                </a:lnTo>
              </a:path>
              <a:path w="7864" h="324">
                <a:moveTo>
                  <a:pt x="9922" y="11981"/>
                </a:moveTo>
                <a:cubicBezTo>
                  <a:pt x="9930" y="11973"/>
                  <a:pt x="9939" y="11964"/>
                  <a:pt x="9947" y="11956"/>
                </a:cubicBezTo>
              </a:path>
              <a:path w="7864" h="324">
                <a:moveTo>
                  <a:pt x="9947" y="11956"/>
                </a:moveTo>
                <a:cubicBezTo>
                  <a:pt x="9955" y="11948"/>
                  <a:pt x="9963" y="11939"/>
                  <a:pt x="9971" y="11931"/>
                </a:cubicBezTo>
              </a:path>
              <a:path w="7864" h="324">
                <a:moveTo>
                  <a:pt x="10021" y="11956"/>
                </a:moveTo>
                <a:cubicBezTo>
                  <a:pt x="10021" y="11964"/>
                  <a:pt x="10021" y="11973"/>
                  <a:pt x="10021" y="11981"/>
                </a:cubicBezTo>
              </a:path>
              <a:path w="7864" h="324">
                <a:moveTo>
                  <a:pt x="10021" y="11956"/>
                </a:moveTo>
                <a:cubicBezTo>
                  <a:pt x="10038" y="11981"/>
                  <a:pt x="10054" y="12005"/>
                  <a:pt x="10071" y="12030"/>
                </a:cubicBezTo>
              </a:path>
              <a:path w="7864" h="324">
                <a:moveTo>
                  <a:pt x="10071" y="12030"/>
                </a:moveTo>
                <a:cubicBezTo>
                  <a:pt x="10054" y="12030"/>
                  <a:pt x="10038" y="12030"/>
                  <a:pt x="10021" y="12030"/>
                </a:cubicBezTo>
              </a:path>
              <a:path w="7864" h="324">
                <a:moveTo>
                  <a:pt x="10021" y="12005"/>
                </a:moveTo>
                <a:cubicBezTo>
                  <a:pt x="10021" y="12013"/>
                  <a:pt x="10021" y="12022"/>
                  <a:pt x="10021" y="12030"/>
                </a:cubicBezTo>
              </a:path>
              <a:path w="7864" h="324">
                <a:moveTo>
                  <a:pt x="10021" y="12005"/>
                </a:moveTo>
                <a:cubicBezTo>
                  <a:pt x="10029" y="12013"/>
                  <a:pt x="10038" y="12022"/>
                  <a:pt x="10046" y="12030"/>
                </a:cubicBezTo>
              </a:path>
              <a:path w="7864" h="324">
                <a:moveTo>
                  <a:pt x="10046" y="12030"/>
                </a:moveTo>
                <a:cubicBezTo>
                  <a:pt x="10054" y="12030"/>
                  <a:pt x="10063" y="12030"/>
                  <a:pt x="10071" y="12030"/>
                </a:cubicBezTo>
              </a:path>
              <a:path w="7864" h="324">
                <a:moveTo>
                  <a:pt x="10269" y="12005"/>
                </a:moveTo>
                <a:lnTo>
                  <a:pt x="10269" y="12005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17"/>
          <p:cNvSpPr/>
          <p:nvPr/>
        </p:nvSpPr>
        <p:spPr>
          <a:xfrm>
            <a:off x="3813120" y="4295880"/>
            <a:ext cx="874800" cy="54000"/>
          </a:xfrm>
          <a:custGeom>
            <a:avLst/>
            <a:gdLst/>
            <a:ahLst/>
            <a:rect l="l" t="t" r="r" b="b"/>
            <a:pathLst>
              <a:path w="2431" h="150">
                <a:moveTo>
                  <a:pt x="10592" y="12055"/>
                </a:moveTo>
                <a:cubicBezTo>
                  <a:pt x="10600" y="12063"/>
                  <a:pt x="10608" y="12072"/>
                  <a:pt x="10616" y="12080"/>
                </a:cubicBezTo>
              </a:path>
              <a:path w="2431" h="150">
                <a:moveTo>
                  <a:pt x="10716" y="12055"/>
                </a:moveTo>
                <a:cubicBezTo>
                  <a:pt x="10724" y="12063"/>
                  <a:pt x="10732" y="12072"/>
                  <a:pt x="10740" y="12080"/>
                </a:cubicBezTo>
              </a:path>
              <a:path w="2431" h="150">
                <a:moveTo>
                  <a:pt x="10864" y="12005"/>
                </a:moveTo>
                <a:cubicBezTo>
                  <a:pt x="10887" y="11983"/>
                  <a:pt x="10892" y="11975"/>
                  <a:pt x="10914" y="11981"/>
                </a:cubicBezTo>
              </a:path>
              <a:path w="2431" h="150">
                <a:moveTo>
                  <a:pt x="11112" y="11981"/>
                </a:moveTo>
                <a:cubicBezTo>
                  <a:pt x="11129" y="11989"/>
                  <a:pt x="11145" y="11997"/>
                  <a:pt x="11162" y="12005"/>
                </a:cubicBezTo>
              </a:path>
              <a:path w="2431" h="150">
                <a:moveTo>
                  <a:pt x="11361" y="11931"/>
                </a:moveTo>
                <a:cubicBezTo>
                  <a:pt x="11369" y="11931"/>
                  <a:pt x="11377" y="11931"/>
                  <a:pt x="11385" y="11931"/>
                </a:cubicBezTo>
              </a:path>
              <a:path w="2431" h="150">
                <a:moveTo>
                  <a:pt x="11559" y="11981"/>
                </a:moveTo>
                <a:cubicBezTo>
                  <a:pt x="11600" y="11981"/>
                  <a:pt x="11617" y="11972"/>
                  <a:pt x="11609" y="12005"/>
                </a:cubicBezTo>
              </a:path>
              <a:path w="2431" h="150">
                <a:moveTo>
                  <a:pt x="11832" y="12055"/>
                </a:moveTo>
                <a:cubicBezTo>
                  <a:pt x="11848" y="12047"/>
                  <a:pt x="11865" y="12038"/>
                  <a:pt x="11881" y="12030"/>
                </a:cubicBezTo>
              </a:path>
              <a:path w="2431" h="150">
                <a:moveTo>
                  <a:pt x="12030" y="11981"/>
                </a:moveTo>
                <a:cubicBezTo>
                  <a:pt x="12047" y="11973"/>
                  <a:pt x="12063" y="11964"/>
                  <a:pt x="12080" y="11956"/>
                </a:cubicBezTo>
              </a:path>
              <a:path w="2431" h="150">
                <a:moveTo>
                  <a:pt x="12254" y="11981"/>
                </a:moveTo>
                <a:cubicBezTo>
                  <a:pt x="12262" y="11981"/>
                  <a:pt x="12270" y="11981"/>
                  <a:pt x="12278" y="11981"/>
                </a:cubicBezTo>
              </a:path>
              <a:path w="2431" h="150">
                <a:moveTo>
                  <a:pt x="12452" y="12055"/>
                </a:moveTo>
                <a:cubicBezTo>
                  <a:pt x="12469" y="12055"/>
                  <a:pt x="12485" y="12055"/>
                  <a:pt x="12502" y="12055"/>
                </a:cubicBezTo>
              </a:path>
              <a:path w="2431" h="150">
                <a:moveTo>
                  <a:pt x="12650" y="12080"/>
                </a:moveTo>
                <a:cubicBezTo>
                  <a:pt x="12708" y="12061"/>
                  <a:pt x="12715" y="12052"/>
                  <a:pt x="12750" y="12055"/>
                </a:cubicBezTo>
              </a:path>
              <a:path w="2431" h="150">
                <a:moveTo>
                  <a:pt x="12874" y="12055"/>
                </a:moveTo>
                <a:cubicBezTo>
                  <a:pt x="12874" y="12014"/>
                  <a:pt x="12874" y="12006"/>
                  <a:pt x="12874" y="11981"/>
                </a:cubicBezTo>
              </a:path>
              <a:path w="2431" h="150">
                <a:moveTo>
                  <a:pt x="12998" y="11956"/>
                </a:moveTo>
                <a:cubicBezTo>
                  <a:pt x="13006" y="11956"/>
                  <a:pt x="13014" y="11956"/>
                  <a:pt x="13022" y="119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18"/>
          <p:cNvSpPr/>
          <p:nvPr/>
        </p:nvSpPr>
        <p:spPr>
          <a:xfrm>
            <a:off x="3537000" y="4160880"/>
            <a:ext cx="98280" cy="260280"/>
          </a:xfrm>
          <a:custGeom>
            <a:avLst/>
            <a:gdLst/>
            <a:ahLst/>
            <a:rect l="l" t="t" r="r" b="b"/>
            <a:pathLst>
              <a:path w="274" h="720">
                <a:moveTo>
                  <a:pt x="9823" y="11559"/>
                </a:moveTo>
                <a:cubicBezTo>
                  <a:pt x="9842" y="11631"/>
                  <a:pt x="9860" y="11711"/>
                  <a:pt x="9872" y="11782"/>
                </a:cubicBezTo>
                <a:cubicBezTo>
                  <a:pt x="9892" y="11903"/>
                  <a:pt x="9877" y="12035"/>
                  <a:pt x="9897" y="12154"/>
                </a:cubicBezTo>
                <a:cubicBezTo>
                  <a:pt x="9907" y="12213"/>
                  <a:pt x="9908" y="12231"/>
                  <a:pt x="9947" y="12278"/>
                </a:cubicBezTo>
                <a:cubicBezTo>
                  <a:pt x="9955" y="12184"/>
                  <a:pt x="9971" y="12101"/>
                  <a:pt x="9971" y="12005"/>
                </a:cubicBezTo>
                <a:cubicBezTo>
                  <a:pt x="9971" y="11907"/>
                  <a:pt x="9980" y="11823"/>
                  <a:pt x="9947" y="11733"/>
                </a:cubicBezTo>
                <a:cubicBezTo>
                  <a:pt x="9898" y="11812"/>
                  <a:pt x="9954" y="11842"/>
                  <a:pt x="9971" y="11931"/>
                </a:cubicBezTo>
                <a:cubicBezTo>
                  <a:pt x="9985" y="12006"/>
                  <a:pt x="10011" y="12059"/>
                  <a:pt x="10046" y="12129"/>
                </a:cubicBezTo>
                <a:cubicBezTo>
                  <a:pt x="10054" y="12146"/>
                  <a:pt x="10063" y="12162"/>
                  <a:pt x="10071" y="12179"/>
                </a:cubicBezTo>
                <a:cubicBezTo>
                  <a:pt x="10091" y="12139"/>
                  <a:pt x="10071" y="12095"/>
                  <a:pt x="10071" y="12030"/>
                </a:cubicBezTo>
                <a:cubicBezTo>
                  <a:pt x="10071" y="11952"/>
                  <a:pt x="10046" y="11878"/>
                  <a:pt x="10021" y="11807"/>
                </a:cubicBezTo>
                <a:cubicBezTo>
                  <a:pt x="9995" y="11733"/>
                  <a:pt x="9974" y="11711"/>
                  <a:pt x="9922" y="116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19"/>
          <p:cNvSpPr/>
          <p:nvPr/>
        </p:nvSpPr>
        <p:spPr>
          <a:xfrm>
            <a:off x="2857680" y="4125960"/>
            <a:ext cx="80640" cy="268200"/>
          </a:xfrm>
          <a:custGeom>
            <a:avLst/>
            <a:gdLst/>
            <a:ahLst/>
            <a:rect l="l" t="t" r="r" b="b"/>
            <a:pathLst>
              <a:path w="224" h="745">
                <a:moveTo>
                  <a:pt x="7938" y="11534"/>
                </a:moveTo>
                <a:cubicBezTo>
                  <a:pt x="7981" y="11459"/>
                  <a:pt x="7958" y="11463"/>
                  <a:pt x="8037" y="11485"/>
                </a:cubicBezTo>
                <a:cubicBezTo>
                  <a:pt x="8063" y="11561"/>
                  <a:pt x="8062" y="11626"/>
                  <a:pt x="8062" y="11708"/>
                </a:cubicBezTo>
                <a:cubicBezTo>
                  <a:pt x="8062" y="11851"/>
                  <a:pt x="8037" y="12021"/>
                  <a:pt x="8086" y="12154"/>
                </a:cubicBezTo>
                <a:cubicBezTo>
                  <a:pt x="8086" y="12080"/>
                  <a:pt x="8102" y="12023"/>
                  <a:pt x="8111" y="11956"/>
                </a:cubicBezTo>
                <a:cubicBezTo>
                  <a:pt x="8123" y="11863"/>
                  <a:pt x="8121" y="11772"/>
                  <a:pt x="8136" y="11683"/>
                </a:cubicBezTo>
                <a:cubicBezTo>
                  <a:pt x="8144" y="11637"/>
                  <a:pt x="8136" y="11581"/>
                  <a:pt x="8136" y="11534"/>
                </a:cubicBezTo>
                <a:cubicBezTo>
                  <a:pt x="8178" y="11513"/>
                  <a:pt x="8136" y="11588"/>
                  <a:pt x="8136" y="11658"/>
                </a:cubicBezTo>
                <a:cubicBezTo>
                  <a:pt x="8136" y="11819"/>
                  <a:pt x="8130" y="11976"/>
                  <a:pt x="8111" y="12129"/>
                </a:cubicBezTo>
                <a:cubicBezTo>
                  <a:pt x="8111" y="12154"/>
                  <a:pt x="8111" y="12179"/>
                  <a:pt x="8111" y="122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20"/>
          <p:cNvSpPr/>
          <p:nvPr/>
        </p:nvSpPr>
        <p:spPr>
          <a:xfrm>
            <a:off x="3919680" y="5313240"/>
            <a:ext cx="1144440" cy="465120"/>
          </a:xfrm>
          <a:custGeom>
            <a:avLst/>
            <a:gdLst/>
            <a:ahLst/>
            <a:rect l="l" t="t" r="r" b="b"/>
            <a:pathLst>
              <a:path w="3176" h="1291">
                <a:moveTo>
                  <a:pt x="11534" y="15106"/>
                </a:moveTo>
                <a:cubicBezTo>
                  <a:pt x="11455" y="15186"/>
                  <a:pt x="11384" y="15270"/>
                  <a:pt x="11311" y="15354"/>
                </a:cubicBezTo>
                <a:cubicBezTo>
                  <a:pt x="11231" y="15447"/>
                  <a:pt x="11206" y="15559"/>
                  <a:pt x="11137" y="15652"/>
                </a:cubicBezTo>
                <a:cubicBezTo>
                  <a:pt x="11112" y="15686"/>
                  <a:pt x="11069" y="15720"/>
                  <a:pt x="11038" y="15751"/>
                </a:cubicBezTo>
              </a:path>
              <a:path w="3176" h="1291">
                <a:moveTo>
                  <a:pt x="10914" y="15528"/>
                </a:moveTo>
                <a:cubicBezTo>
                  <a:pt x="10893" y="15687"/>
                  <a:pt x="10892" y="15718"/>
                  <a:pt x="10914" y="15850"/>
                </a:cubicBezTo>
                <a:cubicBezTo>
                  <a:pt x="10925" y="15915"/>
                  <a:pt x="10906" y="15973"/>
                  <a:pt x="10964" y="16024"/>
                </a:cubicBezTo>
                <a:cubicBezTo>
                  <a:pt x="11024" y="16076"/>
                  <a:pt x="11132" y="15997"/>
                  <a:pt x="11187" y="15974"/>
                </a:cubicBezTo>
              </a:path>
              <a:path w="3176" h="1291">
                <a:moveTo>
                  <a:pt x="11757" y="15329"/>
                </a:moveTo>
                <a:cubicBezTo>
                  <a:pt x="11749" y="15415"/>
                  <a:pt x="11733" y="15488"/>
                  <a:pt x="11733" y="15577"/>
                </a:cubicBezTo>
                <a:cubicBezTo>
                  <a:pt x="11733" y="15651"/>
                  <a:pt x="11693" y="15826"/>
                  <a:pt x="11733" y="15751"/>
                </a:cubicBezTo>
                <a:cubicBezTo>
                  <a:pt x="11770" y="15682"/>
                  <a:pt x="11764" y="15606"/>
                  <a:pt x="11782" y="15528"/>
                </a:cubicBezTo>
                <a:cubicBezTo>
                  <a:pt x="11812" y="15400"/>
                  <a:pt x="11847" y="15274"/>
                  <a:pt x="11906" y="15156"/>
                </a:cubicBezTo>
                <a:cubicBezTo>
                  <a:pt x="11943" y="15082"/>
                  <a:pt x="11979" y="15050"/>
                  <a:pt x="12055" y="15106"/>
                </a:cubicBezTo>
                <a:cubicBezTo>
                  <a:pt x="12101" y="15140"/>
                  <a:pt x="12080" y="15228"/>
                  <a:pt x="12080" y="15280"/>
                </a:cubicBezTo>
                <a:cubicBezTo>
                  <a:pt x="12080" y="15352"/>
                  <a:pt x="12053" y="15381"/>
                  <a:pt x="12005" y="15429"/>
                </a:cubicBezTo>
                <a:cubicBezTo>
                  <a:pt x="11944" y="15490"/>
                  <a:pt x="12039" y="15523"/>
                  <a:pt x="12080" y="15553"/>
                </a:cubicBezTo>
                <a:cubicBezTo>
                  <a:pt x="12131" y="15591"/>
                  <a:pt x="12167" y="15604"/>
                  <a:pt x="12229" y="15627"/>
                </a:cubicBezTo>
              </a:path>
              <a:path w="3176" h="1291">
                <a:moveTo>
                  <a:pt x="12353" y="15478"/>
                </a:moveTo>
                <a:cubicBezTo>
                  <a:pt x="12374" y="15395"/>
                  <a:pt x="12386" y="15320"/>
                  <a:pt x="12378" y="15255"/>
                </a:cubicBezTo>
                <a:cubicBezTo>
                  <a:pt x="12378" y="15238"/>
                  <a:pt x="12378" y="15222"/>
                  <a:pt x="12378" y="15205"/>
                </a:cubicBezTo>
                <a:cubicBezTo>
                  <a:pt x="12289" y="15218"/>
                  <a:pt x="12283" y="15235"/>
                  <a:pt x="12278" y="15329"/>
                </a:cubicBezTo>
                <a:cubicBezTo>
                  <a:pt x="12274" y="15415"/>
                  <a:pt x="12291" y="15476"/>
                  <a:pt x="12328" y="15553"/>
                </a:cubicBezTo>
                <a:cubicBezTo>
                  <a:pt x="12344" y="15587"/>
                  <a:pt x="12425" y="15685"/>
                  <a:pt x="12477" y="15652"/>
                </a:cubicBezTo>
                <a:cubicBezTo>
                  <a:pt x="12593" y="15577"/>
                  <a:pt x="12594" y="15488"/>
                  <a:pt x="12650" y="15379"/>
                </a:cubicBezTo>
                <a:cubicBezTo>
                  <a:pt x="12726" y="15233"/>
                  <a:pt x="12725" y="15150"/>
                  <a:pt x="12725" y="14982"/>
                </a:cubicBezTo>
                <a:cubicBezTo>
                  <a:pt x="12725" y="14907"/>
                  <a:pt x="12710" y="14900"/>
                  <a:pt x="12700" y="14833"/>
                </a:cubicBezTo>
                <a:cubicBezTo>
                  <a:pt x="12661" y="14881"/>
                  <a:pt x="12634" y="14945"/>
                  <a:pt x="12626" y="15007"/>
                </a:cubicBezTo>
                <a:cubicBezTo>
                  <a:pt x="12613" y="15111"/>
                  <a:pt x="12639" y="15205"/>
                  <a:pt x="12650" y="15304"/>
                </a:cubicBezTo>
                <a:cubicBezTo>
                  <a:pt x="12660" y="15402"/>
                  <a:pt x="12680" y="15462"/>
                  <a:pt x="12700" y="15553"/>
                </a:cubicBezTo>
                <a:cubicBezTo>
                  <a:pt x="12700" y="15594"/>
                  <a:pt x="12692" y="15610"/>
                  <a:pt x="12725" y="15602"/>
                </a:cubicBezTo>
              </a:path>
              <a:path w="3176" h="1291">
                <a:moveTo>
                  <a:pt x="13022" y="15131"/>
                </a:moveTo>
                <a:cubicBezTo>
                  <a:pt x="13022" y="15264"/>
                  <a:pt x="13028" y="15358"/>
                  <a:pt x="13047" y="15478"/>
                </a:cubicBezTo>
                <a:cubicBezTo>
                  <a:pt x="13047" y="15528"/>
                  <a:pt x="13047" y="15544"/>
                  <a:pt x="13047" y="15577"/>
                </a:cubicBezTo>
                <a:cubicBezTo>
                  <a:pt x="13097" y="15516"/>
                  <a:pt x="13102" y="15456"/>
                  <a:pt x="13122" y="15379"/>
                </a:cubicBezTo>
                <a:cubicBezTo>
                  <a:pt x="13154" y="15255"/>
                  <a:pt x="13146" y="15130"/>
                  <a:pt x="13171" y="15007"/>
                </a:cubicBezTo>
                <a:cubicBezTo>
                  <a:pt x="13187" y="14926"/>
                  <a:pt x="13210" y="14859"/>
                  <a:pt x="13221" y="14784"/>
                </a:cubicBezTo>
                <a:cubicBezTo>
                  <a:pt x="13221" y="14872"/>
                  <a:pt x="13237" y="14948"/>
                  <a:pt x="13246" y="15032"/>
                </a:cubicBezTo>
                <a:cubicBezTo>
                  <a:pt x="13257" y="15126"/>
                  <a:pt x="13266" y="15215"/>
                  <a:pt x="13295" y="15304"/>
                </a:cubicBezTo>
                <a:cubicBezTo>
                  <a:pt x="13325" y="15215"/>
                  <a:pt x="13324" y="15124"/>
                  <a:pt x="13345" y="15032"/>
                </a:cubicBezTo>
                <a:cubicBezTo>
                  <a:pt x="13362" y="14955"/>
                  <a:pt x="13376" y="14885"/>
                  <a:pt x="13395" y="14808"/>
                </a:cubicBezTo>
                <a:cubicBezTo>
                  <a:pt x="13395" y="14680"/>
                  <a:pt x="13416" y="14931"/>
                  <a:pt x="13419" y="14957"/>
                </a:cubicBezTo>
                <a:cubicBezTo>
                  <a:pt x="13431" y="15067"/>
                  <a:pt x="13423" y="15205"/>
                  <a:pt x="13469" y="15304"/>
                </a:cubicBezTo>
                <a:cubicBezTo>
                  <a:pt x="13477" y="15312"/>
                  <a:pt x="13486" y="15321"/>
                  <a:pt x="13494" y="15329"/>
                </a:cubicBezTo>
              </a:path>
              <a:path w="3176" h="1291">
                <a:moveTo>
                  <a:pt x="13618" y="15280"/>
                </a:moveTo>
                <a:cubicBezTo>
                  <a:pt x="13636" y="15403"/>
                  <a:pt x="13644" y="15511"/>
                  <a:pt x="13643" y="15429"/>
                </a:cubicBezTo>
              </a:path>
              <a:path w="3176" h="1291">
                <a:moveTo>
                  <a:pt x="13667" y="14808"/>
                </a:moveTo>
                <a:cubicBezTo>
                  <a:pt x="13715" y="14856"/>
                  <a:pt x="13714" y="14862"/>
                  <a:pt x="13742" y="14932"/>
                </a:cubicBezTo>
              </a:path>
              <a:path w="3176" h="1291">
                <a:moveTo>
                  <a:pt x="13791" y="15379"/>
                </a:moveTo>
                <a:cubicBezTo>
                  <a:pt x="13860" y="15396"/>
                  <a:pt x="13850" y="15292"/>
                  <a:pt x="13915" y="15230"/>
                </a:cubicBezTo>
                <a:cubicBezTo>
                  <a:pt x="14012" y="15138"/>
                  <a:pt x="14058" y="15205"/>
                  <a:pt x="14064" y="15304"/>
                </a:cubicBezTo>
                <a:cubicBezTo>
                  <a:pt x="14069" y="15396"/>
                  <a:pt x="14054" y="15448"/>
                  <a:pt x="14015" y="155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Ink 21"/>
          <p:cNvSpPr/>
          <p:nvPr/>
        </p:nvSpPr>
        <p:spPr>
          <a:xfrm>
            <a:off x="4357800" y="5830920"/>
            <a:ext cx="696960" cy="455760"/>
          </a:xfrm>
          <a:custGeom>
            <a:avLst/>
            <a:gdLst/>
            <a:ahLst/>
            <a:rect l="l" t="t" r="r" b="b"/>
            <a:pathLst>
              <a:path w="1935" h="1266">
                <a:moveTo>
                  <a:pt x="12328" y="16297"/>
                </a:moveTo>
                <a:cubicBezTo>
                  <a:pt x="12287" y="16326"/>
                  <a:pt x="12236" y="16356"/>
                  <a:pt x="12204" y="16396"/>
                </a:cubicBezTo>
                <a:cubicBezTo>
                  <a:pt x="12164" y="16446"/>
                  <a:pt x="12113" y="16557"/>
                  <a:pt x="12105" y="16619"/>
                </a:cubicBezTo>
                <a:cubicBezTo>
                  <a:pt x="12086" y="16768"/>
                  <a:pt x="12150" y="16945"/>
                  <a:pt x="12179" y="17090"/>
                </a:cubicBezTo>
                <a:cubicBezTo>
                  <a:pt x="12187" y="17131"/>
                  <a:pt x="12196" y="17173"/>
                  <a:pt x="12204" y="17214"/>
                </a:cubicBezTo>
              </a:path>
              <a:path w="1935" h="1266">
                <a:moveTo>
                  <a:pt x="12601" y="16297"/>
                </a:moveTo>
                <a:cubicBezTo>
                  <a:pt x="12635" y="16364"/>
                  <a:pt x="12626" y="16439"/>
                  <a:pt x="12626" y="16520"/>
                </a:cubicBezTo>
                <a:cubicBezTo>
                  <a:pt x="12626" y="16625"/>
                  <a:pt x="12606" y="16716"/>
                  <a:pt x="12601" y="16818"/>
                </a:cubicBezTo>
                <a:cubicBezTo>
                  <a:pt x="12601" y="16859"/>
                  <a:pt x="12601" y="16867"/>
                  <a:pt x="12601" y="16892"/>
                </a:cubicBezTo>
              </a:path>
              <a:path w="1935" h="1266">
                <a:moveTo>
                  <a:pt x="12774" y="17016"/>
                </a:moveTo>
                <a:cubicBezTo>
                  <a:pt x="12762" y="17121"/>
                  <a:pt x="12750" y="17193"/>
                  <a:pt x="12750" y="17289"/>
                </a:cubicBezTo>
              </a:path>
              <a:path w="1935" h="1266">
                <a:moveTo>
                  <a:pt x="12973" y="16619"/>
                </a:moveTo>
                <a:cubicBezTo>
                  <a:pt x="13047" y="16619"/>
                  <a:pt x="13122" y="16619"/>
                  <a:pt x="13196" y="16619"/>
                </a:cubicBezTo>
              </a:path>
              <a:path w="1935" h="1266">
                <a:moveTo>
                  <a:pt x="13419" y="16371"/>
                </a:moveTo>
                <a:cubicBezTo>
                  <a:pt x="13393" y="16418"/>
                  <a:pt x="13332" y="16468"/>
                  <a:pt x="13320" y="16520"/>
                </a:cubicBezTo>
                <a:cubicBezTo>
                  <a:pt x="13305" y="16584"/>
                  <a:pt x="13312" y="16676"/>
                  <a:pt x="13370" y="16718"/>
                </a:cubicBezTo>
                <a:cubicBezTo>
                  <a:pt x="13435" y="16764"/>
                  <a:pt x="13478" y="16740"/>
                  <a:pt x="13543" y="16718"/>
                </a:cubicBezTo>
              </a:path>
              <a:path w="1935" h="1266">
                <a:moveTo>
                  <a:pt x="13667" y="16272"/>
                </a:moveTo>
                <a:cubicBezTo>
                  <a:pt x="13646" y="16380"/>
                  <a:pt x="13638" y="16488"/>
                  <a:pt x="13618" y="16594"/>
                </a:cubicBezTo>
                <a:cubicBezTo>
                  <a:pt x="13588" y="16753"/>
                  <a:pt x="13616" y="16907"/>
                  <a:pt x="13593" y="17066"/>
                </a:cubicBezTo>
                <a:cubicBezTo>
                  <a:pt x="13573" y="17106"/>
                  <a:pt x="13564" y="17112"/>
                  <a:pt x="13568" y="17140"/>
                </a:cubicBezTo>
              </a:path>
              <a:path w="1935" h="1266">
                <a:moveTo>
                  <a:pt x="14015" y="16197"/>
                </a:moveTo>
                <a:cubicBezTo>
                  <a:pt x="14047" y="16343"/>
                  <a:pt x="14054" y="16495"/>
                  <a:pt x="14015" y="16644"/>
                </a:cubicBezTo>
                <a:cubicBezTo>
                  <a:pt x="13942" y="16923"/>
                  <a:pt x="13860" y="17132"/>
                  <a:pt x="13667" y="17338"/>
                </a:cubicBezTo>
                <a:cubicBezTo>
                  <a:pt x="13592" y="17414"/>
                  <a:pt x="13566" y="17440"/>
                  <a:pt x="13494" y="174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22"/>
          <p:cNvSpPr/>
          <p:nvPr/>
        </p:nvSpPr>
        <p:spPr>
          <a:xfrm>
            <a:off x="2367000" y="5857920"/>
            <a:ext cx="347760" cy="285840"/>
          </a:xfrm>
          <a:custGeom>
            <a:avLst/>
            <a:gdLst/>
            <a:ahLst/>
            <a:rect l="l" t="t" r="r" b="b"/>
            <a:pathLst>
              <a:path w="969" h="795">
                <a:moveTo>
                  <a:pt x="6573" y="16272"/>
                </a:moveTo>
                <a:cubicBezTo>
                  <a:pt x="6633" y="16323"/>
                  <a:pt x="6685" y="16414"/>
                  <a:pt x="6722" y="16495"/>
                </a:cubicBezTo>
                <a:cubicBezTo>
                  <a:pt x="6777" y="16614"/>
                  <a:pt x="6793" y="16744"/>
                  <a:pt x="6821" y="16867"/>
                </a:cubicBezTo>
                <a:cubicBezTo>
                  <a:pt x="6837" y="16941"/>
                  <a:pt x="6875" y="17009"/>
                  <a:pt x="6921" y="17066"/>
                </a:cubicBezTo>
                <a:cubicBezTo>
                  <a:pt x="6981" y="17031"/>
                  <a:pt x="7049" y="16997"/>
                  <a:pt x="7094" y="16942"/>
                </a:cubicBezTo>
                <a:cubicBezTo>
                  <a:pt x="7165" y="16855"/>
                  <a:pt x="7221" y="16754"/>
                  <a:pt x="7293" y="16669"/>
                </a:cubicBezTo>
                <a:cubicBezTo>
                  <a:pt x="7393" y="16551"/>
                  <a:pt x="7458" y="16433"/>
                  <a:pt x="7541" y="162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23"/>
          <p:cNvSpPr/>
          <p:nvPr/>
        </p:nvSpPr>
        <p:spPr>
          <a:xfrm>
            <a:off x="3963960" y="1374840"/>
            <a:ext cx="314280" cy="223920"/>
          </a:xfrm>
          <a:custGeom>
            <a:avLst/>
            <a:gdLst/>
            <a:ahLst/>
            <a:rect l="l" t="t" r="r" b="b"/>
            <a:pathLst>
              <a:path w="869" h="621">
                <a:moveTo>
                  <a:pt x="11013" y="4440"/>
                </a:moveTo>
                <a:cubicBezTo>
                  <a:pt x="11053" y="4400"/>
                  <a:pt x="11106" y="4354"/>
                  <a:pt x="11137" y="4316"/>
                </a:cubicBezTo>
                <a:cubicBezTo>
                  <a:pt x="11186" y="4255"/>
                  <a:pt x="11207" y="4163"/>
                  <a:pt x="11237" y="4093"/>
                </a:cubicBezTo>
                <a:cubicBezTo>
                  <a:pt x="11266" y="4023"/>
                  <a:pt x="11282" y="3932"/>
                  <a:pt x="11311" y="3870"/>
                </a:cubicBezTo>
                <a:cubicBezTo>
                  <a:pt x="11345" y="3797"/>
                  <a:pt x="11416" y="3832"/>
                  <a:pt x="11460" y="3870"/>
                </a:cubicBezTo>
                <a:cubicBezTo>
                  <a:pt x="11585" y="3977"/>
                  <a:pt x="11701" y="4090"/>
                  <a:pt x="11807" y="4217"/>
                </a:cubicBezTo>
                <a:cubicBezTo>
                  <a:pt x="11832" y="4250"/>
                  <a:pt x="11856" y="4283"/>
                  <a:pt x="11881" y="43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open intervals on which each function is increasing, decreasing, or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Image208"/>
          <p:cNvPicPr/>
          <p:nvPr/>
        </p:nvPicPr>
        <p:blipFill>
          <a:blip r:embed="rId1"/>
          <a:stretch/>
        </p:blipFill>
        <p:spPr>
          <a:xfrm>
            <a:off x="533520" y="1603440"/>
            <a:ext cx="7543800" cy="4435560"/>
          </a:xfrm>
          <a:prstGeom prst="rect">
            <a:avLst/>
          </a:prstGeom>
          <a:ln w="0">
            <a:noFill/>
          </a:ln>
        </p:spPr>
      </p:pic>
      <p:sp>
        <p:nvSpPr>
          <p:cNvPr id="84" name="Ink 8"/>
          <p:cNvSpPr/>
          <p:nvPr/>
        </p:nvSpPr>
        <p:spPr>
          <a:xfrm>
            <a:off x="374760" y="2697120"/>
            <a:ext cx="501480" cy="223920"/>
          </a:xfrm>
          <a:custGeom>
            <a:avLst/>
            <a:gdLst/>
            <a:ahLst/>
            <a:rect l="l" t="t" r="r" b="b"/>
            <a:pathLst>
              <a:path w="1390" h="621">
                <a:moveTo>
                  <a:pt x="1091" y="7764"/>
                </a:moveTo>
                <a:cubicBezTo>
                  <a:pt x="1082" y="7841"/>
                  <a:pt x="1067" y="7906"/>
                  <a:pt x="1067" y="7987"/>
                </a:cubicBezTo>
                <a:cubicBezTo>
                  <a:pt x="1067" y="8016"/>
                  <a:pt x="1074" y="8149"/>
                  <a:pt x="1042" y="8086"/>
                </a:cubicBezTo>
              </a:path>
              <a:path w="1390" h="621">
                <a:moveTo>
                  <a:pt x="1116" y="7516"/>
                </a:moveTo>
                <a:cubicBezTo>
                  <a:pt x="1124" y="7508"/>
                  <a:pt x="1133" y="7499"/>
                  <a:pt x="1141" y="7491"/>
                </a:cubicBezTo>
              </a:path>
              <a:path w="1390" h="621">
                <a:moveTo>
                  <a:pt x="1240" y="8062"/>
                </a:moveTo>
                <a:cubicBezTo>
                  <a:pt x="1266" y="7993"/>
                  <a:pt x="1262" y="7902"/>
                  <a:pt x="1290" y="7838"/>
                </a:cubicBezTo>
                <a:cubicBezTo>
                  <a:pt x="1298" y="7830"/>
                  <a:pt x="1307" y="7821"/>
                  <a:pt x="1315" y="7813"/>
                </a:cubicBezTo>
                <a:cubicBezTo>
                  <a:pt x="1315" y="7886"/>
                  <a:pt x="1281" y="8025"/>
                  <a:pt x="1290" y="8086"/>
                </a:cubicBezTo>
                <a:cubicBezTo>
                  <a:pt x="1301" y="8158"/>
                  <a:pt x="1313" y="8022"/>
                  <a:pt x="1315" y="7987"/>
                </a:cubicBezTo>
                <a:cubicBezTo>
                  <a:pt x="1319" y="7920"/>
                  <a:pt x="1347" y="7868"/>
                  <a:pt x="1364" y="7813"/>
                </a:cubicBezTo>
                <a:cubicBezTo>
                  <a:pt x="1372" y="7786"/>
                  <a:pt x="1404" y="7724"/>
                  <a:pt x="1439" y="7714"/>
                </a:cubicBezTo>
                <a:cubicBezTo>
                  <a:pt x="1477" y="7703"/>
                  <a:pt x="1551" y="7749"/>
                  <a:pt x="1563" y="7789"/>
                </a:cubicBezTo>
                <a:cubicBezTo>
                  <a:pt x="1583" y="7859"/>
                  <a:pt x="1567" y="7944"/>
                  <a:pt x="1588" y="8012"/>
                </a:cubicBezTo>
                <a:cubicBezTo>
                  <a:pt x="1613" y="8096"/>
                  <a:pt x="1616" y="8092"/>
                  <a:pt x="1662" y="8012"/>
                </a:cubicBezTo>
              </a:path>
              <a:path w="1390" h="621">
                <a:moveTo>
                  <a:pt x="2009" y="7739"/>
                </a:moveTo>
                <a:cubicBezTo>
                  <a:pt x="2076" y="7806"/>
                  <a:pt x="1971" y="7701"/>
                  <a:pt x="1960" y="7689"/>
                </a:cubicBezTo>
                <a:cubicBezTo>
                  <a:pt x="1902" y="7747"/>
                  <a:pt x="1859" y="7800"/>
                  <a:pt x="1811" y="7863"/>
                </a:cubicBezTo>
                <a:cubicBezTo>
                  <a:pt x="1752" y="7942"/>
                  <a:pt x="1756" y="8001"/>
                  <a:pt x="1811" y="8086"/>
                </a:cubicBezTo>
                <a:cubicBezTo>
                  <a:pt x="1851" y="8148"/>
                  <a:pt x="1964" y="8108"/>
                  <a:pt x="2009" y="8086"/>
                </a:cubicBezTo>
                <a:cubicBezTo>
                  <a:pt x="2026" y="8078"/>
                  <a:pt x="2042" y="8070"/>
                  <a:pt x="2059" y="8062"/>
                </a:cubicBezTo>
              </a:path>
              <a:path w="1390" h="621">
                <a:moveTo>
                  <a:pt x="2332" y="7640"/>
                </a:moveTo>
                <a:cubicBezTo>
                  <a:pt x="2324" y="7648"/>
                  <a:pt x="2315" y="7657"/>
                  <a:pt x="2307" y="7665"/>
                </a:cubicBezTo>
                <a:cubicBezTo>
                  <a:pt x="2374" y="7681"/>
                  <a:pt x="2362" y="7597"/>
                  <a:pt x="2307" y="7640"/>
                </a:cubicBezTo>
                <a:cubicBezTo>
                  <a:pt x="2279" y="7668"/>
                  <a:pt x="2270" y="7681"/>
                  <a:pt x="2282" y="7714"/>
                </a:cubicBezTo>
              </a:path>
              <a:path w="1390" h="621">
                <a:moveTo>
                  <a:pt x="2381" y="8012"/>
                </a:moveTo>
                <a:cubicBezTo>
                  <a:pt x="2381" y="8029"/>
                  <a:pt x="2381" y="8045"/>
                  <a:pt x="2381" y="8062"/>
                </a:cubicBezTo>
                <a:cubicBezTo>
                  <a:pt x="2408" y="8035"/>
                  <a:pt x="2492" y="7932"/>
                  <a:pt x="2381" y="7962"/>
                </a:cubicBezTo>
                <a:cubicBezTo>
                  <a:pt x="2328" y="7977"/>
                  <a:pt x="2344" y="8012"/>
                  <a:pt x="2356" y="8037"/>
                </a:cubicBezTo>
                <a:cubicBezTo>
                  <a:pt x="2391" y="7979"/>
                  <a:pt x="2381" y="7979"/>
                  <a:pt x="2356" y="79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Ink 9"/>
          <p:cNvSpPr/>
          <p:nvPr/>
        </p:nvSpPr>
        <p:spPr>
          <a:xfrm>
            <a:off x="990720" y="2554200"/>
            <a:ext cx="546120" cy="482760"/>
          </a:xfrm>
          <a:custGeom>
            <a:avLst/>
            <a:gdLst/>
            <a:ahLst/>
            <a:rect l="l" t="t" r="r" b="b"/>
            <a:pathLst>
              <a:path w="1514" h="1341">
                <a:moveTo>
                  <a:pt x="3225" y="7119"/>
                </a:moveTo>
                <a:cubicBezTo>
                  <a:pt x="3170" y="7086"/>
                  <a:pt x="3119" y="7094"/>
                  <a:pt x="3051" y="7094"/>
                </a:cubicBezTo>
                <a:cubicBezTo>
                  <a:pt x="2970" y="7094"/>
                  <a:pt x="2879" y="7115"/>
                  <a:pt x="2803" y="7144"/>
                </a:cubicBezTo>
                <a:cubicBezTo>
                  <a:pt x="2786" y="7152"/>
                  <a:pt x="2770" y="7161"/>
                  <a:pt x="2753" y="7169"/>
                </a:cubicBezTo>
                <a:cubicBezTo>
                  <a:pt x="2795" y="7240"/>
                  <a:pt x="2837" y="7307"/>
                  <a:pt x="2853" y="7392"/>
                </a:cubicBezTo>
                <a:cubicBezTo>
                  <a:pt x="2873" y="7501"/>
                  <a:pt x="2844" y="7613"/>
                  <a:pt x="2828" y="7714"/>
                </a:cubicBezTo>
                <a:cubicBezTo>
                  <a:pt x="2814" y="7801"/>
                  <a:pt x="2807" y="7900"/>
                  <a:pt x="2803" y="7987"/>
                </a:cubicBezTo>
                <a:cubicBezTo>
                  <a:pt x="2801" y="8027"/>
                  <a:pt x="2779" y="8197"/>
                  <a:pt x="2828" y="8210"/>
                </a:cubicBezTo>
                <a:cubicBezTo>
                  <a:pt x="2930" y="8238"/>
                  <a:pt x="3128" y="8221"/>
                  <a:pt x="3225" y="8186"/>
                </a:cubicBezTo>
              </a:path>
              <a:path w="1514" h="1341">
                <a:moveTo>
                  <a:pt x="3125" y="7739"/>
                </a:moveTo>
                <a:cubicBezTo>
                  <a:pt x="3183" y="7739"/>
                  <a:pt x="3204" y="7742"/>
                  <a:pt x="3249" y="7714"/>
                </a:cubicBezTo>
              </a:path>
              <a:path w="1514" h="1341">
                <a:moveTo>
                  <a:pt x="3373" y="7491"/>
                </a:moveTo>
                <a:cubicBezTo>
                  <a:pt x="3411" y="7415"/>
                  <a:pt x="3442" y="7345"/>
                  <a:pt x="3547" y="7367"/>
                </a:cubicBezTo>
                <a:cubicBezTo>
                  <a:pt x="3656" y="7390"/>
                  <a:pt x="3609" y="7500"/>
                  <a:pt x="3572" y="7565"/>
                </a:cubicBezTo>
                <a:cubicBezTo>
                  <a:pt x="3546" y="7611"/>
                  <a:pt x="3486" y="7632"/>
                  <a:pt x="3448" y="7665"/>
                </a:cubicBezTo>
                <a:cubicBezTo>
                  <a:pt x="3422" y="7688"/>
                  <a:pt x="3362" y="7762"/>
                  <a:pt x="3398" y="7689"/>
                </a:cubicBezTo>
                <a:cubicBezTo>
                  <a:pt x="3461" y="7689"/>
                  <a:pt x="3523" y="7675"/>
                  <a:pt x="3572" y="7714"/>
                </a:cubicBezTo>
                <a:cubicBezTo>
                  <a:pt x="3622" y="7754"/>
                  <a:pt x="3658" y="7799"/>
                  <a:pt x="3671" y="7863"/>
                </a:cubicBezTo>
                <a:cubicBezTo>
                  <a:pt x="3681" y="7913"/>
                  <a:pt x="3686" y="8039"/>
                  <a:pt x="3621" y="8062"/>
                </a:cubicBezTo>
                <a:cubicBezTo>
                  <a:pt x="3553" y="8087"/>
                  <a:pt x="3519" y="8082"/>
                  <a:pt x="3448" y="8062"/>
                </a:cubicBezTo>
                <a:cubicBezTo>
                  <a:pt x="3415" y="8054"/>
                  <a:pt x="3382" y="8045"/>
                  <a:pt x="3349" y="8037"/>
                </a:cubicBezTo>
              </a:path>
              <a:path w="1514" h="1341">
                <a:moveTo>
                  <a:pt x="3944" y="8111"/>
                </a:moveTo>
                <a:cubicBezTo>
                  <a:pt x="3938" y="8212"/>
                  <a:pt x="3919" y="8263"/>
                  <a:pt x="3919" y="8359"/>
                </a:cubicBezTo>
                <a:cubicBezTo>
                  <a:pt x="3919" y="8404"/>
                  <a:pt x="3922" y="8417"/>
                  <a:pt x="3894" y="8434"/>
                </a:cubicBezTo>
              </a:path>
              <a:path w="1514" h="1341">
                <a:moveTo>
                  <a:pt x="4018" y="7689"/>
                </a:moveTo>
                <a:cubicBezTo>
                  <a:pt x="4101" y="7689"/>
                  <a:pt x="4183" y="7689"/>
                  <a:pt x="4266" y="76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10"/>
          <p:cNvSpPr/>
          <p:nvPr/>
        </p:nvSpPr>
        <p:spPr>
          <a:xfrm>
            <a:off x="1643040" y="2517840"/>
            <a:ext cx="911160" cy="430200"/>
          </a:xfrm>
          <a:custGeom>
            <a:avLst/>
            <a:gdLst/>
            <a:ahLst/>
            <a:rect l="l" t="t" r="r" b="b"/>
            <a:pathLst>
              <a:path w="2531" h="1192">
                <a:moveTo>
                  <a:pt x="4564" y="7392"/>
                </a:moveTo>
                <a:cubicBezTo>
                  <a:pt x="4564" y="7584"/>
                  <a:pt x="4558" y="7778"/>
                  <a:pt x="4589" y="7962"/>
                </a:cubicBezTo>
                <a:cubicBezTo>
                  <a:pt x="4599" y="8020"/>
                  <a:pt x="4584" y="8037"/>
                  <a:pt x="4614" y="8086"/>
                </a:cubicBezTo>
              </a:path>
              <a:path w="2531" h="1192">
                <a:moveTo>
                  <a:pt x="4614" y="6995"/>
                </a:moveTo>
                <a:cubicBezTo>
                  <a:pt x="4713" y="7075"/>
                  <a:pt x="4745" y="7121"/>
                  <a:pt x="4787" y="7243"/>
                </a:cubicBezTo>
                <a:cubicBezTo>
                  <a:pt x="4827" y="7359"/>
                  <a:pt x="4871" y="7493"/>
                  <a:pt x="4887" y="7615"/>
                </a:cubicBezTo>
                <a:cubicBezTo>
                  <a:pt x="4904" y="7742"/>
                  <a:pt x="4876" y="7866"/>
                  <a:pt x="4862" y="7987"/>
                </a:cubicBezTo>
                <a:cubicBezTo>
                  <a:pt x="4853" y="8066"/>
                  <a:pt x="4845" y="8112"/>
                  <a:pt x="4812" y="8186"/>
                </a:cubicBezTo>
              </a:path>
              <a:path w="2531" h="1192">
                <a:moveTo>
                  <a:pt x="5060" y="7243"/>
                </a:moveTo>
                <a:cubicBezTo>
                  <a:pt x="5068" y="7235"/>
                  <a:pt x="5077" y="7226"/>
                  <a:pt x="5085" y="7218"/>
                </a:cubicBezTo>
                <a:cubicBezTo>
                  <a:pt x="5121" y="7278"/>
                  <a:pt x="5110" y="7343"/>
                  <a:pt x="5110" y="7417"/>
                </a:cubicBezTo>
                <a:cubicBezTo>
                  <a:pt x="5110" y="7506"/>
                  <a:pt x="5124" y="7583"/>
                  <a:pt x="5135" y="7665"/>
                </a:cubicBezTo>
                <a:cubicBezTo>
                  <a:pt x="5146" y="7748"/>
                  <a:pt x="5155" y="7831"/>
                  <a:pt x="5159" y="7913"/>
                </a:cubicBezTo>
                <a:cubicBezTo>
                  <a:pt x="5162" y="7982"/>
                  <a:pt x="5187" y="8034"/>
                  <a:pt x="5234" y="8086"/>
                </a:cubicBezTo>
                <a:cubicBezTo>
                  <a:pt x="5283" y="8140"/>
                  <a:pt x="5366" y="8114"/>
                  <a:pt x="5407" y="8062"/>
                </a:cubicBezTo>
                <a:cubicBezTo>
                  <a:pt x="5468" y="7985"/>
                  <a:pt x="5480" y="7947"/>
                  <a:pt x="5507" y="7863"/>
                </a:cubicBezTo>
                <a:cubicBezTo>
                  <a:pt x="5528" y="7796"/>
                  <a:pt x="5552" y="7735"/>
                  <a:pt x="5556" y="7665"/>
                </a:cubicBezTo>
                <a:cubicBezTo>
                  <a:pt x="5561" y="7568"/>
                  <a:pt x="5548" y="7475"/>
                  <a:pt x="5531" y="7392"/>
                </a:cubicBezTo>
                <a:cubicBezTo>
                  <a:pt x="5522" y="7347"/>
                  <a:pt x="5531" y="7289"/>
                  <a:pt x="5531" y="7243"/>
                </a:cubicBezTo>
              </a:path>
              <a:path w="2531" h="1192">
                <a:moveTo>
                  <a:pt x="5829" y="7020"/>
                </a:moveTo>
                <a:cubicBezTo>
                  <a:pt x="5862" y="7074"/>
                  <a:pt x="5850" y="7130"/>
                  <a:pt x="5829" y="7193"/>
                </a:cubicBezTo>
                <a:cubicBezTo>
                  <a:pt x="5796" y="7291"/>
                  <a:pt x="5761" y="7397"/>
                  <a:pt x="5730" y="7491"/>
                </a:cubicBezTo>
                <a:cubicBezTo>
                  <a:pt x="5706" y="7564"/>
                  <a:pt x="5684" y="7635"/>
                  <a:pt x="5680" y="7714"/>
                </a:cubicBezTo>
                <a:cubicBezTo>
                  <a:pt x="5676" y="7781"/>
                  <a:pt x="5680" y="7879"/>
                  <a:pt x="5705" y="7938"/>
                </a:cubicBezTo>
                <a:cubicBezTo>
                  <a:pt x="5733" y="8003"/>
                  <a:pt x="5766" y="8028"/>
                  <a:pt x="5829" y="8037"/>
                </a:cubicBezTo>
              </a:path>
              <a:path w="2531" h="1192">
                <a:moveTo>
                  <a:pt x="6028" y="7317"/>
                </a:moveTo>
                <a:cubicBezTo>
                  <a:pt x="6028" y="7573"/>
                  <a:pt x="6028" y="7830"/>
                  <a:pt x="6028" y="8086"/>
                </a:cubicBezTo>
              </a:path>
              <a:path w="2531" h="1192">
                <a:moveTo>
                  <a:pt x="6276" y="7838"/>
                </a:moveTo>
                <a:cubicBezTo>
                  <a:pt x="6276" y="7946"/>
                  <a:pt x="6276" y="8053"/>
                  <a:pt x="6276" y="8161"/>
                </a:cubicBezTo>
              </a:path>
              <a:path w="2531" h="1192">
                <a:moveTo>
                  <a:pt x="6623" y="7590"/>
                </a:moveTo>
                <a:cubicBezTo>
                  <a:pt x="6644" y="7487"/>
                  <a:pt x="6654" y="7461"/>
                  <a:pt x="6623" y="7367"/>
                </a:cubicBezTo>
                <a:cubicBezTo>
                  <a:pt x="6546" y="7367"/>
                  <a:pt x="6528" y="7364"/>
                  <a:pt x="6474" y="7417"/>
                </a:cubicBezTo>
                <a:cubicBezTo>
                  <a:pt x="6439" y="7452"/>
                  <a:pt x="6388" y="7513"/>
                  <a:pt x="6400" y="7565"/>
                </a:cubicBezTo>
                <a:cubicBezTo>
                  <a:pt x="6411" y="7614"/>
                  <a:pt x="6467" y="7684"/>
                  <a:pt x="6524" y="7665"/>
                </a:cubicBezTo>
                <a:cubicBezTo>
                  <a:pt x="6583" y="7645"/>
                  <a:pt x="6580" y="7577"/>
                  <a:pt x="6598" y="7541"/>
                </a:cubicBezTo>
                <a:cubicBezTo>
                  <a:pt x="6612" y="7514"/>
                  <a:pt x="6676" y="7371"/>
                  <a:pt x="6623" y="7466"/>
                </a:cubicBezTo>
                <a:cubicBezTo>
                  <a:pt x="6595" y="7516"/>
                  <a:pt x="6583" y="7601"/>
                  <a:pt x="6598" y="7665"/>
                </a:cubicBezTo>
                <a:cubicBezTo>
                  <a:pt x="6618" y="7748"/>
                  <a:pt x="6623" y="7824"/>
                  <a:pt x="6623" y="7913"/>
                </a:cubicBezTo>
                <a:cubicBezTo>
                  <a:pt x="6623" y="7954"/>
                  <a:pt x="6615" y="7970"/>
                  <a:pt x="6648" y="7962"/>
                </a:cubicBezTo>
              </a:path>
              <a:path w="2531" h="1192">
                <a:moveTo>
                  <a:pt x="6995" y="7342"/>
                </a:moveTo>
                <a:cubicBezTo>
                  <a:pt x="7026" y="7429"/>
                  <a:pt x="7079" y="7548"/>
                  <a:pt x="7094" y="7640"/>
                </a:cubicBezTo>
                <a:cubicBezTo>
                  <a:pt x="7110" y="7738"/>
                  <a:pt x="7103" y="7870"/>
                  <a:pt x="7069" y="7962"/>
                </a:cubicBezTo>
                <a:cubicBezTo>
                  <a:pt x="7040" y="8039"/>
                  <a:pt x="6987" y="8093"/>
                  <a:pt x="6945" y="81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11"/>
          <p:cNvSpPr/>
          <p:nvPr/>
        </p:nvSpPr>
        <p:spPr>
          <a:xfrm>
            <a:off x="303120" y="3062160"/>
            <a:ext cx="1884600" cy="385920"/>
          </a:xfrm>
          <a:custGeom>
            <a:avLst/>
            <a:gdLst/>
            <a:ahLst/>
            <a:rect l="l" t="t" r="r" b="b"/>
            <a:pathLst>
              <a:path w="5235" h="1068">
                <a:moveTo>
                  <a:pt x="992" y="8855"/>
                </a:moveTo>
                <a:cubicBezTo>
                  <a:pt x="992" y="8828"/>
                  <a:pt x="1003" y="8702"/>
                  <a:pt x="943" y="8706"/>
                </a:cubicBezTo>
                <a:cubicBezTo>
                  <a:pt x="844" y="8713"/>
                  <a:pt x="845" y="8838"/>
                  <a:pt x="843" y="8905"/>
                </a:cubicBezTo>
                <a:cubicBezTo>
                  <a:pt x="839" y="9016"/>
                  <a:pt x="841" y="9068"/>
                  <a:pt x="918" y="9153"/>
                </a:cubicBezTo>
                <a:cubicBezTo>
                  <a:pt x="952" y="9190"/>
                  <a:pt x="1042" y="9189"/>
                  <a:pt x="1091" y="9178"/>
                </a:cubicBezTo>
                <a:cubicBezTo>
                  <a:pt x="1152" y="9158"/>
                  <a:pt x="1167" y="9160"/>
                  <a:pt x="1191" y="9128"/>
                </a:cubicBezTo>
              </a:path>
              <a:path w="5235" h="1068">
                <a:moveTo>
                  <a:pt x="1265" y="8830"/>
                </a:moveTo>
                <a:cubicBezTo>
                  <a:pt x="1245" y="8925"/>
                  <a:pt x="1218" y="9010"/>
                  <a:pt x="1265" y="9103"/>
                </a:cubicBezTo>
                <a:cubicBezTo>
                  <a:pt x="1293" y="9158"/>
                  <a:pt x="1381" y="9128"/>
                  <a:pt x="1414" y="9103"/>
                </a:cubicBezTo>
                <a:cubicBezTo>
                  <a:pt x="1466" y="9062"/>
                  <a:pt x="1482" y="8967"/>
                  <a:pt x="1463" y="8905"/>
                </a:cubicBezTo>
                <a:cubicBezTo>
                  <a:pt x="1441" y="8832"/>
                  <a:pt x="1424" y="8811"/>
                  <a:pt x="1339" y="8806"/>
                </a:cubicBezTo>
                <a:cubicBezTo>
                  <a:pt x="1231" y="8800"/>
                  <a:pt x="1273" y="8877"/>
                  <a:pt x="1315" y="8930"/>
                </a:cubicBezTo>
              </a:path>
              <a:path w="5235" h="1068">
                <a:moveTo>
                  <a:pt x="1538" y="9004"/>
                </a:moveTo>
                <a:cubicBezTo>
                  <a:pt x="1538" y="9049"/>
                  <a:pt x="1535" y="9062"/>
                  <a:pt x="1563" y="9079"/>
                </a:cubicBezTo>
                <a:cubicBezTo>
                  <a:pt x="1563" y="8982"/>
                  <a:pt x="1574" y="8897"/>
                  <a:pt x="1588" y="8806"/>
                </a:cubicBezTo>
                <a:cubicBezTo>
                  <a:pt x="1600" y="8732"/>
                  <a:pt x="1646" y="8702"/>
                  <a:pt x="1712" y="8756"/>
                </a:cubicBezTo>
                <a:cubicBezTo>
                  <a:pt x="1781" y="8812"/>
                  <a:pt x="1765" y="8907"/>
                  <a:pt x="1786" y="8979"/>
                </a:cubicBezTo>
                <a:cubicBezTo>
                  <a:pt x="1804" y="9043"/>
                  <a:pt x="1814" y="9081"/>
                  <a:pt x="1860" y="9128"/>
                </a:cubicBezTo>
              </a:path>
              <a:path w="5235" h="1068">
                <a:moveTo>
                  <a:pt x="2059" y="8756"/>
                </a:moveTo>
                <a:cubicBezTo>
                  <a:pt x="1995" y="8765"/>
                  <a:pt x="1964" y="8788"/>
                  <a:pt x="1910" y="8830"/>
                </a:cubicBezTo>
                <a:cubicBezTo>
                  <a:pt x="1957" y="8868"/>
                  <a:pt x="2010" y="8894"/>
                  <a:pt x="2059" y="8930"/>
                </a:cubicBezTo>
                <a:cubicBezTo>
                  <a:pt x="2106" y="8965"/>
                  <a:pt x="2130" y="9027"/>
                  <a:pt x="2133" y="9079"/>
                </a:cubicBezTo>
                <a:cubicBezTo>
                  <a:pt x="2139" y="9174"/>
                  <a:pt x="2064" y="9158"/>
                  <a:pt x="2009" y="9128"/>
                </a:cubicBezTo>
                <a:cubicBezTo>
                  <a:pt x="1934" y="9087"/>
                  <a:pt x="1958" y="9075"/>
                  <a:pt x="1984" y="9004"/>
                </a:cubicBezTo>
              </a:path>
              <a:path w="5235" h="1068">
                <a:moveTo>
                  <a:pt x="2307" y="8657"/>
                </a:moveTo>
                <a:cubicBezTo>
                  <a:pt x="2307" y="8795"/>
                  <a:pt x="2313" y="8921"/>
                  <a:pt x="2332" y="9054"/>
                </a:cubicBezTo>
                <a:cubicBezTo>
                  <a:pt x="2336" y="9085"/>
                  <a:pt x="2331" y="9155"/>
                  <a:pt x="2356" y="9103"/>
                </a:cubicBezTo>
              </a:path>
              <a:path w="5235" h="1068">
                <a:moveTo>
                  <a:pt x="2183" y="8830"/>
                </a:moveTo>
                <a:cubicBezTo>
                  <a:pt x="2278" y="8820"/>
                  <a:pt x="2358" y="8806"/>
                  <a:pt x="2456" y="8806"/>
                </a:cubicBezTo>
                <a:cubicBezTo>
                  <a:pt x="2524" y="8806"/>
                  <a:pt x="2574" y="8814"/>
                  <a:pt x="2629" y="8781"/>
                </a:cubicBezTo>
                <a:cubicBezTo>
                  <a:pt x="2618" y="8854"/>
                  <a:pt x="2578" y="8873"/>
                  <a:pt x="2530" y="8930"/>
                </a:cubicBezTo>
                <a:cubicBezTo>
                  <a:pt x="2493" y="8974"/>
                  <a:pt x="2454" y="9011"/>
                  <a:pt x="2480" y="9079"/>
                </a:cubicBezTo>
                <a:cubicBezTo>
                  <a:pt x="2513" y="9164"/>
                  <a:pt x="2638" y="9083"/>
                  <a:pt x="2654" y="9029"/>
                </a:cubicBezTo>
                <a:cubicBezTo>
                  <a:pt x="2669" y="8976"/>
                  <a:pt x="2673" y="8911"/>
                  <a:pt x="2679" y="8855"/>
                </a:cubicBezTo>
                <a:cubicBezTo>
                  <a:pt x="2646" y="8952"/>
                  <a:pt x="2658" y="8969"/>
                  <a:pt x="2704" y="9054"/>
                </a:cubicBezTo>
                <a:cubicBezTo>
                  <a:pt x="2741" y="9122"/>
                  <a:pt x="2754" y="9103"/>
                  <a:pt x="2828" y="9103"/>
                </a:cubicBezTo>
              </a:path>
              <a:path w="5235" h="1068">
                <a:moveTo>
                  <a:pt x="2853" y="8855"/>
                </a:moveTo>
                <a:cubicBezTo>
                  <a:pt x="2827" y="8952"/>
                  <a:pt x="2837" y="8973"/>
                  <a:pt x="2853" y="9054"/>
                </a:cubicBezTo>
                <a:cubicBezTo>
                  <a:pt x="2853" y="9070"/>
                  <a:pt x="2853" y="9087"/>
                  <a:pt x="2853" y="9103"/>
                </a:cubicBezTo>
                <a:cubicBezTo>
                  <a:pt x="2886" y="9036"/>
                  <a:pt x="2877" y="8960"/>
                  <a:pt x="2877" y="8880"/>
                </a:cubicBezTo>
                <a:cubicBezTo>
                  <a:pt x="2877" y="8792"/>
                  <a:pt x="2871" y="8751"/>
                  <a:pt x="2927" y="8682"/>
                </a:cubicBezTo>
                <a:cubicBezTo>
                  <a:pt x="2981" y="8734"/>
                  <a:pt x="2973" y="8770"/>
                  <a:pt x="3001" y="8830"/>
                </a:cubicBezTo>
                <a:cubicBezTo>
                  <a:pt x="3029" y="8890"/>
                  <a:pt x="3036" y="8979"/>
                  <a:pt x="3076" y="9029"/>
                </a:cubicBezTo>
                <a:cubicBezTo>
                  <a:pt x="3086" y="9042"/>
                  <a:pt x="3161" y="9130"/>
                  <a:pt x="3175" y="9128"/>
                </a:cubicBezTo>
                <a:cubicBezTo>
                  <a:pt x="3197" y="9106"/>
                  <a:pt x="3206" y="9101"/>
                  <a:pt x="3200" y="9079"/>
                </a:cubicBezTo>
              </a:path>
              <a:path w="5235" h="1068">
                <a:moveTo>
                  <a:pt x="3274" y="8582"/>
                </a:moveTo>
                <a:cubicBezTo>
                  <a:pt x="3274" y="8666"/>
                  <a:pt x="3253" y="8727"/>
                  <a:pt x="3249" y="8806"/>
                </a:cubicBezTo>
                <a:cubicBezTo>
                  <a:pt x="3246" y="8865"/>
                  <a:pt x="3252" y="8997"/>
                  <a:pt x="3274" y="9054"/>
                </a:cubicBezTo>
                <a:cubicBezTo>
                  <a:pt x="3304" y="9084"/>
                  <a:pt x="3315" y="9098"/>
                  <a:pt x="3324" y="9128"/>
                </a:cubicBezTo>
              </a:path>
              <a:path w="5235" h="1068">
                <a:moveTo>
                  <a:pt x="3125" y="8806"/>
                </a:moveTo>
                <a:cubicBezTo>
                  <a:pt x="3208" y="8806"/>
                  <a:pt x="3269" y="8793"/>
                  <a:pt x="3349" y="8781"/>
                </a:cubicBezTo>
                <a:cubicBezTo>
                  <a:pt x="3398" y="8781"/>
                  <a:pt x="3415" y="8781"/>
                  <a:pt x="3448" y="8781"/>
                </a:cubicBezTo>
              </a:path>
              <a:path w="5235" h="1068">
                <a:moveTo>
                  <a:pt x="3646" y="8632"/>
                </a:moveTo>
                <a:cubicBezTo>
                  <a:pt x="3622" y="8680"/>
                  <a:pt x="3614" y="8694"/>
                  <a:pt x="3621" y="8731"/>
                </a:cubicBezTo>
                <a:cubicBezTo>
                  <a:pt x="3693" y="8690"/>
                  <a:pt x="3736" y="8662"/>
                  <a:pt x="3646" y="8632"/>
                </a:cubicBezTo>
              </a:path>
              <a:path w="5235" h="1068">
                <a:moveTo>
                  <a:pt x="3696" y="9029"/>
                </a:moveTo>
                <a:cubicBezTo>
                  <a:pt x="3688" y="9037"/>
                  <a:pt x="3679" y="9046"/>
                  <a:pt x="3671" y="9054"/>
                </a:cubicBezTo>
                <a:cubicBezTo>
                  <a:pt x="3721" y="9004"/>
                  <a:pt x="3734" y="8992"/>
                  <a:pt x="3696" y="8930"/>
                </a:cubicBezTo>
                <a:cubicBezTo>
                  <a:pt x="3666" y="8959"/>
                  <a:pt x="3655" y="8967"/>
                  <a:pt x="3646" y="9004"/>
                </a:cubicBezTo>
              </a:path>
              <a:path w="5235" h="1068">
                <a:moveTo>
                  <a:pt x="4465" y="8558"/>
                </a:moveTo>
                <a:cubicBezTo>
                  <a:pt x="4401" y="8549"/>
                  <a:pt x="4362" y="8533"/>
                  <a:pt x="4291" y="8533"/>
                </a:cubicBezTo>
                <a:cubicBezTo>
                  <a:pt x="4222" y="8533"/>
                  <a:pt x="4173" y="8508"/>
                  <a:pt x="4093" y="8508"/>
                </a:cubicBezTo>
                <a:cubicBezTo>
                  <a:pt x="4048" y="8508"/>
                  <a:pt x="4035" y="8505"/>
                  <a:pt x="4018" y="8533"/>
                </a:cubicBezTo>
                <a:cubicBezTo>
                  <a:pt x="4027" y="8592"/>
                  <a:pt x="4058" y="8653"/>
                  <a:pt x="4068" y="8706"/>
                </a:cubicBezTo>
                <a:cubicBezTo>
                  <a:pt x="4083" y="8785"/>
                  <a:pt x="4054" y="8859"/>
                  <a:pt x="4043" y="8930"/>
                </a:cubicBezTo>
                <a:cubicBezTo>
                  <a:pt x="4029" y="9021"/>
                  <a:pt x="4007" y="9115"/>
                  <a:pt x="3994" y="9203"/>
                </a:cubicBezTo>
                <a:cubicBezTo>
                  <a:pt x="3989" y="9235"/>
                  <a:pt x="3936" y="9335"/>
                  <a:pt x="3994" y="9351"/>
                </a:cubicBezTo>
                <a:cubicBezTo>
                  <a:pt x="4093" y="9378"/>
                  <a:pt x="4223" y="9348"/>
                  <a:pt x="4316" y="9327"/>
                </a:cubicBezTo>
                <a:cubicBezTo>
                  <a:pt x="4324" y="9327"/>
                  <a:pt x="4333" y="9327"/>
                  <a:pt x="4341" y="9327"/>
                </a:cubicBezTo>
              </a:path>
              <a:path w="5235" h="1068">
                <a:moveTo>
                  <a:pt x="4415" y="9004"/>
                </a:moveTo>
                <a:cubicBezTo>
                  <a:pt x="4511" y="9040"/>
                  <a:pt x="4559" y="9027"/>
                  <a:pt x="4663" y="9004"/>
                </a:cubicBezTo>
              </a:path>
              <a:path w="5235" h="1068">
                <a:moveTo>
                  <a:pt x="4837" y="8682"/>
                </a:moveTo>
                <a:cubicBezTo>
                  <a:pt x="4837" y="8811"/>
                  <a:pt x="4844" y="8929"/>
                  <a:pt x="4862" y="9054"/>
                </a:cubicBezTo>
                <a:cubicBezTo>
                  <a:pt x="4874" y="9135"/>
                  <a:pt x="4850" y="9211"/>
                  <a:pt x="4837" y="9277"/>
                </a:cubicBezTo>
                <a:cubicBezTo>
                  <a:pt x="4837" y="9294"/>
                  <a:pt x="4837" y="9310"/>
                  <a:pt x="4837" y="9327"/>
                </a:cubicBezTo>
              </a:path>
              <a:path w="5235" h="1068">
                <a:moveTo>
                  <a:pt x="5085" y="9227"/>
                </a:moveTo>
                <a:cubicBezTo>
                  <a:pt x="5085" y="9294"/>
                  <a:pt x="5054" y="9452"/>
                  <a:pt x="5060" y="9500"/>
                </a:cubicBezTo>
                <a:cubicBezTo>
                  <a:pt x="5082" y="9544"/>
                  <a:pt x="5085" y="9565"/>
                  <a:pt x="5110" y="9525"/>
                </a:cubicBezTo>
              </a:path>
              <a:path w="5235" h="1068">
                <a:moveTo>
                  <a:pt x="5383" y="8806"/>
                </a:moveTo>
                <a:cubicBezTo>
                  <a:pt x="5383" y="8974"/>
                  <a:pt x="5377" y="9149"/>
                  <a:pt x="5407" y="9302"/>
                </a:cubicBezTo>
                <a:cubicBezTo>
                  <a:pt x="5407" y="9318"/>
                  <a:pt x="5407" y="9335"/>
                  <a:pt x="5407" y="9351"/>
                </a:cubicBezTo>
              </a:path>
              <a:path w="5235" h="1068">
                <a:moveTo>
                  <a:pt x="5556" y="8582"/>
                </a:moveTo>
                <a:cubicBezTo>
                  <a:pt x="5694" y="8582"/>
                  <a:pt x="5823" y="8585"/>
                  <a:pt x="5953" y="8607"/>
                </a:cubicBezTo>
                <a:cubicBezTo>
                  <a:pt x="6052" y="8624"/>
                  <a:pt x="5988" y="8666"/>
                  <a:pt x="5978" y="8731"/>
                </a:cubicBezTo>
                <a:cubicBezTo>
                  <a:pt x="5956" y="8877"/>
                  <a:pt x="5984" y="9037"/>
                  <a:pt x="6003" y="9178"/>
                </a:cubicBezTo>
                <a:cubicBezTo>
                  <a:pt x="6012" y="9245"/>
                  <a:pt x="6024" y="9311"/>
                  <a:pt x="6028" y="9376"/>
                </a:cubicBezTo>
                <a:cubicBezTo>
                  <a:pt x="6031" y="9436"/>
                  <a:pt x="6046" y="9446"/>
                  <a:pt x="6077" y="9500"/>
                </a:cubicBezTo>
                <a:cubicBezTo>
                  <a:pt x="6012" y="9491"/>
                  <a:pt x="5953" y="9460"/>
                  <a:pt x="5879" y="9475"/>
                </a:cubicBezTo>
                <a:cubicBezTo>
                  <a:pt x="5755" y="9501"/>
                  <a:pt x="5633" y="9561"/>
                  <a:pt x="5507" y="9575"/>
                </a:cubicBezTo>
                <a:cubicBezTo>
                  <a:pt x="5474" y="9575"/>
                  <a:pt x="5440" y="9575"/>
                  <a:pt x="5407" y="95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Ink 12"/>
          <p:cNvSpPr/>
          <p:nvPr/>
        </p:nvSpPr>
        <p:spPr>
          <a:xfrm>
            <a:off x="1473120" y="4633920"/>
            <a:ext cx="277920" cy="81000"/>
          </a:xfrm>
          <a:custGeom>
            <a:avLst/>
            <a:gdLst/>
            <a:ahLst/>
            <a:rect l="l" t="t" r="r" b="b"/>
            <a:pathLst>
              <a:path w="770" h="224">
                <a:moveTo>
                  <a:pt x="4118" y="12973"/>
                </a:moveTo>
                <a:cubicBezTo>
                  <a:pt x="4082" y="13032"/>
                  <a:pt x="4104" y="13039"/>
                  <a:pt x="4118" y="13097"/>
                </a:cubicBezTo>
              </a:path>
              <a:path w="770" h="224">
                <a:moveTo>
                  <a:pt x="4217" y="12948"/>
                </a:moveTo>
                <a:cubicBezTo>
                  <a:pt x="4206" y="13024"/>
                  <a:pt x="4188" y="13030"/>
                  <a:pt x="4242" y="13097"/>
                </a:cubicBezTo>
              </a:path>
              <a:path w="770" h="224">
                <a:moveTo>
                  <a:pt x="4316" y="12874"/>
                </a:moveTo>
                <a:cubicBezTo>
                  <a:pt x="4316" y="12932"/>
                  <a:pt x="4314" y="12952"/>
                  <a:pt x="4341" y="12998"/>
                </a:cubicBezTo>
              </a:path>
              <a:path w="770" h="224">
                <a:moveTo>
                  <a:pt x="4465" y="12948"/>
                </a:moveTo>
                <a:cubicBezTo>
                  <a:pt x="4437" y="12976"/>
                  <a:pt x="4428" y="12989"/>
                  <a:pt x="4440" y="13022"/>
                </a:cubicBezTo>
              </a:path>
              <a:path w="770" h="224">
                <a:moveTo>
                  <a:pt x="4688" y="12998"/>
                </a:moveTo>
                <a:cubicBezTo>
                  <a:pt x="4688" y="13042"/>
                  <a:pt x="4685" y="13056"/>
                  <a:pt x="4713" y="13072"/>
                </a:cubicBezTo>
              </a:path>
              <a:path w="770" h="224">
                <a:moveTo>
                  <a:pt x="4837" y="13022"/>
                </a:moveTo>
                <a:cubicBezTo>
                  <a:pt x="4837" y="13064"/>
                  <a:pt x="4829" y="13080"/>
                  <a:pt x="4862" y="130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Ink 13"/>
          <p:cNvSpPr/>
          <p:nvPr/>
        </p:nvSpPr>
        <p:spPr>
          <a:xfrm>
            <a:off x="1839960" y="4633920"/>
            <a:ext cx="1857240" cy="117360"/>
          </a:xfrm>
          <a:custGeom>
            <a:avLst/>
            <a:gdLst/>
            <a:ahLst/>
            <a:rect l="l" t="t" r="r" b="b"/>
            <a:pathLst>
              <a:path w="5160" h="323">
                <a:moveTo>
                  <a:pt x="5110" y="13122"/>
                </a:moveTo>
                <a:cubicBezTo>
                  <a:pt x="5130" y="13162"/>
                  <a:pt x="5128" y="13178"/>
                  <a:pt x="5159" y="13171"/>
                </a:cubicBezTo>
              </a:path>
              <a:path w="5160" h="323">
                <a:moveTo>
                  <a:pt x="5283" y="13072"/>
                </a:moveTo>
                <a:cubicBezTo>
                  <a:pt x="5319" y="13036"/>
                  <a:pt x="5316" y="13061"/>
                  <a:pt x="5358" y="13072"/>
                </a:cubicBezTo>
              </a:path>
              <a:path w="5160" h="323">
                <a:moveTo>
                  <a:pt x="5531" y="13072"/>
                </a:moveTo>
                <a:cubicBezTo>
                  <a:pt x="5576" y="13072"/>
                  <a:pt x="5589" y="13069"/>
                  <a:pt x="5606" y="13097"/>
                </a:cubicBezTo>
              </a:path>
              <a:path w="5160" h="323">
                <a:moveTo>
                  <a:pt x="5755" y="12973"/>
                </a:moveTo>
                <a:cubicBezTo>
                  <a:pt x="5777" y="12950"/>
                  <a:pt x="5782" y="12942"/>
                  <a:pt x="5804" y="12948"/>
                </a:cubicBezTo>
              </a:path>
              <a:path w="5160" h="323">
                <a:moveTo>
                  <a:pt x="5978" y="12948"/>
                </a:moveTo>
                <a:cubicBezTo>
                  <a:pt x="6008" y="12978"/>
                  <a:pt x="6022" y="12989"/>
                  <a:pt x="6052" y="12998"/>
                </a:cubicBezTo>
              </a:path>
              <a:path w="5160" h="323">
                <a:moveTo>
                  <a:pt x="6226" y="12948"/>
                </a:moveTo>
                <a:cubicBezTo>
                  <a:pt x="6249" y="12925"/>
                  <a:pt x="6253" y="12917"/>
                  <a:pt x="6276" y="12923"/>
                </a:cubicBezTo>
              </a:path>
              <a:path w="5160" h="323">
                <a:moveTo>
                  <a:pt x="6449" y="12898"/>
                </a:moveTo>
                <a:cubicBezTo>
                  <a:pt x="6493" y="12920"/>
                  <a:pt x="6505" y="12923"/>
                  <a:pt x="6524" y="12948"/>
                </a:cubicBezTo>
              </a:path>
              <a:path w="5160" h="323">
                <a:moveTo>
                  <a:pt x="6598" y="12973"/>
                </a:moveTo>
                <a:cubicBezTo>
                  <a:pt x="6606" y="12981"/>
                  <a:pt x="6615" y="12990"/>
                  <a:pt x="6623" y="12998"/>
                </a:cubicBezTo>
              </a:path>
              <a:path w="5160" h="323">
                <a:moveTo>
                  <a:pt x="6747" y="12973"/>
                </a:moveTo>
                <a:cubicBezTo>
                  <a:pt x="6747" y="12965"/>
                  <a:pt x="6747" y="12956"/>
                  <a:pt x="6747" y="12948"/>
                </a:cubicBezTo>
              </a:path>
              <a:path w="5160" h="323">
                <a:moveTo>
                  <a:pt x="6722" y="12874"/>
                </a:moveTo>
                <a:cubicBezTo>
                  <a:pt x="6729" y="12933"/>
                  <a:pt x="6740" y="12988"/>
                  <a:pt x="6747" y="13047"/>
                </a:cubicBezTo>
              </a:path>
              <a:path w="5160" h="323">
                <a:moveTo>
                  <a:pt x="6846" y="12874"/>
                </a:moveTo>
                <a:cubicBezTo>
                  <a:pt x="6855" y="12946"/>
                  <a:pt x="6875" y="12990"/>
                  <a:pt x="6921" y="13047"/>
                </a:cubicBezTo>
              </a:path>
              <a:path w="5160" h="323">
                <a:moveTo>
                  <a:pt x="7020" y="12898"/>
                </a:moveTo>
                <a:cubicBezTo>
                  <a:pt x="7029" y="13035"/>
                  <a:pt x="7000" y="13001"/>
                  <a:pt x="7069" y="13072"/>
                </a:cubicBezTo>
              </a:path>
              <a:path w="5160" h="323">
                <a:moveTo>
                  <a:pt x="7144" y="12948"/>
                </a:moveTo>
                <a:cubicBezTo>
                  <a:pt x="7173" y="12999"/>
                  <a:pt x="7167" y="13010"/>
                  <a:pt x="7218" y="13022"/>
                </a:cubicBezTo>
              </a:path>
              <a:path w="5160" h="323">
                <a:moveTo>
                  <a:pt x="7367" y="12923"/>
                </a:moveTo>
                <a:cubicBezTo>
                  <a:pt x="7413" y="12992"/>
                  <a:pt x="7425" y="13012"/>
                  <a:pt x="7466" y="13047"/>
                </a:cubicBezTo>
              </a:path>
              <a:path w="5160" h="323">
                <a:moveTo>
                  <a:pt x="7541" y="12923"/>
                </a:moveTo>
                <a:cubicBezTo>
                  <a:pt x="7561" y="12984"/>
                  <a:pt x="7558" y="12999"/>
                  <a:pt x="7590" y="13022"/>
                </a:cubicBezTo>
              </a:path>
              <a:path w="5160" h="323">
                <a:moveTo>
                  <a:pt x="7739" y="13022"/>
                </a:moveTo>
                <a:cubicBezTo>
                  <a:pt x="7777" y="13079"/>
                  <a:pt x="7794" y="13082"/>
                  <a:pt x="7789" y="13122"/>
                </a:cubicBezTo>
              </a:path>
              <a:path w="5160" h="323">
                <a:moveTo>
                  <a:pt x="7913" y="12973"/>
                </a:moveTo>
                <a:cubicBezTo>
                  <a:pt x="7921" y="13031"/>
                  <a:pt x="7950" y="13045"/>
                  <a:pt x="7962" y="13097"/>
                </a:cubicBezTo>
              </a:path>
              <a:path w="5160" h="323">
                <a:moveTo>
                  <a:pt x="8086" y="13022"/>
                </a:moveTo>
                <a:cubicBezTo>
                  <a:pt x="8109" y="13045"/>
                  <a:pt x="8117" y="13049"/>
                  <a:pt x="8111" y="13072"/>
                </a:cubicBezTo>
              </a:path>
              <a:path w="5160" h="323">
                <a:moveTo>
                  <a:pt x="8285" y="12948"/>
                </a:moveTo>
                <a:cubicBezTo>
                  <a:pt x="8315" y="12978"/>
                  <a:pt x="8326" y="12992"/>
                  <a:pt x="8334" y="13022"/>
                </a:cubicBezTo>
              </a:path>
              <a:path w="5160" h="323">
                <a:moveTo>
                  <a:pt x="8483" y="12874"/>
                </a:moveTo>
                <a:cubicBezTo>
                  <a:pt x="8531" y="12897"/>
                  <a:pt x="8546" y="12905"/>
                  <a:pt x="8582" y="12898"/>
                </a:cubicBezTo>
              </a:path>
              <a:path w="5160" h="323">
                <a:moveTo>
                  <a:pt x="8731" y="12874"/>
                </a:moveTo>
                <a:cubicBezTo>
                  <a:pt x="8739" y="12882"/>
                  <a:pt x="8748" y="12890"/>
                  <a:pt x="8756" y="12898"/>
                </a:cubicBezTo>
              </a:path>
              <a:path w="5160" h="323">
                <a:moveTo>
                  <a:pt x="8905" y="12874"/>
                </a:moveTo>
                <a:cubicBezTo>
                  <a:pt x="8927" y="12917"/>
                  <a:pt x="8931" y="12928"/>
                  <a:pt x="8954" y="12948"/>
                </a:cubicBezTo>
              </a:path>
              <a:path w="5160" h="323">
                <a:moveTo>
                  <a:pt x="9128" y="12998"/>
                </a:moveTo>
                <a:cubicBezTo>
                  <a:pt x="9155" y="13031"/>
                  <a:pt x="9177" y="13064"/>
                  <a:pt x="9203" y="13097"/>
                </a:cubicBezTo>
              </a:path>
              <a:path w="5160" h="323">
                <a:moveTo>
                  <a:pt x="9376" y="13022"/>
                </a:moveTo>
                <a:cubicBezTo>
                  <a:pt x="9384" y="13030"/>
                  <a:pt x="9393" y="13039"/>
                  <a:pt x="9401" y="13047"/>
                </a:cubicBezTo>
              </a:path>
              <a:path w="5160" h="323">
                <a:moveTo>
                  <a:pt x="9575" y="12973"/>
                </a:moveTo>
                <a:cubicBezTo>
                  <a:pt x="9603" y="13002"/>
                  <a:pt x="9615" y="13011"/>
                  <a:pt x="9624" y="13047"/>
                </a:cubicBezTo>
              </a:path>
              <a:path w="5160" h="323">
                <a:moveTo>
                  <a:pt x="9798" y="12948"/>
                </a:moveTo>
                <a:cubicBezTo>
                  <a:pt x="9798" y="12965"/>
                  <a:pt x="9798" y="12981"/>
                  <a:pt x="9798" y="12998"/>
                </a:cubicBezTo>
              </a:path>
              <a:path w="5160" h="323">
                <a:moveTo>
                  <a:pt x="9897" y="12973"/>
                </a:moveTo>
                <a:cubicBezTo>
                  <a:pt x="9897" y="13063"/>
                  <a:pt x="9908" y="13125"/>
                  <a:pt x="9872" y="13196"/>
                </a:cubicBezTo>
              </a:path>
              <a:path w="5160" h="323">
                <a:moveTo>
                  <a:pt x="9897" y="12998"/>
                </a:moveTo>
                <a:cubicBezTo>
                  <a:pt x="9905" y="12998"/>
                  <a:pt x="9914" y="12998"/>
                  <a:pt x="9922" y="12998"/>
                </a:cubicBezTo>
              </a:path>
              <a:path w="5160" h="323">
                <a:moveTo>
                  <a:pt x="10071" y="12874"/>
                </a:moveTo>
                <a:cubicBezTo>
                  <a:pt x="10091" y="12914"/>
                  <a:pt x="10100" y="12920"/>
                  <a:pt x="10096" y="12948"/>
                </a:cubicBezTo>
              </a:path>
              <a:path w="5160" h="323">
                <a:moveTo>
                  <a:pt x="10220" y="12874"/>
                </a:moveTo>
                <a:cubicBezTo>
                  <a:pt x="10239" y="12931"/>
                  <a:pt x="10229" y="12956"/>
                  <a:pt x="10269" y="129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Ink 14"/>
          <p:cNvSpPr/>
          <p:nvPr/>
        </p:nvSpPr>
        <p:spPr>
          <a:xfrm>
            <a:off x="3795840" y="4680000"/>
            <a:ext cx="17280" cy="7920"/>
          </a:xfrm>
          <a:custGeom>
            <a:avLst/>
            <a:gdLst/>
            <a:ahLst/>
            <a:rect l="l" t="t" r="r" b="b"/>
            <a:pathLst>
              <a:path w="51" h="25">
                <a:moveTo>
                  <a:pt x="10542" y="12998"/>
                </a:moveTo>
                <a:cubicBezTo>
                  <a:pt x="10559" y="13006"/>
                  <a:pt x="10575" y="13014"/>
                  <a:pt x="10592" y="130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nk 15"/>
          <p:cNvSpPr/>
          <p:nvPr/>
        </p:nvSpPr>
        <p:spPr>
          <a:xfrm>
            <a:off x="3902040" y="4653000"/>
            <a:ext cx="27000" cy="7920"/>
          </a:xfrm>
          <a:custGeom>
            <a:avLst/>
            <a:gdLst/>
            <a:ahLst/>
            <a:rect l="l" t="t" r="r" b="b"/>
            <a:pathLst>
              <a:path w="75" h="26">
                <a:moveTo>
                  <a:pt x="10840" y="12923"/>
                </a:moveTo>
                <a:cubicBezTo>
                  <a:pt x="10865" y="12931"/>
                  <a:pt x="10889" y="12940"/>
                  <a:pt x="10914" y="129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Ink 16"/>
          <p:cNvSpPr/>
          <p:nvPr/>
        </p:nvSpPr>
        <p:spPr>
          <a:xfrm>
            <a:off x="4027320" y="4633920"/>
            <a:ext cx="36720" cy="1440"/>
          </a:xfrm>
          <a:custGeom>
            <a:avLst/>
            <a:gdLst/>
            <a:ahLst/>
            <a:rect l="l" t="t" r="r" b="b"/>
            <a:pathLst>
              <a:path w="100" h="1">
                <a:moveTo>
                  <a:pt x="11187" y="12874"/>
                </a:moveTo>
                <a:cubicBezTo>
                  <a:pt x="11245" y="12874"/>
                  <a:pt x="11253" y="12874"/>
                  <a:pt x="11286" y="128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Ink 17"/>
          <p:cNvSpPr/>
          <p:nvPr/>
        </p:nvSpPr>
        <p:spPr>
          <a:xfrm>
            <a:off x="4170240" y="4616280"/>
            <a:ext cx="27000" cy="1800"/>
          </a:xfrm>
          <a:custGeom>
            <a:avLst/>
            <a:gdLst/>
            <a:ahLst/>
            <a:rect l="l" t="t" r="r" b="b"/>
            <a:pathLst>
              <a:path w="75" h="1">
                <a:moveTo>
                  <a:pt x="11584" y="12824"/>
                </a:moveTo>
                <a:cubicBezTo>
                  <a:pt x="11609" y="12824"/>
                  <a:pt x="11633" y="12824"/>
                  <a:pt x="11658" y="128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k 18"/>
          <p:cNvSpPr/>
          <p:nvPr/>
        </p:nvSpPr>
        <p:spPr>
          <a:xfrm>
            <a:off x="4313160" y="4626000"/>
            <a:ext cx="4464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11981" y="12849"/>
                </a:moveTo>
                <a:cubicBezTo>
                  <a:pt x="12047" y="12849"/>
                  <a:pt x="12064" y="12849"/>
                  <a:pt x="12105" y="128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Ink 19"/>
          <p:cNvSpPr/>
          <p:nvPr/>
        </p:nvSpPr>
        <p:spPr>
          <a:xfrm>
            <a:off x="4545000" y="4589640"/>
            <a:ext cx="81000" cy="18720"/>
          </a:xfrm>
          <a:custGeom>
            <a:avLst/>
            <a:gdLst/>
            <a:ahLst/>
            <a:rect l="l" t="t" r="r" b="b"/>
            <a:pathLst>
              <a:path w="224" h="50">
                <a:moveTo>
                  <a:pt x="12626" y="12799"/>
                </a:moveTo>
                <a:cubicBezTo>
                  <a:pt x="12700" y="12783"/>
                  <a:pt x="12775" y="12766"/>
                  <a:pt x="12849" y="127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Ink 20"/>
          <p:cNvSpPr/>
          <p:nvPr/>
        </p:nvSpPr>
        <p:spPr>
          <a:xfrm>
            <a:off x="714240" y="1428840"/>
            <a:ext cx="9720" cy="17280"/>
          </a:xfrm>
          <a:custGeom>
            <a:avLst/>
            <a:gdLst/>
            <a:ahLst/>
            <a:rect l="l" t="t" r="r" b="b"/>
            <a:pathLst>
              <a:path w="26" h="50">
                <a:moveTo>
                  <a:pt x="2009" y="3969"/>
                </a:moveTo>
                <a:cubicBezTo>
                  <a:pt x="1987" y="3991"/>
                  <a:pt x="1978" y="3996"/>
                  <a:pt x="1984" y="40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nk 21"/>
          <p:cNvSpPr/>
          <p:nvPr/>
        </p:nvSpPr>
        <p:spPr>
          <a:xfrm>
            <a:off x="723960" y="1428840"/>
            <a:ext cx="1440" cy="36360"/>
          </a:xfrm>
          <a:custGeom>
            <a:avLst/>
            <a:gdLst/>
            <a:ahLst/>
            <a:rect l="l" t="t" r="r" b="b"/>
            <a:pathLst>
              <a:path w="1" h="100">
                <a:moveTo>
                  <a:pt x="2009" y="3969"/>
                </a:moveTo>
                <a:cubicBezTo>
                  <a:pt x="2009" y="4002"/>
                  <a:pt x="2009" y="4035"/>
                  <a:pt x="2009" y="40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k 22"/>
          <p:cNvSpPr/>
          <p:nvPr/>
        </p:nvSpPr>
        <p:spPr>
          <a:xfrm>
            <a:off x="687240" y="1401840"/>
            <a:ext cx="98640" cy="12528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2009" y="4068"/>
                </a:moveTo>
                <a:cubicBezTo>
                  <a:pt x="2046" y="4049"/>
                  <a:pt x="2144" y="4017"/>
                  <a:pt x="2158" y="3969"/>
                </a:cubicBezTo>
                <a:cubicBezTo>
                  <a:pt x="2158" y="3924"/>
                  <a:pt x="2161" y="3911"/>
                  <a:pt x="2133" y="3894"/>
                </a:cubicBezTo>
                <a:cubicBezTo>
                  <a:pt x="2059" y="3924"/>
                  <a:pt x="2038" y="3940"/>
                  <a:pt x="1984" y="3994"/>
                </a:cubicBezTo>
                <a:cubicBezTo>
                  <a:pt x="1938" y="4040"/>
                  <a:pt x="1965" y="4065"/>
                  <a:pt x="1984" y="4118"/>
                </a:cubicBezTo>
                <a:cubicBezTo>
                  <a:pt x="2045" y="4153"/>
                  <a:pt x="2074" y="4137"/>
                  <a:pt x="2133" y="4093"/>
                </a:cubicBezTo>
                <a:cubicBezTo>
                  <a:pt x="2203" y="4040"/>
                  <a:pt x="2176" y="3981"/>
                  <a:pt x="2133" y="3919"/>
                </a:cubicBezTo>
                <a:cubicBezTo>
                  <a:pt x="2095" y="3864"/>
                  <a:pt x="2016" y="3899"/>
                  <a:pt x="1984" y="3944"/>
                </a:cubicBezTo>
                <a:cubicBezTo>
                  <a:pt x="1943" y="4003"/>
                  <a:pt x="1895" y="4065"/>
                  <a:pt x="1910" y="4142"/>
                </a:cubicBezTo>
                <a:cubicBezTo>
                  <a:pt x="1918" y="4159"/>
                  <a:pt x="1927" y="4175"/>
                  <a:pt x="1935" y="4192"/>
                </a:cubicBezTo>
                <a:cubicBezTo>
                  <a:pt x="2014" y="4222"/>
                  <a:pt x="2039" y="4220"/>
                  <a:pt x="2108" y="4167"/>
                </a:cubicBezTo>
                <a:cubicBezTo>
                  <a:pt x="2167" y="4122"/>
                  <a:pt x="2178" y="4011"/>
                  <a:pt x="2158" y="3944"/>
                </a:cubicBezTo>
                <a:cubicBezTo>
                  <a:pt x="2134" y="3864"/>
                  <a:pt x="2051" y="3915"/>
                  <a:pt x="2009" y="3944"/>
                </a:cubicBezTo>
                <a:cubicBezTo>
                  <a:pt x="1944" y="3989"/>
                  <a:pt x="1954" y="4080"/>
                  <a:pt x="1960" y="4118"/>
                </a:cubicBezTo>
                <a:cubicBezTo>
                  <a:pt x="1971" y="4194"/>
                  <a:pt x="1958" y="4181"/>
                  <a:pt x="2034" y="4192"/>
                </a:cubicBezTo>
                <a:cubicBezTo>
                  <a:pt x="2106" y="4151"/>
                  <a:pt x="2128" y="4129"/>
                  <a:pt x="2133" y="4043"/>
                </a:cubicBezTo>
                <a:cubicBezTo>
                  <a:pt x="2133" y="3992"/>
                  <a:pt x="2132" y="3973"/>
                  <a:pt x="2108" y="3944"/>
                </a:cubicBezTo>
                <a:cubicBezTo>
                  <a:pt x="2013" y="3963"/>
                  <a:pt x="2007" y="3979"/>
                  <a:pt x="1960" y="4068"/>
                </a:cubicBezTo>
                <a:cubicBezTo>
                  <a:pt x="1950" y="4088"/>
                  <a:pt x="1896" y="4242"/>
                  <a:pt x="1960" y="4242"/>
                </a:cubicBezTo>
                <a:cubicBezTo>
                  <a:pt x="2016" y="4242"/>
                  <a:pt x="2101" y="4191"/>
                  <a:pt x="2133" y="4142"/>
                </a:cubicBezTo>
                <a:cubicBezTo>
                  <a:pt x="2181" y="4068"/>
                  <a:pt x="2163" y="4024"/>
                  <a:pt x="2108" y="3969"/>
                </a:cubicBezTo>
                <a:cubicBezTo>
                  <a:pt x="2043" y="3994"/>
                  <a:pt x="2009" y="3994"/>
                  <a:pt x="1960" y="4043"/>
                </a:cubicBezTo>
                <a:cubicBezTo>
                  <a:pt x="1926" y="4077"/>
                  <a:pt x="1930" y="4085"/>
                  <a:pt x="2009" y="40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nk 23"/>
          <p:cNvSpPr/>
          <p:nvPr/>
        </p:nvSpPr>
        <p:spPr>
          <a:xfrm>
            <a:off x="982800" y="1268280"/>
            <a:ext cx="160200" cy="1800"/>
          </a:xfrm>
          <a:custGeom>
            <a:avLst/>
            <a:gdLst/>
            <a:ahLst/>
            <a:rect l="l" t="t" r="r" b="b"/>
            <a:pathLst>
              <a:path w="447" h="1">
                <a:moveTo>
                  <a:pt x="2729" y="3522"/>
                </a:moveTo>
                <a:cubicBezTo>
                  <a:pt x="2878" y="3522"/>
                  <a:pt x="3026" y="3522"/>
                  <a:pt x="3175" y="35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k 24"/>
          <p:cNvSpPr/>
          <p:nvPr/>
        </p:nvSpPr>
        <p:spPr>
          <a:xfrm>
            <a:off x="973080" y="1285920"/>
            <a:ext cx="233280" cy="339840"/>
          </a:xfrm>
          <a:custGeom>
            <a:avLst/>
            <a:gdLst/>
            <a:ahLst/>
            <a:rect l="l" t="t" r="r" b="b"/>
            <a:pathLst>
              <a:path w="646" h="943">
                <a:moveTo>
                  <a:pt x="2704" y="3572"/>
                </a:moveTo>
                <a:cubicBezTo>
                  <a:pt x="2725" y="3634"/>
                  <a:pt x="2704" y="3736"/>
                  <a:pt x="2704" y="3820"/>
                </a:cubicBezTo>
                <a:cubicBezTo>
                  <a:pt x="2704" y="3901"/>
                  <a:pt x="2726" y="3966"/>
                  <a:pt x="2729" y="4043"/>
                </a:cubicBezTo>
                <a:cubicBezTo>
                  <a:pt x="2733" y="4126"/>
                  <a:pt x="2741" y="4189"/>
                  <a:pt x="2753" y="4266"/>
                </a:cubicBezTo>
                <a:cubicBezTo>
                  <a:pt x="2763" y="4328"/>
                  <a:pt x="2775" y="4382"/>
                  <a:pt x="2778" y="4440"/>
                </a:cubicBezTo>
                <a:cubicBezTo>
                  <a:pt x="2782" y="4516"/>
                  <a:pt x="2822" y="4535"/>
                  <a:pt x="2902" y="4514"/>
                </a:cubicBezTo>
                <a:cubicBezTo>
                  <a:pt x="2973" y="4495"/>
                  <a:pt x="3025" y="4490"/>
                  <a:pt x="3101" y="4490"/>
                </a:cubicBezTo>
                <a:cubicBezTo>
                  <a:pt x="3184" y="4490"/>
                  <a:pt x="3266" y="4490"/>
                  <a:pt x="3349" y="44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Ink 25"/>
          <p:cNvSpPr/>
          <p:nvPr/>
        </p:nvSpPr>
        <p:spPr>
          <a:xfrm>
            <a:off x="598320" y="1901880"/>
            <a:ext cx="169920" cy="17928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1984" y="5283"/>
                </a:moveTo>
                <a:cubicBezTo>
                  <a:pt x="1910" y="5294"/>
                  <a:pt x="1919" y="5319"/>
                  <a:pt x="1860" y="5358"/>
                </a:cubicBezTo>
                <a:cubicBezTo>
                  <a:pt x="1797" y="5399"/>
                  <a:pt x="1772" y="5414"/>
                  <a:pt x="1736" y="5482"/>
                </a:cubicBezTo>
                <a:cubicBezTo>
                  <a:pt x="1702" y="5546"/>
                  <a:pt x="1665" y="5579"/>
                  <a:pt x="1662" y="5655"/>
                </a:cubicBezTo>
                <a:cubicBezTo>
                  <a:pt x="1658" y="5748"/>
                  <a:pt x="1687" y="5790"/>
                  <a:pt x="1786" y="5779"/>
                </a:cubicBezTo>
                <a:cubicBezTo>
                  <a:pt x="1908" y="5765"/>
                  <a:pt x="1972" y="5760"/>
                  <a:pt x="2059" y="5680"/>
                </a:cubicBezTo>
                <a:cubicBezTo>
                  <a:pt x="2120" y="5623"/>
                  <a:pt x="2129" y="5592"/>
                  <a:pt x="2133" y="5507"/>
                </a:cubicBezTo>
                <a:cubicBezTo>
                  <a:pt x="2136" y="5445"/>
                  <a:pt x="2100" y="5371"/>
                  <a:pt x="2034" y="5358"/>
                </a:cubicBezTo>
                <a:cubicBezTo>
                  <a:pt x="1968" y="5345"/>
                  <a:pt x="1894" y="5309"/>
                  <a:pt x="1910" y="53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nk 26"/>
          <p:cNvSpPr/>
          <p:nvPr/>
        </p:nvSpPr>
        <p:spPr>
          <a:xfrm>
            <a:off x="965160" y="1751040"/>
            <a:ext cx="123840" cy="338040"/>
          </a:xfrm>
          <a:custGeom>
            <a:avLst/>
            <a:gdLst/>
            <a:ahLst/>
            <a:rect l="l" t="t" r="r" b="b"/>
            <a:pathLst>
              <a:path w="348" h="943">
                <a:moveTo>
                  <a:pt x="3001" y="4862"/>
                </a:moveTo>
                <a:cubicBezTo>
                  <a:pt x="2953" y="4911"/>
                  <a:pt x="2909" y="4950"/>
                  <a:pt x="2877" y="5011"/>
                </a:cubicBezTo>
                <a:cubicBezTo>
                  <a:pt x="2836" y="5089"/>
                  <a:pt x="2791" y="5118"/>
                  <a:pt x="2753" y="5209"/>
                </a:cubicBezTo>
                <a:cubicBezTo>
                  <a:pt x="2685" y="5370"/>
                  <a:pt x="2643" y="5357"/>
                  <a:pt x="2729" y="5581"/>
                </a:cubicBezTo>
                <a:cubicBezTo>
                  <a:pt x="2737" y="5601"/>
                  <a:pt x="2867" y="5725"/>
                  <a:pt x="2877" y="5730"/>
                </a:cubicBezTo>
                <a:cubicBezTo>
                  <a:pt x="2884" y="5733"/>
                  <a:pt x="3021" y="5805"/>
                  <a:pt x="3026" y="5804"/>
                </a:cubicBezTo>
                <a:cubicBezTo>
                  <a:pt x="3026" y="5796"/>
                  <a:pt x="3026" y="5787"/>
                  <a:pt x="3026" y="57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39:54Z</dcterms:created>
  <dc:creator>jnewman</dc:creator>
  <dc:description/>
  <dc:language>en-US</dc:language>
  <cp:lastModifiedBy>abeason</cp:lastModifiedBy>
  <dcterms:modified xsi:type="dcterms:W3CDTF">2010-04-12T14:34:37Z</dcterms:modified>
  <cp:revision>13</cp:revision>
  <dc:subject/>
  <dc:title>Lesson 1.2</dc:title>
</cp:coreProperties>
</file>